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F4184-DB7B-46FE-939C-928AD3098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EC9A6-F513-4FA0-856B-46AC48B72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7A94F-7967-4D83-8F07-7EE439B57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29A0C-04E0-478C-9527-D8AD6ACF6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B3392-FE04-45E4-917F-E113BD32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B6D6-69C3-4022-B93A-46D07EF90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7510-5AB3-48FB-97F8-04F9FE68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CEE33-49FB-412E-B658-E027F240A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E3C1-A857-4488-B3D3-996344585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154AF-62A7-47D6-AB5A-E2DC768E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EE9D-83BF-4959-9B7E-BA2FFF543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6F96-6F48-484F-B5BC-081B05F62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1A6C-56EA-4901-96A9-11AF832EBF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53:41Z</dcterms:modified>
  <cp:revision>14</cp:revision>
  <dc:subject/>
  <dc:title>Presentación de PowerPoint</dc:title>
</cp:coreProperties>
</file>