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40D3C-B67D-4FF4-BDA0-AD6728F34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F0C55-235F-419C-9056-C5BB6526E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7DE46-E538-45B4-B309-67C4548F2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24D41-C29F-4A5A-BF14-F5E07FBC9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88AF2-4510-4FFC-B7FD-371FB2290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A0440-A511-4926-9D80-E81A6CC70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CB6F0-429F-46B2-A7AB-16C46144A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9EEB8-C191-4F17-A33A-779B3A06F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2BFAB-EBCA-49A2-8561-091CA465A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5E17A-CD77-470D-B0D9-8510EFE5D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3DDB5-5622-4728-956F-1474E912C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86F8-0D77-4242-BEC0-5AEC1F80C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525A-8293-497A-B24F-7EB8D3988DF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53:41Z</dcterms:modified>
  <cp:revision>14</cp:revision>
  <dc:subject/>
  <dc:title>Presentación de PowerPoint</dc:title>
</cp:coreProperties>
</file>