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8AE64-E167-4ABF-9B70-E8DDD6EFE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18FB7-2324-482F-8661-61993AF7E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7D165-0DA9-4F90-9D71-307FBFBB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2265A-E653-437D-BFD8-CE041F59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F30D8-F008-4DA3-9268-A0BD2406F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1C57-34DD-4852-8D7B-EA32E3E5F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DAAEB-20DF-44D7-A863-185A2BD1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243F7-39F3-4E78-83F2-3CB3FDBEF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384D7-F0C7-4B32-8CD8-57E1580EF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E47E-61D0-4A20-8336-B0A744A60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433D-A6C9-413B-A0C0-E8A7B511B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C595-0627-4406-B69A-14FA2E7E2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0643-D93B-4EDA-8BB2-4885FDBA362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53:41Z</dcterms:modified>
  <cp:revision>14</cp:revision>
  <dc:subject/>
  <dc:title>Presentación de PowerPoint</dc:title>
</cp:coreProperties>
</file>