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C0D33-58B2-494F-B47D-46BC9F6B1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852E3-037F-45AC-A02B-8DC70217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2E645-430C-4514-ACB8-3DFD9762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8C004-E2FE-4A35-946C-67384C6B5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6748-12B1-41D9-90C0-B5703678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4C4E6-73BF-479D-BCDE-96594044B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C7B2-54D8-4A5E-A5CF-AED5AE4C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699C-CC63-4351-8554-D07D38A1A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99960-C428-47A9-AF49-1D818960F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41AC-D702-4990-9CC7-79D9A0056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96F1C-9298-4508-8279-DEEF4C2AB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0C9F-C6AC-45D2-9662-3D897F67E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C17A-6A9B-4D1E-BE2B-C34E2234B8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26:45Z</dcterms:modified>
  <cp:revision>14</cp:revision>
  <dc:subject/>
  <dc:title>Presentación de PowerPoint</dc:title>
</cp:coreProperties>
</file>