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F6F38-20EB-47DE-B708-B516BB940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970C-EE17-40B1-A86B-141C774EF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ACFA4-0E69-4578-983F-7FA4D66F8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FD1B9-A017-4FF2-A160-A15BE1109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47656-641E-4517-833C-9D49BE0C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185C-F7D8-4DE6-8536-DDA4BC98E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0564A-F67F-49C9-BEA3-E2436E668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082F-781E-48FF-9F80-79A107207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450D-83C2-4F9E-940D-50CBC2FA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D2721-681E-4630-B88D-50874E925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F78B-E9ED-4A34-9D07-1573AEA4C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E116-C8C2-4B2D-95D8-2A511A19B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98F4-19B2-4048-8BC2-CB3FEEA5A86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26:45Z</dcterms:modified>
  <cp:revision>14</cp:revision>
  <dc:subject/>
  <dc:title>Presentación de PowerPoint</dc:title>
</cp:coreProperties>
</file>