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BEBCA-2878-40CB-B983-6D526943E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62D58-9141-442B-B665-BA7DC7311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CF656-AB20-437F-B091-630BD7C2E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FD422-50E4-4D51-8B59-B745D36BF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8BA0A-FAB6-4268-B1E6-7839D5850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3DED8-D1BC-40EA-A050-B4CC981EC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5784E-EF8B-4EC9-BF44-2018F8A5B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DD372-03FA-47A6-8A3B-C8F9741D8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AD458-1DAD-4B24-8E5E-6E901CFA1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325B7-79EA-4053-8993-624AD508A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54E18-0514-4806-9B45-92EBAB021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53F95-28DC-4224-B0EC-EAB104BC8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82FBA-2D8F-4B4D-BAC4-E3D0EA32B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C44C7-DC6B-4E91-A459-430B5049D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859F6-6406-4088-BA18-BF94CC0CF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3D034-D5BE-47F0-8392-63BD65004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12BAE-BDFA-42B1-8AFE-5CCBBD85B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9B334-5E86-486E-A299-660CFCA09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8AA82-1F70-411A-9989-D2BC25344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EE38D-453D-40FA-AEE9-7D62E9394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C8551-D876-487A-AD4A-3CAF9880A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2B820-DAC6-45C4-AF82-382C942DF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5A2E9-336D-4F3D-BE63-EFAE71040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9592A-CCA6-442E-82DD-3B9F110F5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46D54-7228-4629-AB4B-37F9C1BF5A52}" type="slidenum">
              <a:rPr b="0" lang="es-E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3C3CF-CF21-4C86-BE66-FD0CF44F6AA3}" type="slidenum">
              <a:rPr b="0" lang="es-E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692360" y="363600"/>
            <a:ext cx="4895640" cy="64944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11448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1082880" y="729000"/>
            <a:ext cx="7471440" cy="5447880"/>
            <a:chOff x="1082880" y="729000"/>
            <a:chExt cx="7471440" cy="5447880"/>
          </a:xfrm>
        </p:grpSpPr>
        <p:sp>
          <p:nvSpPr>
            <p:cNvPr id="88" name=""/>
            <p:cNvSpPr/>
            <p:nvPr/>
          </p:nvSpPr>
          <p:spPr>
            <a:xfrm>
              <a:off x="1082880" y="729000"/>
              <a:ext cx="7090560" cy="192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REPÚBLICA BOLIVARIANA DE VENEZUEL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MINISTERIO DEL PODER POPULAR PARA LA DEFENS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UNIVERSIDAD NACIONAL EXPERIMENTAL POLITÉCNIC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DE LA FUERZA ARMAD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UNEF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NÚCLEO  MIRAND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447240" y="4437000"/>
              <a:ext cx="210708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Participantes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Castañeda Yorcel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Contreras Nanc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De Lira Marle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Mármol Durlay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Rojas Osmery</a:t>
              </a: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476000" y="3213000"/>
              <a:ext cx="6104520" cy="84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SISTEMA DE APRENDIZAJE AUTOGESTIONAD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ASISTIDO (TRIPLE A</a:t>
              </a: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692360" y="363600"/>
            <a:ext cx="4895640" cy="6494400"/>
          </a:xfrm>
          <a:prstGeom prst="rect">
            <a:avLst/>
          </a:prstGeom>
          <a:ln w="0">
            <a:noFill/>
          </a:ln>
        </p:spPr>
      </p:pic>
      <p:grpSp>
        <p:nvGrpSpPr>
          <p:cNvPr id="143" name=""/>
          <p:cNvGrpSpPr/>
          <p:nvPr/>
        </p:nvGrpSpPr>
        <p:grpSpPr>
          <a:xfrm>
            <a:off x="900000" y="1025640"/>
            <a:ext cx="7417080" cy="3406320"/>
            <a:chOff x="900000" y="1025640"/>
            <a:chExt cx="7417080" cy="3406320"/>
          </a:xfrm>
        </p:grpSpPr>
        <p:sp>
          <p:nvSpPr>
            <p:cNvPr id="144" name=""/>
            <p:cNvSpPr/>
            <p:nvPr/>
          </p:nvSpPr>
          <p:spPr>
            <a:xfrm>
              <a:off x="3160440" y="1025640"/>
              <a:ext cx="2261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VE" sz="3200" spc="-1" strike="noStrike">
                  <a:solidFill>
                    <a:srgbClr val="000000"/>
                  </a:solidFill>
                  <a:latin typeface="Arial"/>
                </a:rPr>
                <a:t>TUTORÍA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900000" y="2205000"/>
              <a:ext cx="7417080" cy="22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VE" sz="2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VE" sz="2800" spc="-1" strike="noStrike">
                  <a:solidFill>
                    <a:srgbClr val="000000"/>
                  </a:solidFill>
                  <a:latin typeface="Arial"/>
                </a:rPr>
                <a:t>Es el nexo interactuante entre la organización general del sistema y los alumnos, e implica la generación de un espacio (virtual o físico) de encuentro entre el tutor y el estudiant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5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979640" y="363600"/>
            <a:ext cx="5040360" cy="649440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4360" y="836640"/>
            <a:ext cx="770400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VE" sz="3200" spc="-1" strike="noStrike">
                <a:solidFill>
                  <a:srgbClr val="000000"/>
                </a:solidFill>
                <a:latin typeface="Arial"/>
              </a:rPr>
              <a:t>TIPOS DE TUTORÍ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258920" y="2205000"/>
            <a:ext cx="691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s-VE" sz="2400" spc="-1" strike="noStrike">
                <a:solidFill>
                  <a:srgbClr val="000000"/>
                </a:solidFill>
                <a:latin typeface="Arial"/>
              </a:rPr>
              <a:t>PRESENCI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403280" y="3357720"/>
            <a:ext cx="31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s-VE" sz="2400" spc="-1" strike="noStrike">
                <a:solidFill>
                  <a:srgbClr val="000000"/>
                </a:solidFill>
                <a:latin typeface="Arial"/>
              </a:rPr>
              <a:t>A DISTA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77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3" dur="770" fill="hold"/>
                                        <p:tgtEl>
                                          <p:spTgt spid="14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55" dur="77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57" dur="77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979640" y="363600"/>
            <a:ext cx="5040360" cy="649440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1692360" y="692280"/>
            <a:ext cx="61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3200" spc="-1" strike="noStrike">
                <a:solidFill>
                  <a:srgbClr val="000000"/>
                </a:solidFill>
                <a:latin typeface="Arial"/>
              </a:rPr>
              <a:t>FUNCIONES DEL TU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11280" y="2349360"/>
            <a:ext cx="784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900000" y="1773360"/>
            <a:ext cx="741708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ar el rendimiento académ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stimular la autogestión y la reflex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entar el aprendiza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stimular el aprendizaje colaborat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ender las necesidades de los estudia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valuar el rendimiento de los alumn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77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6" dur="77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78" dur="77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80" dur="77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8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763640" y="363600"/>
            <a:ext cx="5040360" cy="649440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1116000" y="836640"/>
            <a:ext cx="676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3200" spc="-1" strike="noStrike">
                <a:solidFill>
                  <a:srgbClr val="000000"/>
                </a:solidFill>
                <a:latin typeface="Arial"/>
              </a:rPr>
              <a:t>FORMAS DE TUTORÍ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042920" y="2205000"/>
            <a:ext cx="61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s-VE" sz="2400" spc="-1" strike="noStrike">
                <a:solidFill>
                  <a:srgbClr val="000000"/>
                </a:solidFill>
                <a:latin typeface="Arial"/>
              </a:rPr>
              <a:t>INDIVIDUALES</a:t>
            </a:r>
            <a:r>
              <a:rPr b="1" lang="es-V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116000" y="3213000"/>
            <a:ext cx="33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s-VE" sz="2400" spc="-1" strike="noStrike">
                <a:solidFill>
                  <a:srgbClr val="000000"/>
                </a:solidFill>
                <a:latin typeface="Arial"/>
              </a:rPr>
              <a:t>GRUP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16000" y="4076640"/>
            <a:ext cx="302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VE" sz="2400" spc="-1" strike="noStrike">
                <a:solidFill>
                  <a:srgbClr val="000000"/>
                </a:solidFill>
                <a:latin typeface="Arial"/>
              </a:rPr>
              <a:t>OBLIGATOR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116000" y="4869000"/>
            <a:ext cx="33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VE" sz="2400" spc="-1" strike="noStrike">
                <a:solidFill>
                  <a:srgbClr val="000000"/>
                </a:solidFill>
                <a:latin typeface="Arial"/>
              </a:rPr>
              <a:t>OPTATI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77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9" dur="77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91" dur="77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9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93" dur="77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9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9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4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9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4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763640" y="363600"/>
            <a:ext cx="5040360" cy="649440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1835280" y="765000"/>
            <a:ext cx="504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STEMA TRIPLE A APLICADO AL SEMEST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55640" y="2205000"/>
            <a:ext cx="7704000" cy="21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dalidad Mixt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veer al estudiante Unefista una plataforma de herramientas básicas de aprendizaj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l estudiante aplicará valores, normas académicas y disciplinarias de la universida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763640" y="363600"/>
            <a:ext cx="5040360" cy="6494400"/>
          </a:xfrm>
          <a:prstGeom prst="rect">
            <a:avLst/>
          </a:prstGeom>
          <a:ln w="0">
            <a:noFill/>
          </a:ln>
        </p:spPr>
      </p:pic>
      <p:grpSp>
        <p:nvGrpSpPr>
          <p:cNvPr id="164" name=""/>
          <p:cNvGrpSpPr/>
          <p:nvPr/>
        </p:nvGrpSpPr>
        <p:grpSpPr>
          <a:xfrm>
            <a:off x="179280" y="476280"/>
            <a:ext cx="8498160" cy="5741280"/>
            <a:chOff x="179280" y="476280"/>
            <a:chExt cx="8498160" cy="5741280"/>
          </a:xfrm>
        </p:grpSpPr>
        <p:sp>
          <p:nvSpPr>
            <p:cNvPr id="165" name=""/>
            <p:cNvSpPr/>
            <p:nvPr/>
          </p:nvSpPr>
          <p:spPr>
            <a:xfrm>
              <a:off x="2195640" y="476280"/>
              <a:ext cx="4465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Duración del Semestr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700360" y="1197000"/>
              <a:ext cx="324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rimer Semest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 rot="1857000">
              <a:off x="3132000" y="1628280"/>
              <a:ext cx="405000" cy="503280"/>
            </a:xfrm>
            <a:prstGeom prst="downArrow">
              <a:avLst>
                <a:gd name="adj1" fmla="val 50000"/>
                <a:gd name="adj2" fmla="val 31067"/>
              </a:avLst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rot="19504800">
              <a:off x="5219280" y="1628640"/>
              <a:ext cx="405000" cy="503280"/>
            </a:xfrm>
            <a:prstGeom prst="downArrow">
              <a:avLst>
                <a:gd name="adj1" fmla="val 50000"/>
                <a:gd name="adj2" fmla="val 31067"/>
              </a:avLst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979640" y="2276640"/>
              <a:ext cx="187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eórico-práctico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1818000">
              <a:off x="2484360" y="270720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↓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24000" y="3284640"/>
              <a:ext cx="3673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ctividades de Aprendizaje teóricas-práctic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763640" y="385992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↓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84360" y="4437000"/>
              <a:ext cx="273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esarrollo del estudian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79280" y="5300640"/>
              <a:ext cx="48243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omprensión lectora, reflexión, construcción de su propio aprendizaje, ampliación de conocimientos, aprendizaje colaborativ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763640" y="479664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↓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148360" y="2276640"/>
              <a:ext cx="273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eríodo Febrero-Julio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9743000">
              <a:off x="6587640" y="263592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↓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508720" y="3357720"/>
              <a:ext cx="295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da año académico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732720" y="3715560"/>
              <a:ext cx="35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↓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940360" y="4437000"/>
              <a:ext cx="273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einte (20)seman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763640" y="363600"/>
            <a:ext cx="5040360" cy="6494400"/>
          </a:xfrm>
          <a:prstGeom prst="rect">
            <a:avLst/>
          </a:prstGeom>
          <a:ln w="0">
            <a:noFill/>
          </a:ln>
        </p:spPr>
      </p:pic>
      <p:grpSp>
        <p:nvGrpSpPr>
          <p:cNvPr id="182" name=""/>
          <p:cNvGrpSpPr/>
          <p:nvPr/>
        </p:nvGrpSpPr>
        <p:grpSpPr>
          <a:xfrm>
            <a:off x="611280" y="1557360"/>
            <a:ext cx="7777080" cy="4147560"/>
            <a:chOff x="611280" y="1557360"/>
            <a:chExt cx="7777080" cy="4147560"/>
          </a:xfrm>
        </p:grpSpPr>
        <p:sp>
          <p:nvSpPr>
            <p:cNvPr id="183" name=""/>
            <p:cNvSpPr/>
            <p:nvPr/>
          </p:nvSpPr>
          <p:spPr>
            <a:xfrm>
              <a:off x="611280" y="1557360"/>
              <a:ext cx="7777080" cy="41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El estudiante será capaz de consolidar la aplicación de herramientas de aprendizaj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que le fortalezcan su capacidad de autogestión personal, académica y comunitari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en función de pautas de identidad social, nacional y ciudadanas y reglamentos disciplinarios y normativos de la universida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356000" y="24202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↓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356000" y="400464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↓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124000" y="692280"/>
            <a:ext cx="47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BJETIVO DE APRENDIZA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1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4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7" name=""/>
          <p:cNvGrpSpPr/>
          <p:nvPr/>
        </p:nvGrpSpPr>
        <p:grpSpPr>
          <a:xfrm>
            <a:off x="1332000" y="363600"/>
            <a:ext cx="6335640" cy="6494400"/>
            <a:chOff x="1332000" y="363600"/>
            <a:chExt cx="6335640" cy="6494400"/>
          </a:xfrm>
        </p:grpSpPr>
        <p:pic>
          <p:nvPicPr>
            <p:cNvPr id="188" name="" descr=""/>
            <p:cNvPicPr/>
            <p:nvPr/>
          </p:nvPicPr>
          <p:blipFill>
            <a:blip r:embed="rId1">
              <a:lum bright="70000" contrast="-70000"/>
            </a:blip>
            <a:stretch/>
          </p:blipFill>
          <p:spPr>
            <a:xfrm>
              <a:off x="1763640" y="363600"/>
              <a:ext cx="5040360" cy="649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"/>
            <p:cNvSpPr/>
            <p:nvPr/>
          </p:nvSpPr>
          <p:spPr>
            <a:xfrm>
              <a:off x="1763640" y="404640"/>
              <a:ext cx="5184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EJES DEL CURSO DE INDUCCIÓN UNIVESITARI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987640" y="1413000"/>
              <a:ext cx="273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inco ejes curricula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268360" y="1916280"/>
              <a:ext cx="4175280" cy="203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spcBef>
                  <a:spcPts val="1125"/>
                </a:spcBef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Normativ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spcBef>
                  <a:spcPts val="1125"/>
                </a:spcBef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xiológic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spcBef>
                  <a:spcPts val="1125"/>
                </a:spcBef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strument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spcBef>
                  <a:spcPts val="1125"/>
                </a:spcBef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utogestión-Autoestim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spcBef>
                  <a:spcPts val="1125"/>
                </a:spcBef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ucción al servicio comunitari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763640" y="4292640"/>
              <a:ext cx="56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JE DE INICIACIÓN AL SERVICIO COMUNITARI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332000" y="4941720"/>
              <a:ext cx="633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y de Servicio Comunitario Art. 4, 200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1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763640" y="363600"/>
            <a:ext cx="5040360" cy="6494400"/>
          </a:xfrm>
          <a:prstGeom prst="rect">
            <a:avLst/>
          </a:prstGeom>
          <a:ln w="0">
            <a:noFill/>
          </a:ln>
        </p:spPr>
      </p:pic>
      <p:grpSp>
        <p:nvGrpSpPr>
          <p:cNvPr id="195" name=""/>
          <p:cNvGrpSpPr/>
          <p:nvPr/>
        </p:nvGrpSpPr>
        <p:grpSpPr>
          <a:xfrm>
            <a:off x="1403280" y="476280"/>
            <a:ext cx="6265800" cy="4823280"/>
            <a:chOff x="1403280" y="476280"/>
            <a:chExt cx="6265800" cy="4823280"/>
          </a:xfrm>
        </p:grpSpPr>
        <p:sp>
          <p:nvSpPr>
            <p:cNvPr id="196" name=""/>
            <p:cNvSpPr/>
            <p:nvPr/>
          </p:nvSpPr>
          <p:spPr>
            <a:xfrm>
              <a:off x="1476360" y="476280"/>
              <a:ext cx="6192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CTIVIDADES EXTRACURRICULARES Y COMUNITARI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340000" y="1557360"/>
              <a:ext cx="4535640" cy="255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ctividades Extracurricular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Deportes: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Basebal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Basketball (entre otros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eróbic, Teatro, Música, Grupos de rescatistas, Conservación ambient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403280" y="4437000"/>
              <a:ext cx="6048360" cy="8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ctividades Comunitaria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ontribución del estudiante a su comunidad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80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692360" y="363600"/>
            <a:ext cx="5040360" cy="6494400"/>
          </a:xfrm>
          <a:prstGeom prst="rect">
            <a:avLst/>
          </a:prstGeom>
          <a:ln w="0">
            <a:noFill/>
          </a:ln>
        </p:spPr>
      </p:pic>
      <p:grpSp>
        <p:nvGrpSpPr>
          <p:cNvPr id="200" name=""/>
          <p:cNvGrpSpPr/>
          <p:nvPr/>
        </p:nvGrpSpPr>
        <p:grpSpPr>
          <a:xfrm>
            <a:off x="684360" y="1197000"/>
            <a:ext cx="7772400" cy="3070080"/>
            <a:chOff x="684360" y="1197000"/>
            <a:chExt cx="7772400" cy="3070080"/>
          </a:xfrm>
        </p:grpSpPr>
        <p:sp>
          <p:nvSpPr>
            <p:cNvPr id="201" name=""/>
            <p:cNvSpPr/>
            <p:nvPr/>
          </p:nvSpPr>
          <p:spPr>
            <a:xfrm>
              <a:off x="684360" y="1197000"/>
              <a:ext cx="7772400" cy="146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MATERIAL DIDACTICO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332000" y="3284640"/>
              <a:ext cx="6400800" cy="98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CARACTERISTICAS DEL  MATERIAL DIDÁCTIC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8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692360" y="363600"/>
            <a:ext cx="4895640" cy="64944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395280" y="476280"/>
            <a:ext cx="828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  <a:ea typeface="Arial"/>
              </a:rPr>
              <a:t>SISTEMA DE APRENDIZAJE AUTOGESTIONADO ASISTIDO (TRIPLE 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059280" y="1916280"/>
            <a:ext cx="266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Black"/>
                <a:ea typeface="Arial"/>
              </a:rPr>
              <a:t>Modelo educati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140360" y="1341360"/>
            <a:ext cx="287280" cy="576360"/>
          </a:xfrm>
          <a:prstGeom prst="downArrow">
            <a:avLst>
              <a:gd name="adj1" fmla="val 50000"/>
              <a:gd name="adj2" fmla="val 50157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067280" y="2421000"/>
            <a:ext cx="287280" cy="576360"/>
          </a:xfrm>
          <a:prstGeom prst="downArrow">
            <a:avLst>
              <a:gd name="adj1" fmla="val 50000"/>
              <a:gd name="adj2" fmla="val 50157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627280" y="3141720"/>
            <a:ext cx="352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Black"/>
                <a:ea typeface="Arial"/>
              </a:rPr>
              <a:t>Principios educativ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rot="2170800">
            <a:off x="3014640" y="3703680"/>
            <a:ext cx="289080" cy="576360"/>
          </a:xfrm>
          <a:prstGeom prst="downArrow">
            <a:avLst>
              <a:gd name="adj1" fmla="val 50000"/>
              <a:gd name="adj2" fmla="val 49844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rot="18773400">
            <a:off x="5412600" y="3672360"/>
            <a:ext cx="304920" cy="700200"/>
          </a:xfrm>
          <a:prstGeom prst="downArrow">
            <a:avLst>
              <a:gd name="adj1" fmla="val 35028"/>
              <a:gd name="adj2" fmla="val 106886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95280" y="4653000"/>
            <a:ext cx="32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Black"/>
                <a:ea typeface="Arial"/>
              </a:rPr>
              <a:t>Educación Holíst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859280" y="4673520"/>
            <a:ext cx="34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Black"/>
                <a:ea typeface="Arial"/>
              </a:rPr>
              <a:t>Educación a Distan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763640" y="363600"/>
            <a:ext cx="5040360" cy="649440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457200" y="404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El material didáctico del Sistema de Aprendizaje Autogestionado Asistido se caracteriza  po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258920" y="2276640"/>
            <a:ext cx="66261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403280" y="2060640"/>
            <a:ext cx="6408720" cy="37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buClr>
                <a:srgbClr val="cc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mplir las funciones de motiv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cc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vorecer la autonomía del aprendiza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cc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entar información adecuada, pertinente y actualizad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cc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luir actividades cognitivas divers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8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4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763640" y="363600"/>
            <a:ext cx="5040360" cy="649440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457200" y="1600200"/>
            <a:ext cx="8229600" cy="25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611280" y="765000"/>
            <a:ext cx="7705800" cy="5235840"/>
            <a:chOff x="611280" y="765000"/>
            <a:chExt cx="7705800" cy="5235840"/>
          </a:xfrm>
        </p:grpSpPr>
        <p:sp>
          <p:nvSpPr>
            <p:cNvPr id="210" name=""/>
            <p:cNvSpPr/>
            <p:nvPr/>
          </p:nvSpPr>
          <p:spPr>
            <a:xfrm>
              <a:off x="971640" y="765000"/>
              <a:ext cx="73454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CONFORMACIÓN DEL MATERIAL DIDÁCTICO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116000" y="2349360"/>
              <a:ext cx="6769080" cy="138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9900"/>
                  </a:solidFill>
                  <a:latin typeface="Arial"/>
                </a:rPr>
                <a:t>1.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COMPONENTE IMPRESO DEL MATERIAL DIDÁCTIC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11280" y="4724280"/>
              <a:ext cx="5545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9900"/>
                  </a:solidFill>
                  <a:latin typeface="Arial"/>
                </a:rPr>
                <a:t>2.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COMPONENTE ELECTRÓNIC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3" name="" descr=""/>
            <p:cNvPicPr/>
            <p:nvPr/>
          </p:nvPicPr>
          <p:blipFill>
            <a:blip r:embed="rId2"/>
            <a:stretch/>
          </p:blipFill>
          <p:spPr>
            <a:xfrm>
              <a:off x="6948360" y="2852640"/>
              <a:ext cx="1173240" cy="11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4" name="" descr=""/>
            <p:cNvPicPr/>
            <p:nvPr/>
          </p:nvPicPr>
          <p:blipFill>
            <a:blip r:embed="rId3"/>
            <a:stretch/>
          </p:blipFill>
          <p:spPr>
            <a:xfrm>
              <a:off x="5940360" y="4869000"/>
              <a:ext cx="1108080" cy="11318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3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763640" y="363600"/>
            <a:ext cx="5040360" cy="6494400"/>
          </a:xfrm>
          <a:prstGeom prst="rect">
            <a:avLst/>
          </a:prstGeom>
          <a:ln w="0">
            <a:noFill/>
          </a:ln>
        </p:spPr>
      </p:pic>
      <p:grpSp>
        <p:nvGrpSpPr>
          <p:cNvPr id="216" name=""/>
          <p:cNvGrpSpPr/>
          <p:nvPr/>
        </p:nvGrpSpPr>
        <p:grpSpPr>
          <a:xfrm>
            <a:off x="900000" y="692280"/>
            <a:ext cx="7272360" cy="4677120"/>
            <a:chOff x="900000" y="692280"/>
            <a:chExt cx="7272360" cy="4677120"/>
          </a:xfrm>
        </p:grpSpPr>
        <p:sp>
          <p:nvSpPr>
            <p:cNvPr id="217" name=""/>
            <p:cNvSpPr/>
            <p:nvPr/>
          </p:nvSpPr>
          <p:spPr>
            <a:xfrm>
              <a:off x="900000" y="692280"/>
              <a:ext cx="7056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RECOMENDACIONES PARA LOS ESTUDIANTES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116000" y="2349360"/>
              <a:ext cx="7056360" cy="30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.Ubicar su sección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.Acudir al núcleo de la universidad y solicitar información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. Consultar al profesor dudas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4.Estar atento a las diversas informaciones con respecto al semestre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5.Presentar evaluaciones puntualmente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6.Realizar servicio a la comunidad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763640" y="363600"/>
            <a:ext cx="5040360" cy="649440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941040" y="2708280"/>
            <a:ext cx="736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¿Cómo iniciar el proceso de Aprendizaje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4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763640" y="363600"/>
            <a:ext cx="5040360" cy="649440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908640" y="2916360"/>
            <a:ext cx="748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S SERVICIOS DE APOYO PERMAN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763640" y="363600"/>
            <a:ext cx="5040360" cy="6494400"/>
          </a:xfrm>
          <a:prstGeom prst="rect">
            <a:avLst/>
          </a:prstGeom>
          <a:ln w="0">
            <a:noFill/>
          </a:ln>
        </p:spPr>
      </p:pic>
      <p:grpSp>
        <p:nvGrpSpPr>
          <p:cNvPr id="224" name=""/>
          <p:cNvGrpSpPr/>
          <p:nvPr/>
        </p:nvGrpSpPr>
        <p:grpSpPr>
          <a:xfrm>
            <a:off x="723600" y="692280"/>
            <a:ext cx="8168040" cy="4975560"/>
            <a:chOff x="723600" y="692280"/>
            <a:chExt cx="8168040" cy="4975560"/>
          </a:xfrm>
        </p:grpSpPr>
        <p:sp>
          <p:nvSpPr>
            <p:cNvPr id="225" name=""/>
            <p:cNvSpPr/>
            <p:nvPr/>
          </p:nvSpPr>
          <p:spPr>
            <a:xfrm>
              <a:off x="723600" y="692280"/>
              <a:ext cx="7354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ISTEMA DE APRENDIZAJE AUTOGESTIONADO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SISTID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55640" y="1916280"/>
              <a:ext cx="8136000" cy="375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.  Servicios de acompañamiento en la Autogestión y el estudio Independiente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. Sistema de atención Apoyo y Refuerzo Integral al Estudiantes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. Sistema de comunicación.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4. Ambiente de Aprendizaje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5. Centro de Recursos Didácticas.(Presénciales y Virtuales)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6. Centros de Comunicación, suministros y Logística de materiales. Didácticos.(presénciales y virtuales)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763640" y="363600"/>
            <a:ext cx="5040360" cy="649440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1332000" y="1413000"/>
            <a:ext cx="6337080" cy="34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DICAR AL ESTUDIANTE UNEFIST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e la consideración de las disposiciones del gobierno nacional en materia de educación superior, además de los principios filosóficos particulares de la educación integral, andragógica, y a distancia  continúan sirviendo de sustento para la consolidación del sistema de aprendizaje autogestionado asistido el cual permitió abrirle las puertas al pueblo!!!!!!!!!!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8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692360" y="363600"/>
            <a:ext cx="4895640" cy="64944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1979640" y="692280"/>
            <a:ext cx="64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Black"/>
                <a:ea typeface="Arial"/>
              </a:rPr>
              <a:t>CONCEPCIÓN DE LA EDUCACIÓN</a:t>
            </a:r>
            <a:r>
              <a:rPr b="0" lang="es-ES_tradnl" sz="2000" spc="-1" strike="noStrike">
                <a:solidFill>
                  <a:srgbClr val="000000"/>
                </a:solidFill>
                <a:latin typeface="Arial Black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900000" y="1844640"/>
            <a:ext cx="734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Black"/>
                <a:ea typeface="Arial"/>
              </a:rPr>
              <a:t>*</a:t>
            </a:r>
            <a:r>
              <a:rPr b="0" lang="es-ES_tradnl" sz="2000" spc="-1" strike="noStrike">
                <a:solidFill>
                  <a:srgbClr val="000000"/>
                </a:solidFill>
                <a:latin typeface="Arial Black"/>
                <a:ea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 Black"/>
                <a:ea typeface="Arial"/>
              </a:rPr>
              <a:t>Holistica</a:t>
            </a:r>
            <a:r>
              <a:rPr b="1" lang="es-ES_tradnl" sz="2400" spc="-1" strike="noStrike">
                <a:solidFill>
                  <a:srgbClr val="000000"/>
                </a:solidFill>
                <a:latin typeface="Arial Black"/>
                <a:ea typeface="Arial"/>
              </a:rPr>
              <a:t>                    </a:t>
            </a:r>
            <a:r>
              <a:rPr b="0" lang="es-ES_tradnl" sz="2400" spc="-1" strike="noStrike">
                <a:solidFill>
                  <a:srgbClr val="000000"/>
                </a:solidFill>
                <a:latin typeface="Arial Black"/>
                <a:ea typeface="Arial"/>
              </a:rPr>
              <a:t>desarrollo sustentabe (económico, político y soci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900000" y="3357720"/>
            <a:ext cx="734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Black"/>
                <a:ea typeface="Arial"/>
              </a:rPr>
              <a:t>* Es una educación para la vida y a lo        largo de la vi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900000" y="4941720"/>
            <a:ext cx="72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Black"/>
                <a:ea typeface="Arial"/>
              </a:rPr>
              <a:t>*</a:t>
            </a:r>
            <a:r>
              <a:rPr b="0" lang="es-ES_tradnl" sz="2000" spc="-1" strike="noStrike">
                <a:solidFill>
                  <a:srgbClr val="000000"/>
                </a:solidFill>
                <a:latin typeface="Arial Black"/>
                <a:ea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 Black"/>
                <a:ea typeface="Arial"/>
              </a:rPr>
              <a:t>Crecimiento pers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692360" y="363600"/>
            <a:ext cx="4895640" cy="64944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1403280" y="620640"/>
            <a:ext cx="66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Black"/>
                <a:ea typeface="Arial"/>
              </a:rPr>
              <a:t>PRINCIPIOS DEL SISTEMA TRIPLE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4000" y="1557360"/>
            <a:ext cx="882000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 Black"/>
                <a:ea typeface="Arial"/>
              </a:rPr>
              <a:t>1.Los materiales didácticos atenderán a la concepción de inteligencias múltipl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50920" y="2421000"/>
            <a:ext cx="85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 Black"/>
                <a:ea typeface="Arial"/>
              </a:rPr>
              <a:t>2.Podrá generar posibilidades de aprendizaje (en forma permanente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24000" y="3357720"/>
            <a:ext cx="84247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 Black"/>
                <a:ea typeface="Arial"/>
              </a:rPr>
              <a:t>3.Promover en forma creciente la autonomía de los estudiant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24000" y="4292640"/>
            <a:ext cx="79200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 Black"/>
                <a:ea typeface="Arial"/>
              </a:rPr>
              <a:t>4.No desvincular al estudiante de su context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95280" y="4869000"/>
            <a:ext cx="770580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 Black"/>
                <a:ea typeface="Arial"/>
              </a:rPr>
              <a:t>5.Permitir extender la educación (nacional e internacional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95280" y="5805360"/>
            <a:ext cx="74898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 Black"/>
                <a:ea typeface="Arial"/>
              </a:rPr>
              <a:t>6.No existir trabas para el acceso a la Educació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692360" y="363600"/>
            <a:ext cx="4895640" cy="64944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1763640" y="476280"/>
            <a:ext cx="57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  <a:ea typeface="Arial"/>
              </a:rPr>
              <a:t>CONCEPCION DEL ESTUDIA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900000" y="2133720"/>
            <a:ext cx="19432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Black"/>
                <a:ea typeface="Arial"/>
              </a:rPr>
              <a:t>Aprender a conoc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48360" y="4076640"/>
            <a:ext cx="29527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Black"/>
                <a:ea typeface="Arial"/>
              </a:rPr>
              <a:t>Aprender a hac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80000" y="2276640"/>
            <a:ext cx="27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Black"/>
                <a:ea typeface="Arial"/>
              </a:rPr>
              <a:t>Aprender a s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84360" y="4149720"/>
            <a:ext cx="25192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Black"/>
                <a:ea typeface="Arial"/>
              </a:rPr>
              <a:t>Aprender a convivir junt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692360" y="363600"/>
            <a:ext cx="4895640" cy="64944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2124000" y="981000"/>
            <a:ext cx="46087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  <a:ea typeface="Arial"/>
              </a:rPr>
              <a:t>CONCEPCIÓN DE EDUC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24000" y="2997360"/>
            <a:ext cx="842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oper Black"/>
                <a:ea typeface="Arial"/>
              </a:rPr>
              <a:t>“… </a:t>
            </a:r>
            <a:r>
              <a:rPr b="0" lang="es-ES_tradnl" sz="2400" spc="-1" strike="noStrike">
                <a:solidFill>
                  <a:srgbClr val="000000"/>
                </a:solidFill>
                <a:latin typeface="Cooper Black"/>
                <a:ea typeface="Arial"/>
              </a:rPr>
              <a:t>Es universalizar, abrazar un interés transcultural por el bienestar de todos  sin distinciones de ninguna clase, aprender a honrar la vida en todas sus manifestaciones...”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 (Gallegos,2001,p.v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0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692360" y="363600"/>
            <a:ext cx="4895640" cy="64944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1763640" y="907920"/>
            <a:ext cx="568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276720" y="695160"/>
            <a:ext cx="183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11280" y="2492280"/>
            <a:ext cx="7848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24000" y="620640"/>
            <a:ext cx="845964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STEMA DE APRENDIZAJE AUTOGESTIONADO Y ASISTI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 APRENDIZA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68360" y="285264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cibe el aprendizaje para toda la vi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95280" y="4437000"/>
            <a:ext cx="756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cibe al estudiante como un sistema abier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95280" y="3645000"/>
            <a:ext cx="84247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7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Acepta que el ser humano aprende con todo el cerebro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68360" y="5229360"/>
            <a:ext cx="80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menta la autonomía y el estudio independi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7" dur="8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8" dur="8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9" dur="8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4" dur="8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5" dur="8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6" dur="8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1" dur="8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2" dur="8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3" dur="8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8" dur="8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9" dur="8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0" dur="8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5" dur="8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6" dur="8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7" dur="8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835280" y="363600"/>
            <a:ext cx="4895640" cy="64944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900000" y="1052640"/>
            <a:ext cx="655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CESO DE APRENDIZA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84360" y="2060640"/>
            <a:ext cx="770544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 realiza a través del Dialogo Didáctico Real y  puede realizarse a través de 3 modalidad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55640" y="3429000"/>
            <a:ext cx="691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unidades de aprendiza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84360" y="4292640"/>
            <a:ext cx="540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84360" y="4149720"/>
            <a:ext cx="6192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utorí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55640" y="4869000"/>
            <a:ext cx="43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vidades electróni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4" dur="8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5" dur="8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6" dur="8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1" dur="8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2" dur="8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3" dur="8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8" dur="8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9" dur="8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0" dur="8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5" dur="8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6" dur="8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7" dur="8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2" dur="8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3" dur="8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4" dur="8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692360" y="363600"/>
            <a:ext cx="4895640" cy="64944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1116000" y="981000"/>
            <a:ext cx="712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UNIDAD DE APRENDIZA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84360" y="2349360"/>
            <a:ext cx="7561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n espacios tanto físicos como virtuales en el cual estudiantes, profesores, administradores y miembro de la comunidad en general, se interconectan en una red de relaciones, para trabajar juntos y facilitar el aprendizaje del estudia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6" dur="8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7" dur="8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8" dur="8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8T21:28:36Z</dcterms:created>
  <dc:creator>Meky Convit</dc:creator>
  <dc:description/>
  <dc:language>en-US</dc:language>
  <cp:lastModifiedBy>Juan Manuel</cp:lastModifiedBy>
  <dcterms:modified xsi:type="dcterms:W3CDTF">2007-07-03T12:10:06Z</dcterms:modified>
  <cp:revision>9</cp:revision>
  <dc:subject/>
  <dc:title>Diapositiva 1</dc:title>
</cp:coreProperties>
</file>