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7F8-1973-456E-8FFC-8D23031D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024-EC5E-4BF7-8426-382D38DD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C52-F471-499C-8D2B-8DFF6A48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E55-D6C9-4231-AFBB-3FE50D99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58BD-F189-4D90-B6ED-3FA47632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252D-08FF-4A93-BA01-D02CAD29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5EC1-AB06-40E0-953C-CE88BC8A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978B-9841-4FD5-B924-DB365352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2D8-E8EB-4C74-84C4-AA88F39F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2E26-422D-4C1D-A44A-3112D0E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7CBA-106F-48BC-B157-BFF01CE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61D-8E99-4462-8ECB-A3CCFC3D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068-99CA-4862-BAC7-132E34BB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2C5A-0877-4C81-B8A8-413D27BD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62DB-2831-4FE5-A643-2DC2D878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1A83-0E84-4D2B-96E6-12085BC5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0336-FBF6-4D3D-9ED3-4EC55B93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628-A010-42C8-86FD-2BBAE70C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449-14C0-4FFF-B5B7-9F3F1616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AA8-3CD0-4783-BBDB-91FAB8F9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2F8-F0D4-4D13-94B1-DAABB2BD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A74-E895-4AA5-894F-A2AF71A3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756-3833-43FB-9533-D1740C9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92A-E278-4184-B171-CC5A03D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0780-F9A2-4B81-8CB5-8BC830E8ADD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23A-442F-4DB3-B9D6-8E8004700E9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82880" y="729000"/>
            <a:ext cx="7471440" cy="5447880"/>
            <a:chOff x="1082880" y="729000"/>
            <a:chExt cx="7471440" cy="5447880"/>
          </a:xfrm>
        </p:grpSpPr>
        <p:sp>
          <p:nvSpPr>
            <p:cNvPr id="88" name=""/>
            <p:cNvSpPr/>
            <p:nvPr/>
          </p:nvSpPr>
          <p:spPr>
            <a:xfrm>
              <a:off x="1082880" y="729000"/>
              <a:ext cx="70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ÚBLICA BOLIVARIANA DE VENEZUE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STERIO DEL PODER POPULAR PARA LA DEFEN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 NACIONAL EXPERIMENTAL POLITÉ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FUERZA ARM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EF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ÚCLEO 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7240" y="4437000"/>
              <a:ext cx="210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stañeda Yorc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reras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Lira Marl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ármol Durla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jas Osmery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6000" y="3213000"/>
              <a:ext cx="61045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ISTEMA DE APRENDIZAJE AUTOGESTION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SISTIDO (TRIPLE 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900000" y="1025640"/>
            <a:ext cx="7417080" cy="3406320"/>
            <a:chOff x="900000" y="1025640"/>
            <a:chExt cx="7417080" cy="3406320"/>
          </a:xfrm>
        </p:grpSpPr>
        <p:sp>
          <p:nvSpPr>
            <p:cNvPr id="144" name=""/>
            <p:cNvSpPr/>
            <p:nvPr/>
          </p:nvSpPr>
          <p:spPr>
            <a:xfrm>
              <a:off x="3160440" y="1025640"/>
              <a:ext cx="22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200" spc="-1" strike="noStrike">
                  <a:solidFill>
                    <a:srgbClr val="000000"/>
                  </a:solidFill>
                  <a:latin typeface="Arial"/>
                </a:rPr>
                <a:t>TUTOR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205000"/>
              <a:ext cx="7417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Es el nexo interactuante entre la organización general del sistema y los alumnos, e implica la generación de un espacio (virtual o físico) de encuentro entre el tutor y el estudia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836640"/>
            <a:ext cx="77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TIPO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3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 DI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692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UNCIONES DEL T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349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77336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r el rendimien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la autogestión y la re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r 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el aprendizaj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er las necesidades de los estud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r el rendimiento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83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ORMA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20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GRU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86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P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35280" y="76500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TRIPLE A APLICADO AL SEM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205000"/>
            <a:ext cx="7704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dad Mix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er al estudiante Unefista una plataforma de herramientas básicas de aprendiz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studiante aplicará valores, normas académicas y disciplinarias de la uni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476280"/>
            <a:ext cx="8498160" cy="5741280"/>
            <a:chOff x="179280" y="476280"/>
            <a:chExt cx="8498160" cy="5741280"/>
          </a:xfrm>
        </p:grpSpPr>
        <p:sp>
          <p:nvSpPr>
            <p:cNvPr id="165" name=""/>
            <p:cNvSpPr/>
            <p:nvPr/>
          </p:nvSpPr>
          <p:spPr>
            <a:xfrm>
              <a:off x="2195640" y="476280"/>
              <a:ext cx="44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uración del Seme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mer Sem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57000">
              <a:off x="3132000" y="162828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504800">
              <a:off x="5219280" y="162864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9640" y="2276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órico-prác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8000">
              <a:off x="2484360" y="270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28464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dades de Aprendizaje teóricas-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85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443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estudi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280" y="5300640"/>
              <a:ext cx="48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nsión lectora, reflexión, construcción de su propio aprendizaje, ampliación de conocimientos, aprendizaje colabo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4796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836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íodo Febrero-Ju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43000">
              <a:off x="658764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3357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da año acadé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37155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360" y="443700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inte (20)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11280" y="1557360"/>
            <a:ext cx="7777080" cy="4147560"/>
            <a:chOff x="611280" y="1557360"/>
            <a:chExt cx="7777080" cy="4147560"/>
          </a:xfrm>
        </p:grpSpPr>
        <p:sp>
          <p:nvSpPr>
            <p:cNvPr id="183" name=""/>
            <p:cNvSpPr/>
            <p:nvPr/>
          </p:nvSpPr>
          <p:spPr>
            <a:xfrm>
              <a:off x="611280" y="1557360"/>
              <a:ext cx="7777080" cy="41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 estudiante será capaz de consolidar la aplicación de herramientas de 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 le fortalezcan su capacidad de autogestión personal, académica y comun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función de pautas de identidad social, nacional y ciudadanas y reglamentos disciplinarios y normativos de la univer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242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400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4000" y="6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332000" y="363600"/>
            <a:ext cx="6335640" cy="6494400"/>
            <a:chOff x="1332000" y="363600"/>
            <a:chExt cx="6335640" cy="6494400"/>
          </a:xfrm>
        </p:grpSpPr>
        <p:pic>
          <p:nvPicPr>
            <p:cNvPr id="1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763640" y="363600"/>
              <a:ext cx="5040360" cy="64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63640" y="404640"/>
              <a:ext cx="51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JES DEL CURSO DE INDUCCIÓN UNIVE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7640" y="141300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nco ejes curri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1916280"/>
              <a:ext cx="4175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m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gestión-Autoest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c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3640" y="429264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JE DE INICIA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494172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y de Servicio Comunitario Art. 4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03280" y="476280"/>
            <a:ext cx="6265800" cy="4823280"/>
            <a:chOff x="1403280" y="476280"/>
            <a:chExt cx="6265800" cy="4823280"/>
          </a:xfrm>
        </p:grpSpPr>
        <p:sp>
          <p:nvSpPr>
            <p:cNvPr id="196" name=""/>
            <p:cNvSpPr/>
            <p:nvPr/>
          </p:nvSpPr>
          <p:spPr>
            <a:xfrm>
              <a:off x="1476360" y="476280"/>
              <a:ext cx="61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IDADES EXTRACURRICULARES Y COMUNIT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1557360"/>
              <a:ext cx="453564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Extracurri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rtes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ketball (entre otr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eróbic, Teatro, Música, Grupos de rescatistas, Conservación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4437000"/>
              <a:ext cx="604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Comunitar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ibución del estudiante a su 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84360" y="1197000"/>
            <a:ext cx="7772400" cy="3070080"/>
            <a:chOff x="684360" y="1197000"/>
            <a:chExt cx="7772400" cy="3070080"/>
          </a:xfrm>
        </p:grpSpPr>
        <p:sp>
          <p:nvSpPr>
            <p:cNvPr id="201" name=""/>
            <p:cNvSpPr/>
            <p:nvPr/>
          </p:nvSpPr>
          <p:spPr>
            <a:xfrm>
              <a:off x="684360" y="119700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TERIAL DIDA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3284640"/>
              <a:ext cx="64008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ACTERISTICAS DEL  MATERIAL DIDÁCT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APRENDIZAJE AUTOGESTIONADO ASISTIDO (TRIPL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191628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Model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341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42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1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70800">
            <a:off x="3014640" y="37036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773400">
            <a:off x="5412600" y="3672360"/>
            <a:ext cx="304920" cy="700200"/>
          </a:xfrm>
          <a:prstGeom prst="downArrow">
            <a:avLst>
              <a:gd name="adj1" fmla="val 35028"/>
              <a:gd name="adj2" fmla="val 10688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Hol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6735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aterial didáctico del Sistema de Aprendizaje Autogestionado Asistido se caracteriza 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27664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2060640"/>
            <a:ext cx="640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r las funciones de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ecer la autonomía del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r información adecuada, pertinente y actu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ir actividades cognitivas diver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160020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765000"/>
            <a:ext cx="7705800" cy="5235840"/>
            <a:chOff x="611280" y="765000"/>
            <a:chExt cx="7705800" cy="5235840"/>
          </a:xfrm>
        </p:grpSpPr>
        <p:sp>
          <p:nvSpPr>
            <p:cNvPr id="210" name=""/>
            <p:cNvSpPr/>
            <p:nvPr/>
          </p:nvSpPr>
          <p:spPr>
            <a:xfrm>
              <a:off x="971640" y="765000"/>
              <a:ext cx="734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ORMACIÓN DEL MATERIAL DIDÁ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6000" y="234936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IMPRESO DEL MATERIAL DIDÁC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47242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ELECTRÓ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948360" y="2852640"/>
              <a:ext cx="11732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940360" y="4869000"/>
              <a:ext cx="110808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0000" y="692280"/>
            <a:ext cx="7272360" cy="4677120"/>
            <a:chOff x="900000" y="692280"/>
            <a:chExt cx="7272360" cy="4677120"/>
          </a:xfrm>
        </p:grpSpPr>
        <p:sp>
          <p:nvSpPr>
            <p:cNvPr id="217" name=""/>
            <p:cNvSpPr/>
            <p:nvPr/>
          </p:nvSpPr>
          <p:spPr>
            <a:xfrm>
              <a:off x="900000" y="692280"/>
              <a:ext cx="705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MENDACIONES PARA LOS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16000" y="234936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Ubicar su sec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Acudir al núcleo de la universidad y solicitar inform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nsultar al profesor du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Estar atento a las diversas informaciones con respecto al semest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Presentar evaluaciones puntualm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Realizar servicio a la comunid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1040" y="270828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Cómo iniciar el proceso de Aprendizaj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08640" y="2916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SERVICIOS DE APOY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23600" y="692280"/>
            <a:ext cx="8168040" cy="4975560"/>
            <a:chOff x="723600" y="692280"/>
            <a:chExt cx="8168040" cy="4975560"/>
          </a:xfrm>
        </p:grpSpPr>
        <p:sp>
          <p:nvSpPr>
            <p:cNvPr id="225" name=""/>
            <p:cNvSpPr/>
            <p:nvPr/>
          </p:nvSpPr>
          <p:spPr>
            <a:xfrm>
              <a:off x="723600" y="692280"/>
              <a:ext cx="73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DE APRENDIZAJE AUTOGESTIONAD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S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640" y="1916280"/>
              <a:ext cx="8136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Servicios de acompañamiento en la Autogestión y el estudio Independi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istema de atención Apoyo y Refuerzo Integral al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istema de comunica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Ambiente de Aprendizaj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entro de Recursos Didáctica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 Centros de Comunicación, suministros y Logística de materiales. Didáctico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413000"/>
            <a:ext cx="6337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R AL ESTUDIANTE UNEFI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onsideración de las disposiciones del gobierno nacional en materia de educación superior, además de los principios filosóficos particulares de la educación integral, andragógica, y a distancia  continúan sirviendo de sustento para la consolidación del sistema de aprendizaje autogestionado asistido el cual permitió abrirle las puertas al pueblo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CEPCIÓN DE LA EDU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Holistic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arrollo sustentabe (económico, político y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3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 Es una educación para la vida y a lo        larg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recimien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DEL SISTEMA TRIP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82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1.Los materiales didácticos atenderán a la concepción de inteligencias múlt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2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2.Podrá generar posibilidades de aprendizaje (en forma perman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57720"/>
            <a:ext cx="84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3.Promover en forma creciente la autonomía de los estudi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92640"/>
            <a:ext cx="792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4.No desvincular al estudiante de su conte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77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5.Permitir extender la educación (nacional e internac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05360"/>
            <a:ext cx="748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6.No existir trabas para el acceso a la Edu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364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ON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943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076640"/>
            <a:ext cx="295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149720"/>
            <a:ext cx="251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vivir 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981000"/>
            <a:ext cx="460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ÓN DE EDU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“… </a:t>
            </a: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Es universalizar, abrazar un interés transcultural por el bienestar de todos  sin distinciones de ninguna clase, aprender a honrar la vida en todas sus manifestaciones...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Gallegos,2001,p.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63640" y="90792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95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84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APRENDIZAJE AUTOGESTIONADO Y ASIS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be el aprendizaje para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43700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ibe al estudiante como un sistema abier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6450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epta que el ser humano aprende con todo el cere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22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menta la autonomía y el estudio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052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060640"/>
            <a:ext cx="770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aliza a través del Dialogo Didáctico Real y  puede realizarse a través de 3 mod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e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29264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dades 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981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espacios tanto físicos como virtuales en el cual estudiantes, profesores, administradores y miembro de la comunidad en general, se interconectan en una red de relaciones, para trabajar juntos y facilitar el aprendizaje del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21:28:36Z</dcterms:created>
  <dc:creator>Meky Convit</dc:creator>
  <dc:description/>
  <dc:language>en-US</dc:language>
  <cp:lastModifiedBy>Juan Manuel</cp:lastModifiedBy>
  <dcterms:modified xsi:type="dcterms:W3CDTF">2007-07-03T12:10:06Z</dcterms:modified>
  <cp:revision>9</cp:revision>
  <dc:subject/>
  <dc:title>Diapositiva 1</dc:title>
</cp:coreProperties>
</file>