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351-7F6E-4BDC-B74E-F5D9CF7B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4EF5-41EE-460F-B007-5D2BB040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EDF-1859-4570-AD1F-D5393826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76A-D8D9-4B89-99B2-B864AEAE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43A1-93C0-4914-935A-03702887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2701-24AB-4CDE-B997-CE3CDB97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A39E-2CA8-432C-9AD1-32109AA5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049D-5E68-4027-AE1E-DBF1A2C3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EB35-238F-4279-8F62-092CFF6F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2363-1D9A-4707-99EE-BAA0703E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50A3-A7CC-46DB-94FE-1949F558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482-CFFF-4AB2-9175-ECED13AD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B39A-CCAC-4F83-A59A-A6DEFA09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D8AF-DCF2-4640-A3E1-E4EFC9E3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9F16-7584-4A66-B4E0-878A8A34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CD68-545F-4B63-8581-0E6F58D9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560A-D27F-433B-AFC9-FF3F1C6E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701-ED53-47C1-B9A7-B207CC77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D9E-D191-4027-90D8-5E9B939D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237-BEBA-4C48-9FDD-000BEBF7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F7D-0FA4-4945-B1DA-9ABF029A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028-02CA-4BC0-847C-3F550B78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1505-178A-4078-98F1-69AE40A8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255-7DF5-4E9A-B476-EC73AD2F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CDF9-7DEC-4144-9696-4C798993EBB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062F-752D-4509-A88E-C134F400A75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82880" y="729000"/>
            <a:ext cx="7471440" cy="5447880"/>
            <a:chOff x="1082880" y="729000"/>
            <a:chExt cx="7471440" cy="5447880"/>
          </a:xfrm>
        </p:grpSpPr>
        <p:sp>
          <p:nvSpPr>
            <p:cNvPr id="88" name=""/>
            <p:cNvSpPr/>
            <p:nvPr/>
          </p:nvSpPr>
          <p:spPr>
            <a:xfrm>
              <a:off x="1082880" y="729000"/>
              <a:ext cx="7090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PÚBLICA BOLIVARIANA DE VENEZUE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INISTERIO DEL PODER POPULAR PARA LA DEFEN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IVERSIDAD NACIONAL EXPERIMENTAL POLITÉCN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 LA FUERZA ARMA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EF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ÚCLEO  MIRAN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47240" y="4437000"/>
              <a:ext cx="2107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articipant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astañeda Yorce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ntreras Na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 Lira Marl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ármol Durlay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ojas Osmery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76000" y="3213000"/>
              <a:ext cx="610452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ISTEMA DE APRENDIZAJE AUTOGESTION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SISTIDO (TRIPLE A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900000" y="1025640"/>
            <a:ext cx="7417080" cy="3406320"/>
            <a:chOff x="900000" y="1025640"/>
            <a:chExt cx="7417080" cy="3406320"/>
          </a:xfrm>
        </p:grpSpPr>
        <p:sp>
          <p:nvSpPr>
            <p:cNvPr id="144" name=""/>
            <p:cNvSpPr/>
            <p:nvPr/>
          </p:nvSpPr>
          <p:spPr>
            <a:xfrm>
              <a:off x="3160440" y="1025640"/>
              <a:ext cx="22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3200" spc="-1" strike="noStrike">
                  <a:solidFill>
                    <a:srgbClr val="000000"/>
                  </a:solidFill>
                  <a:latin typeface="Arial"/>
                </a:rPr>
                <a:t>TUTORÍ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0000" y="2205000"/>
              <a:ext cx="74170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VE" sz="2800" spc="-1" strike="noStrike">
                  <a:solidFill>
                    <a:srgbClr val="000000"/>
                  </a:solidFill>
                  <a:latin typeface="Arial"/>
                </a:rPr>
                <a:t>Es el nexo interactuante entre la organización general del sistema y los alumnos, e implica la generación de un espacio (virtual o físico) de encuentro entre el tutor y el estudian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79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4360" y="836640"/>
            <a:ext cx="770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TIPOS DE TUT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2205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PRESEN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3357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A DIS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79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2360" y="692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FUNCIONES DEL T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2349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773360"/>
            <a:ext cx="7417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ar el rendimient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ular la autogestión y la reflex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r el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ular el aprendizaje colabo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ender las necesidades de los estud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r el rendimiento de los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16000" y="836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FORMAS DE TUT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2205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INDIVIDUALES</a:t>
            </a: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321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GRU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407664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OBLIG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4869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OP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835280" y="76500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TRIPLE A APLICADO AL SEME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2205000"/>
            <a:ext cx="770400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alidad Mix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er al estudiante Unefista una plataforma de herramientas básicas de aprendiza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 estudiante aplicará valores, normas académicas y disciplinarias de la univers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79280" y="476280"/>
            <a:ext cx="8498160" cy="5741280"/>
            <a:chOff x="179280" y="476280"/>
            <a:chExt cx="8498160" cy="5741280"/>
          </a:xfrm>
        </p:grpSpPr>
        <p:sp>
          <p:nvSpPr>
            <p:cNvPr id="165" name=""/>
            <p:cNvSpPr/>
            <p:nvPr/>
          </p:nvSpPr>
          <p:spPr>
            <a:xfrm>
              <a:off x="2195640" y="476280"/>
              <a:ext cx="446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uración del Semest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00360" y="1197000"/>
              <a:ext cx="32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mer Sem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857000">
              <a:off x="3132000" y="1628280"/>
              <a:ext cx="405000" cy="503280"/>
            </a:xfrm>
            <a:prstGeom prst="downArrow">
              <a:avLst>
                <a:gd name="adj1" fmla="val 50000"/>
                <a:gd name="adj2" fmla="val 310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9504800">
              <a:off x="5219280" y="1628640"/>
              <a:ext cx="405000" cy="503280"/>
            </a:xfrm>
            <a:prstGeom prst="downArrow">
              <a:avLst>
                <a:gd name="adj1" fmla="val 50000"/>
                <a:gd name="adj2" fmla="val 310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79640" y="227664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órico-prác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818000">
              <a:off x="2484360" y="2707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4000" y="3284640"/>
              <a:ext cx="36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idades de Aprendizaje teóricas-prác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63640" y="3859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443700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arrollo del estudi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9280" y="5300640"/>
              <a:ext cx="482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rensión lectora, reflexión, construcción de su propio aprendizaje, ampliación de conocimientos, aprendizaje colabo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63640" y="4796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48360" y="22766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íodo Febrero-Juli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9743000">
              <a:off x="6587640" y="2635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08720" y="335772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da año académ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371556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40360" y="4437000"/>
              <a:ext cx="27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inte (20)sema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611280" y="1557360"/>
            <a:ext cx="7777080" cy="4147560"/>
            <a:chOff x="611280" y="1557360"/>
            <a:chExt cx="7777080" cy="4147560"/>
          </a:xfrm>
        </p:grpSpPr>
        <p:sp>
          <p:nvSpPr>
            <p:cNvPr id="183" name=""/>
            <p:cNvSpPr/>
            <p:nvPr/>
          </p:nvSpPr>
          <p:spPr>
            <a:xfrm>
              <a:off x="611280" y="1557360"/>
              <a:ext cx="7777080" cy="41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l estudiante será capaz de consolidar la aplicación de herramientas de aprendiza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e le fortalezcan su capacidad de autogestión personal, académica y comunita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función de pautas de identidad social, nacional y ciudadanas y reglamentos disciplinarios y normativos de la univer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56000" y="242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56000" y="4004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124000" y="6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IVO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332000" y="363600"/>
            <a:ext cx="6335640" cy="6494400"/>
            <a:chOff x="1332000" y="363600"/>
            <a:chExt cx="6335640" cy="6494400"/>
          </a:xfrm>
        </p:grpSpPr>
        <p:pic>
          <p:nvPicPr>
            <p:cNvPr id="188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1763640" y="363600"/>
              <a:ext cx="5040360" cy="64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763640" y="404640"/>
              <a:ext cx="518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JES DEL CURSO DE INDUCCIÓN UNIVESITA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87640" y="141300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inco ejes curricul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68360" y="1916280"/>
              <a:ext cx="41752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rm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xioló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rumen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ogestión-Autoest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ucción al servicio comunit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63640" y="4292640"/>
              <a:ext cx="56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JE DE INICIACIÓN AL SERVICIO COMUNIT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32000" y="4941720"/>
              <a:ext cx="63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y de Servicio Comunitario Art. 4, 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403280" y="476280"/>
            <a:ext cx="6265800" cy="4823280"/>
            <a:chOff x="1403280" y="476280"/>
            <a:chExt cx="6265800" cy="4823280"/>
          </a:xfrm>
        </p:grpSpPr>
        <p:sp>
          <p:nvSpPr>
            <p:cNvPr id="196" name=""/>
            <p:cNvSpPr/>
            <p:nvPr/>
          </p:nvSpPr>
          <p:spPr>
            <a:xfrm>
              <a:off x="1476360" y="476280"/>
              <a:ext cx="619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VIDADES EXTRACURRICULARES Y COMUNITAR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40000" y="1557360"/>
              <a:ext cx="4535640" cy="25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dades Extracurricu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portes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seb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sketball (entre otro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eróbic, Teatro, Música, Grupos de rescatistas, Conservación ambi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3280" y="4437000"/>
              <a:ext cx="6048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dades Comunitar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ribución del estudiante a su comunid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684360" y="1197000"/>
            <a:ext cx="7772400" cy="3070080"/>
            <a:chOff x="684360" y="1197000"/>
            <a:chExt cx="7772400" cy="3070080"/>
          </a:xfrm>
        </p:grpSpPr>
        <p:sp>
          <p:nvSpPr>
            <p:cNvPr id="201" name=""/>
            <p:cNvSpPr/>
            <p:nvPr/>
          </p:nvSpPr>
          <p:spPr>
            <a:xfrm>
              <a:off x="684360" y="119700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TERIAL DIDACT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32000" y="3284640"/>
              <a:ext cx="640080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ACTERISTICAS DEL  MATERIAL DIDÁCTI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47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SISTEMA DE APRENDIZAJE AUTOGESTIONADO ASISTIDO (TRIPLE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191628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Modelo educ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134136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242100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3141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Principios educ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170800">
            <a:off x="3014640" y="370368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8773400">
            <a:off x="5412600" y="3672360"/>
            <a:ext cx="304920" cy="700200"/>
          </a:xfrm>
          <a:prstGeom prst="downArrow">
            <a:avLst>
              <a:gd name="adj1" fmla="val 35028"/>
              <a:gd name="adj2" fmla="val 10688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4653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Educación Hol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467352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Educación 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720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l material didáctico del Sistema de Aprendizaje Autogestionado Asistido se caracteriza 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2276640"/>
            <a:ext cx="662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2060640"/>
            <a:ext cx="6408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plir las funciones de 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ecer la autonomía del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r información adecuada, pertinente y actua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ir actividades cognitivas diver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" y="1600200"/>
            <a:ext cx="822960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11280" y="765000"/>
            <a:ext cx="7705800" cy="5235840"/>
            <a:chOff x="611280" y="765000"/>
            <a:chExt cx="7705800" cy="5235840"/>
          </a:xfrm>
        </p:grpSpPr>
        <p:sp>
          <p:nvSpPr>
            <p:cNvPr id="210" name=""/>
            <p:cNvSpPr/>
            <p:nvPr/>
          </p:nvSpPr>
          <p:spPr>
            <a:xfrm>
              <a:off x="971640" y="765000"/>
              <a:ext cx="7345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NFORMACIÓN DEL MATERIAL DIDÁCT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16000" y="2349360"/>
              <a:ext cx="67690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1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MPONENTE IMPRESO DEL MATERIAL DIDÁC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280" y="4724280"/>
              <a:ext cx="55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2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MPONENTE ELECTRÓN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6948360" y="2852640"/>
              <a:ext cx="117324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5940360" y="4869000"/>
              <a:ext cx="1108080" cy="11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900000" y="692280"/>
            <a:ext cx="7272360" cy="4677120"/>
            <a:chOff x="900000" y="692280"/>
            <a:chExt cx="7272360" cy="4677120"/>
          </a:xfrm>
        </p:grpSpPr>
        <p:sp>
          <p:nvSpPr>
            <p:cNvPr id="217" name=""/>
            <p:cNvSpPr/>
            <p:nvPr/>
          </p:nvSpPr>
          <p:spPr>
            <a:xfrm>
              <a:off x="900000" y="692280"/>
              <a:ext cx="705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OMENDACIONES PARA LOS ESTUDIANT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16000" y="2349360"/>
              <a:ext cx="7056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Ubicar su sec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Acudir al núcleo de la universidad y solicitar informa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onsultar al profesor duda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Estar atento a las diversas informaciones con respecto al semestr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Presentar evaluaciones puntualmen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.Realizar servicio a la comunida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41040" y="2708280"/>
            <a:ext cx="736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Cómo iniciar el proceso de Aprendizaj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08640" y="29163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SERVICIOS DE APOY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723600" y="692280"/>
            <a:ext cx="8168040" cy="4975560"/>
            <a:chOff x="723600" y="692280"/>
            <a:chExt cx="8168040" cy="4975560"/>
          </a:xfrm>
        </p:grpSpPr>
        <p:sp>
          <p:nvSpPr>
            <p:cNvPr id="225" name=""/>
            <p:cNvSpPr/>
            <p:nvPr/>
          </p:nvSpPr>
          <p:spPr>
            <a:xfrm>
              <a:off x="723600" y="692280"/>
              <a:ext cx="735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STEMA DE APRENDIZAJE AUTOGESTIONAD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ISTI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5640" y="1916280"/>
              <a:ext cx="81360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 Servicios de acompañamiento en la Autogestión y el estudio Independien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Sistema de atención Apoyo y Refuerzo Integral al Estudiant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Sistema de comunicación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Ambiente de Aprendizaj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 Centro de Recursos Didácticas.(Presénciales y Virtuale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. Centros de Comunicación, suministros y Logística de materiales. Didácticos.(presénciales y virtuale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332000" y="1413000"/>
            <a:ext cx="633708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R AL ESTUDIANTE UNEFI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la consideración de las disposiciones del gobierno nacional en materia de educación superior, además de los principios filosóficos particulares de la educación integral, andragógica, y a distancia  continúan sirviendo de sustento para la consolidación del sistema de aprendizaje autogestionado asistido el cual permitió abrirle las puertas al pueblo!!!!!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79640" y="692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NCEPCIÓN DE LA EDUC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84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Holistica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desarrollo sustentabe (económico, político y so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33577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 Es una educación para la vida y a lo        larg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49417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Crecimiento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0328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INCIPIOS DEL SISTEMA TRIPL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557360"/>
            <a:ext cx="8820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1.Los materiales didácticos atenderán a la concepción de inteligencias múlt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42100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2.Podrá generar posibilidades de aprendizaje (en forma perman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357720"/>
            <a:ext cx="8424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3.Promover en forma creciente la autonomía de los estudi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292640"/>
            <a:ext cx="792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4.No desvincular al estudiante de su contex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869000"/>
            <a:ext cx="77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5.Permitir extender la educación (nacional e internaciona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805360"/>
            <a:ext cx="7489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6.No existir trabas para el acceso a la Educ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63640" y="476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NCEPCION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133720"/>
            <a:ext cx="1943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cono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4076640"/>
            <a:ext cx="295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h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4149720"/>
            <a:ext cx="2519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convivir ju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124000" y="981000"/>
            <a:ext cx="460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NCEPCIÓN DE EDU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997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oper Black"/>
                <a:ea typeface="Arial"/>
              </a:rPr>
              <a:t>“… </a:t>
            </a:r>
            <a:r>
              <a:rPr b="0" lang="es-ES_tradnl" sz="2400" spc="-1" strike="noStrike">
                <a:solidFill>
                  <a:srgbClr val="000000"/>
                </a:solidFill>
                <a:latin typeface="Cooper Black"/>
                <a:ea typeface="Arial"/>
              </a:rPr>
              <a:t>Es universalizar, abrazar un interés transcultural por el bienestar de todos  sin distinciones de ninguna clase, aprender a honrar la vida en todas sus manifestaciones...”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(Gallegos,2001,p.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63640" y="90792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6951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4922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620640"/>
            <a:ext cx="8459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APRENDIZAJE AUTOGESTIONADO Y ASIS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85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ibe el aprendizaje para toda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43700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ibe al estudiante como un sistema abier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3645000"/>
            <a:ext cx="842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cepta que el ser humano aprende con todo el cereb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22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menta la autonomía y el estudio indepen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105264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2060640"/>
            <a:ext cx="7705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realiza a través del Dialogo Didáctico Real y  puede realizarse a través de 3 modal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3429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dades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4292640"/>
            <a:ext cx="54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4149720"/>
            <a:ext cx="61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o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4869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dades electró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16000" y="981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DAD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3493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espacios tanto físicos como virtuales en el cual estudiantes, profesores, administradores y miembro de la comunidad en general, se interconectan en una red de relaciones, para trabajar juntos y facilitar el aprendizaje del estudi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21:28:36Z</dcterms:created>
  <dc:creator>Meky Convit</dc:creator>
  <dc:description/>
  <dc:language>en-US</dc:language>
  <cp:lastModifiedBy>Juan Manuel</cp:lastModifiedBy>
  <dcterms:modified xsi:type="dcterms:W3CDTF">2007-07-03T12:10:06Z</dcterms:modified>
  <cp:revision>9</cp:revision>
  <dc:subject/>
  <dc:title>Diapositiva 1</dc:title>
</cp:coreProperties>
</file>