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0D2-21BE-4F8C-8F03-ADC7583E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AD8-D08E-4722-A074-9C983FA0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DED-672A-482A-BEBD-8D2AFBD0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06E-39FC-4D73-BAFA-452BCD07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6D78-AD9C-4745-BD7D-1FCBB736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8C36-3ECE-45AC-B547-104F20E6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C49C-3821-41B3-82B1-6E68C4D7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9517-89D6-44BA-9E34-C6254BC2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808E-3A19-48E1-BCA7-10ACD60E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7BD9-5A0C-48DB-8E01-23656263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12C2-FE26-4910-914F-00041D5C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3B1-7E2F-4DDD-BD65-85729566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3914-0B7E-4AAB-8FB2-A0B3CF75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9C7F-56E2-400C-A3A8-8486D32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427D-E64F-46C6-9404-4D686F4C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6832-75D2-44F1-B471-CC65DC57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00B9-408D-4FE5-8232-88F736AB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7D2-4D58-411C-92BD-60668B9D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65C-FF43-4225-8334-55B55274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D29-F795-40AD-9E85-44B764B6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920-01A6-47B3-AB86-1EB11EA9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5DF-22B4-427F-BBB1-A0DBE6B5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943-3696-4845-BD41-D9DB7FA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C5B-4B74-498B-A6AD-3FE51CF5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B8F8-8565-42C0-AD21-DA4EB42F6D8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2935-37C7-4BFE-91BD-A464EFFA056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82880" y="729000"/>
            <a:ext cx="7471440" cy="5447880"/>
            <a:chOff x="1082880" y="729000"/>
            <a:chExt cx="7471440" cy="5447880"/>
          </a:xfrm>
        </p:grpSpPr>
        <p:sp>
          <p:nvSpPr>
            <p:cNvPr id="88" name=""/>
            <p:cNvSpPr/>
            <p:nvPr/>
          </p:nvSpPr>
          <p:spPr>
            <a:xfrm>
              <a:off x="1082880" y="729000"/>
              <a:ext cx="7090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PÚBLICA BOLIVARIANA DE VENEZUE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NISTERIO DEL PODER POPULAR PARA LA DEFEN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IVERSIDAD NACIONAL EXPERIMENTAL POLITÉCN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LA FUERZA ARMA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EF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ÚCLEO  MIRAN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7240" y="4437000"/>
              <a:ext cx="210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articipant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astañeda Yorce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treras Na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 Lira Marl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ármol Durlay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ojas Osmery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6000" y="3213000"/>
              <a:ext cx="610452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ISTEMA DE APRENDIZAJE AUTOGESTION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SISTIDO (TRIPLE A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900000" y="1025640"/>
            <a:ext cx="7417080" cy="3406320"/>
            <a:chOff x="900000" y="1025640"/>
            <a:chExt cx="7417080" cy="3406320"/>
          </a:xfrm>
        </p:grpSpPr>
        <p:sp>
          <p:nvSpPr>
            <p:cNvPr id="144" name=""/>
            <p:cNvSpPr/>
            <p:nvPr/>
          </p:nvSpPr>
          <p:spPr>
            <a:xfrm>
              <a:off x="3160440" y="1025640"/>
              <a:ext cx="22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3200" spc="-1" strike="noStrike">
                  <a:solidFill>
                    <a:srgbClr val="000000"/>
                  </a:solidFill>
                  <a:latin typeface="Arial"/>
                </a:rPr>
                <a:t>TUTORÍ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0000" y="2205000"/>
              <a:ext cx="7417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Es el nexo interactuante entre la organización general del sistema y los alumnos, e implica la generación de un espacio (virtual o físico) de encuentro entre el tutor y el estudia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836640"/>
            <a:ext cx="770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TIPO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20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RES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3357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 DIS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692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UNCIONES DEL T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349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773360"/>
            <a:ext cx="741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r el rendimient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la autogestión y la re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r 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el aprendizaje colab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ender las necesidades de los estud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r el rendimiento de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83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ORMA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205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INDIVIDUALES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32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GRU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076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BLIG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869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P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35280" y="76500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TRIPLE A APLICADO AL SEME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205000"/>
            <a:ext cx="77040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alidad Mix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er al estudiante Unefista una plataforma de herramientas básicas de aprendiz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estudiante aplicará valores, normas académicas y disciplinarias de la uni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79280" y="476280"/>
            <a:ext cx="8498160" cy="5741280"/>
            <a:chOff x="179280" y="476280"/>
            <a:chExt cx="8498160" cy="5741280"/>
          </a:xfrm>
        </p:grpSpPr>
        <p:sp>
          <p:nvSpPr>
            <p:cNvPr id="165" name=""/>
            <p:cNvSpPr/>
            <p:nvPr/>
          </p:nvSpPr>
          <p:spPr>
            <a:xfrm>
              <a:off x="2195640" y="476280"/>
              <a:ext cx="44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uración del Semes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0036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mer Sem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57000">
              <a:off x="3132000" y="162828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504800">
              <a:off x="5219280" y="162864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79640" y="227664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órico-prác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18000">
              <a:off x="2484360" y="2707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3284640"/>
              <a:ext cx="36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idades de Aprendizaje teóricas-prác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63640" y="3859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4437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arrollo del estudi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9280" y="5300640"/>
              <a:ext cx="482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rensión lectora, reflexión, construcción de su propio aprendizaje, ampliación de conocimientos, aprendizaje colabo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63640" y="4796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48360" y="2276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íodo Febrero-Jul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743000">
              <a:off x="6587640" y="2635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8720" y="335772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da año académ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371556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0360" y="4437000"/>
              <a:ext cx="27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inte (20)sema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611280" y="1557360"/>
            <a:ext cx="7777080" cy="4147560"/>
            <a:chOff x="611280" y="1557360"/>
            <a:chExt cx="7777080" cy="4147560"/>
          </a:xfrm>
        </p:grpSpPr>
        <p:sp>
          <p:nvSpPr>
            <p:cNvPr id="183" name=""/>
            <p:cNvSpPr/>
            <p:nvPr/>
          </p:nvSpPr>
          <p:spPr>
            <a:xfrm>
              <a:off x="611280" y="1557360"/>
              <a:ext cx="7777080" cy="41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l estudiante será capaz de consolidar la aplicación de herramientas de 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e le fortalezcan su capacidad de autogestión personal, académica y comun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función de pautas de identidad social, nacional y ciudadanas y reglamentos disciplinarios y normativos de la univer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56000" y="242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56000" y="400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24000" y="6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332000" y="363600"/>
            <a:ext cx="6335640" cy="6494400"/>
            <a:chOff x="1332000" y="363600"/>
            <a:chExt cx="6335640" cy="6494400"/>
          </a:xfrm>
        </p:grpSpPr>
        <p:pic>
          <p:nvPicPr>
            <p:cNvPr id="188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763640" y="363600"/>
              <a:ext cx="5040360" cy="64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763640" y="404640"/>
              <a:ext cx="51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JES DEL CURSO DE INDUCCIÓN UNIVES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87640" y="141300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inco ejes curricul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68360" y="1916280"/>
              <a:ext cx="41752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m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xioló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m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ogestión-Autoest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uc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3640" y="429264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JE DE INICIA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2000" y="4941720"/>
              <a:ext cx="63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y de Servicio Comunitario Art. 4, 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403280" y="476280"/>
            <a:ext cx="6265800" cy="4823280"/>
            <a:chOff x="1403280" y="476280"/>
            <a:chExt cx="6265800" cy="4823280"/>
          </a:xfrm>
        </p:grpSpPr>
        <p:sp>
          <p:nvSpPr>
            <p:cNvPr id="196" name=""/>
            <p:cNvSpPr/>
            <p:nvPr/>
          </p:nvSpPr>
          <p:spPr>
            <a:xfrm>
              <a:off x="1476360" y="476280"/>
              <a:ext cx="619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IDADES EXTRACURRICULARES Y COMUNIT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40000" y="1557360"/>
              <a:ext cx="453564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Extracurric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portes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e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ketball (entre otr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eróbic, Teatro, Música, Grupos de rescatistas, Conservación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3280" y="4437000"/>
              <a:ext cx="6048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Comunitar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ribución del estudiante a su comun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84360" y="1197000"/>
            <a:ext cx="7772400" cy="3070080"/>
            <a:chOff x="684360" y="1197000"/>
            <a:chExt cx="7772400" cy="3070080"/>
          </a:xfrm>
        </p:grpSpPr>
        <p:sp>
          <p:nvSpPr>
            <p:cNvPr id="201" name=""/>
            <p:cNvSpPr/>
            <p:nvPr/>
          </p:nvSpPr>
          <p:spPr>
            <a:xfrm>
              <a:off x="684360" y="119700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TERIAL DIDA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32000" y="3284640"/>
              <a:ext cx="640080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ACTERISTICAS DEL  MATERIAL DIDÁCTI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47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ISTEMA DE APRENDIZAJE AUTOGESTIONADO ASISTIDO (TRIPL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191628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Modelo edu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134136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2421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3141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educ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170800">
            <a:off x="3014640" y="370368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8773400">
            <a:off x="5412600" y="3672360"/>
            <a:ext cx="304920" cy="700200"/>
          </a:xfrm>
          <a:prstGeom prst="downArrow">
            <a:avLst>
              <a:gd name="adj1" fmla="val 35028"/>
              <a:gd name="adj2" fmla="val 10688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653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Hol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46735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720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l material didáctico del Sistema de Aprendizaje Autogestionado Asistido se caracteriza 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276640"/>
            <a:ext cx="662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2060640"/>
            <a:ext cx="640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plir las funciones de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ecer la autonomía del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r información adecuada, pertinente y actu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ir actividades cognitivas diver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1600200"/>
            <a:ext cx="82296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11280" y="765000"/>
            <a:ext cx="7705800" cy="5235840"/>
            <a:chOff x="611280" y="765000"/>
            <a:chExt cx="7705800" cy="5235840"/>
          </a:xfrm>
        </p:grpSpPr>
        <p:sp>
          <p:nvSpPr>
            <p:cNvPr id="210" name=""/>
            <p:cNvSpPr/>
            <p:nvPr/>
          </p:nvSpPr>
          <p:spPr>
            <a:xfrm>
              <a:off x="971640" y="765000"/>
              <a:ext cx="734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ORMACIÓN DEL MATERIAL DIDÁ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16000" y="2349360"/>
              <a:ext cx="676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1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IMPRESO DEL MATERIAL DIDÁC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280" y="4724280"/>
              <a:ext cx="55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ELECTRÓN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6948360" y="2852640"/>
              <a:ext cx="11732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5940360" y="4869000"/>
              <a:ext cx="1108080" cy="11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900000" y="692280"/>
            <a:ext cx="7272360" cy="4677120"/>
            <a:chOff x="900000" y="692280"/>
            <a:chExt cx="7272360" cy="4677120"/>
          </a:xfrm>
        </p:grpSpPr>
        <p:sp>
          <p:nvSpPr>
            <p:cNvPr id="217" name=""/>
            <p:cNvSpPr/>
            <p:nvPr/>
          </p:nvSpPr>
          <p:spPr>
            <a:xfrm>
              <a:off x="900000" y="692280"/>
              <a:ext cx="705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OMENDACIONES PARA LOS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16000" y="2349360"/>
              <a:ext cx="7056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Ubicar su sec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Acudir al núcleo de la universidad y solicitar inform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onsultar al profesor dud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Estar atento a las diversas informaciones con respecto al semest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Presentar evaluaciones puntualm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Realizar servicio a la comunida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41040" y="2708280"/>
            <a:ext cx="73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Cómo iniciar el proceso de Aprendizaj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08640" y="2916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SERVICIOS DE APOY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723600" y="692280"/>
            <a:ext cx="8168040" cy="4975560"/>
            <a:chOff x="723600" y="692280"/>
            <a:chExt cx="8168040" cy="4975560"/>
          </a:xfrm>
        </p:grpSpPr>
        <p:sp>
          <p:nvSpPr>
            <p:cNvPr id="225" name=""/>
            <p:cNvSpPr/>
            <p:nvPr/>
          </p:nvSpPr>
          <p:spPr>
            <a:xfrm>
              <a:off x="723600" y="692280"/>
              <a:ext cx="735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STEMA DE APRENDIZAJE AUTOGESTIONAD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IST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5640" y="1916280"/>
              <a:ext cx="8136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Servicios de acompañamiento en la Autogestión y el estudio Independi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Sistema de atención Apoyo y Refuerzo Integral al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Sistema de comunicació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Ambiente de Aprendizaj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 Centro de Recursos Didáctica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 Centros de Comunicación, suministros y Logística de materiales. Didáctico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332000" y="1413000"/>
            <a:ext cx="633708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R AL ESTUDIANTE UNEFI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la consideración de las disposiciones del gobierno nacional en materia de educación superior, además de los principios filosóficos particulares de la educación integral, andragógica, y a distancia  continúan sirviendo de sustento para la consolidación del sistema de aprendizaje autogestionado asistido el cual permitió abrirle las puertas al pueblo!!!!!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79640" y="692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NCEPCIÓN DE LA EDU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84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Holistica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desarrollo sustentabe (económico, político y so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3357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 Es una educación para la vida y a lo        larg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4941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recimiento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DEL SISTEMA TRIPL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8820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1.Los materiales didácticos atenderán a la concepción de inteligencias múlt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421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2.Podrá generar posibilidades de aprendizaje (en forma perman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357720"/>
            <a:ext cx="842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3.Promover en forma creciente la autonomía de los estudi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92640"/>
            <a:ext cx="792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4.No desvincular al estudiante de su conte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869000"/>
            <a:ext cx="77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5.Permitir extender la educación (nacional e internaciona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805360"/>
            <a:ext cx="7489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6.No existir trabas para el acceso a la Educ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63640" y="476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ON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133720"/>
            <a:ext cx="1943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o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076640"/>
            <a:ext cx="295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h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149720"/>
            <a:ext cx="2519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vivir ju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24000" y="981000"/>
            <a:ext cx="460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ÓN DE EDU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“… </a:t>
            </a: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Es universalizar, abrazar un interés transcultural por el bienestar de todos  sin distinciones de ninguna clase, aprender a honrar la vida en todas sus manifestaciones...”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Gallegos,2001,p.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63640" y="90792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695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492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620640"/>
            <a:ext cx="8459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APRENDIZAJE AUTOGESTIONADO Y ASIS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8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ibe el aprendizaje para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43700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ibe al estudiante como un sistema abier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645000"/>
            <a:ext cx="842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epta que el ser humano aprende con todo el cere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22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menta la autonomía y el estudio in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1052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060640"/>
            <a:ext cx="7705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realiza a través del Dialogo Didáctico Real y  puede realizarse a través de 3 moda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3429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e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292640"/>
            <a:ext cx="54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4149720"/>
            <a:ext cx="61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869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dades electr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16000" y="981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3493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espacios tanto físicos como virtuales en el cual estudiantes, profesores, administradores y miembro de la comunidad en general, se interconectan en una red de relaciones, para trabajar juntos y facilitar el aprendizaje del estu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21:28:36Z</dcterms:created>
  <dc:creator>Meky Convit</dc:creator>
  <dc:description/>
  <dc:language>en-US</dc:language>
  <cp:lastModifiedBy>Juan Manuel</cp:lastModifiedBy>
  <dcterms:modified xsi:type="dcterms:W3CDTF">2007-07-03T12:10:06Z</dcterms:modified>
  <cp:revision>9</cp:revision>
  <dc:subject/>
  <dc:title>Diapositiva 1</dc:title>
</cp:coreProperties>
</file>