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17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7000"/>
              <a:gd name="textAreaBottom" fmla="*/ 9116640 h 9117000"/>
            </a:gdLst>
            <a:ahLst/>
            <a:rect l="textAreaLeft" t="textAreaTop" r="textAreaRight" b="textAreaBottom"/>
            <a:pathLst>
              <a:path w="21600" h="28715">
                <a:moveTo>
                  <a:pt x="5" y="0"/>
                </a:moveTo>
                <a:arcTo wR="5" hR="5" stAng="16200000" swAng="-5400000"/>
                <a:lnTo>
                  <a:pt x="0" y="28710"/>
                </a:lnTo>
                <a:arcTo wR="5" hR="5" stAng="10800000" swAng="-5400000"/>
                <a:lnTo>
                  <a:pt x="21595" y="2871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17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17000"/>
              <a:gd name="textAreaBottom" fmla="*/ 9116640 h 9117000"/>
            </a:gdLst>
            <a:ahLst/>
            <a:rect l="textAreaLeft" t="textAreaTop" r="textAreaRight" b="textAreaBottom"/>
            <a:pathLst>
              <a:path w="21600" h="28715">
                <a:moveTo>
                  <a:pt x="5" y="0"/>
                </a:moveTo>
                <a:arcTo wR="5" hR="5" stAng="16200000" swAng="-5400000"/>
                <a:lnTo>
                  <a:pt x="0" y="28710"/>
                </a:lnTo>
                <a:arcTo wR="5" hR="5" stAng="10800000" swAng="-5400000"/>
                <a:lnTo>
                  <a:pt x="21595" y="2871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52000" y="684360"/>
            <a:ext cx="4551480" cy="34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30440"/>
            <a:ext cx="548316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8658000"/>
            <a:ext cx="2968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4760" y="8658000"/>
            <a:ext cx="2968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86343-2F4A-477A-908B-8B019D4BBA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C7E09-2E45-4CF2-B6AA-9C117EF851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tualizada con las sugerencias derivadas de la reunión con los Representantes de ARBOL del 28-07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ltima revisión: 11-08-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FDD0B-F64B-495C-819B-9DEB0FC98D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0EF02-7F20-49E9-AB71-33D9E1555E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BF9C8-720D-4AFD-8234-BFA7CA509B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7A9C2-4904-4B03-8EC8-A0E0B9C561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8640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tar a la comunidad de la UNESR y de otras universidades públicas, de una plataforma de tecnología de información y comunicaciones que brinde servicios de información, los cuales le permita a la Universidad Nacional Experimental Simón Rodríguez convertirse en la principal fuente nacional para la educación de sus recursos humanos y la generación de conocimientos y soluciones, con el fin de acelerar el desarrollo de la República Bolivariana de Venezue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C1677-C385-4DB9-BA71-C2AE14E8E2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1605D-8936-4DF9-A682-694B63ACEE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E49FC-139B-48E2-90E7-8F677A3240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A71A6-C7ED-449B-A08A-0C17AAEE9D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1B186-5565-4AA1-B929-EFBC842887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C8044-665A-42F3-B144-976D22D82C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100C3-2DBB-452B-9B3D-F2600BDE13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94822-4A77-43FF-97FD-239E3EA961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A1816-20B3-44EB-8AF3-94C26ECC5E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915E1-5A72-4EBE-B923-44F2234D07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64691-7858-404F-AA01-6B39AEEBCB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3928C-48DE-4665-8839-CBA17D4F6A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91691-6537-49C5-B890-9FECA52F1A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86400" cy="56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pacio Físico Adicional Requerido para EAD = 255.990 MT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gister Robinsoniano 48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R 52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esupuesto UNESR $60.9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esupuesto FIEC  $7.9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esupuesto Misión Cultura $5.6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Total Presupuesto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$74.4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sto por participante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= Presupuesto total ($74,4) / Nº participantes (113.315) = $656,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esupuesto EAD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= Costo del Proyecto (880,0-Espacio Físico (87,9) entre 3 años + Costo de Personal (123,1)= 264+123,1= $387,1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LANTA FÍSICA REQUERIDA EAD =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87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sto de Personal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ersonal de soporte= 515.000 (sueldo minimo mensual)*16 meses= 8,24 millones *7361 (numero de personas)= bs 60,7 millardos / $28,2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ersonal docente= 2000.000 (Sueldo mensual)*16 meses = 32 millones * 5000 docentes = bs 160 millardos / $74,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ersonal complementario 20% = (soporte (28,2) + docente (74,4))*0.2= 102,6*0,2= 20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otal personal = soporte ($28,2 mm) + docente ($74,4 mm) + complementario ($20,5 MM) = $ 123,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E54B6-E71F-4998-8FAF-E944A3CA96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86400" cy="40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pacio Físico Adicional Requerido para EAD = 255.990 MT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ister Robinsoniano 48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R 52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upuesto 60.9 mill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supuesto EA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60,9 (Presupuesto Actual) + Costo del Proyecto (770,0-Espacio Físico (53,8) entre 3 años= 60,9+239,0= 299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TA FÍSICA REQUERIDA EAD =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6,2 (PLANTA F ACTUAL) + 53,8 (ESPACIO ADICIONAL EAD)=190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 dar cabida a los 900 mil estudiantes adicionales en el modelo presencial, se estima un crecimiento de 10 veces la Planta Física. Planta Física Proyectada= Plan F Actual *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horro en Planta Física= inversión adicional modelo presencial (759,9) – inversión ciber robinson (87,9)=6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5F969-09F7-4A65-9705-987D28862E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84711-6AB8-4C21-919E-07CD84115E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1DD27-9125-4CE4-80C1-5FC4B05AFF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238C1-F823-41A2-98A1-129A66E9EA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9A700-8EAC-4F57-A564-DAE8D45FF4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7294C-6156-4383-AB1B-EA50BFF914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AA90A-8CDB-410A-83FC-ABF95581FE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8F4D9-100E-4C02-A13B-B769E2020C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3884760" y="8658360"/>
            <a:ext cx="296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373AA-9C38-4F5E-B123-759DB5DA09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"/>
          <p:cNvSpPr/>
          <p:nvPr/>
        </p:nvSpPr>
        <p:spPr>
          <a:xfrm>
            <a:off x="1150920" y="684360"/>
            <a:ext cx="4557600" cy="34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496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364EF-A384-40FD-A97A-C33ACA32B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26526-D52D-4D88-80F6-7B0CBE0F2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C0720-2471-4559-A159-EFE0D02BF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92B62-DF38-4905-9849-DADCB8C356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7911F-78B2-47E8-ABE9-1F26842160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5AF46-3119-44D6-8203-BE2EBE7CC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6312A-1417-4F79-811D-7CB77DAAD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18702-CB18-4C5F-95FA-B95327D26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01520"/>
            <a:ext cx="728028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D63A6-9C3F-464D-B5EC-3735BB919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D576C-4C61-4077-8E65-7ECB22700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C7638-C590-4597-A5A7-5696CCA61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2586D-BD78-4CB5-94B2-0D08B51C4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2920" y="101520"/>
            <a:ext cx="7280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0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147705-EFF0-4673-8BBC-5E867682BD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2637000"/>
            <a:ext cx="8229600" cy="11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OYECTO CIBER ROBIN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1476360" y="620640"/>
            <a:ext cx="61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PÚBLICA BOLIVARIANA DE VENEZUELA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IVERSIDAD NACIONAL EXPERIMENT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ÓN RODRÍGU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OCIACIÓN DE RECT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 LAS UNIVERSIDADES BOLIVARIAN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834360" y="5969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. 11-08-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920" y="619920"/>
            <a:ext cx="6827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BASES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6920" y="1197000"/>
            <a:ext cx="770436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enseñanza-aprendizaje andragógico: El Facilitador orienta al Particip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tenciar y/o crear nuevos roles de los Facilitador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rrollar, actualizar y mejorar los programas y contenidos educa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uiar al participante durante su formación: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gíster Robinsoniano.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923760" y="765000"/>
            <a:ext cx="822024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ROL DEL MAGISTER ROBINSONIANO (M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224000" y="1484280"/>
            <a:ext cx="7920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uiar al participante en la selección de la carrer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yudarlo en la conformación de su programa de estudi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btener soporte de los especialistas de conocimiento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estionar la obtención de cursos requeridos por el participante no disponibles en la universida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tender un estimado de 200 participant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332000" y="332640"/>
            <a:ext cx="682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BASES DEL PROYEC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684360" y="836640"/>
            <a:ext cx="7715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TECNOLOGIA DE EDUCACIÓN A DISTANC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1476360" y="1484280"/>
            <a:ext cx="7273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3180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icionarnos en la etapa de desarrollo de Nivel IV, de acuerdo al  Instituto de Educación Superior  de América Latina y el Caribe (IESALC-UNESCO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168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180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ructuras curriculares multi-ru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168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180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delos pedagógicos auto-dirig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168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180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os y materiales modulares de aprendiza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-168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3180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alidación del aprendizaje mediante test y tutores    electrónicos y la interacción con facilitad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22560" y="5997600"/>
            <a:ext cx="710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ente: Informe sobre la Educación Superior en América Lat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y el Caribe 2000 - 2005, p.59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116000" y="332640"/>
            <a:ext cx="682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BASES DEL PROYEC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55640" y="1298520"/>
            <a:ext cx="460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BJETIVO GENERAL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2060640"/>
            <a:ext cx="7704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otar a la Comunidad de las Universidades Aliadas, de una Red Inter Universitaria de Tecnología Educativa para atender progresivamente un millón de participantes en mil carreras, en un lapso de dos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402920" y="1125360"/>
            <a:ext cx="7489800" cy="49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mpartir Educación a Distancia (EAD) para un millón de participantes, en especial de bajos recursos económicos en el lapso de dos añ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otar con 691.781 PCs para participantes, personal docente, administrativo y obrero y salas virtu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struir la plataforma tecnológica para la Red Educativa Inter Universitaria (servidores, redes, estaciones de trabajo, imprenta y TV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struir y/o adecuar las instalaciones físicas  para 7.361 Salas Virtu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539640" y="4755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11280" y="1268280"/>
            <a:ext cx="7632720" cy="499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dquirir, desarrollar y adaptar el Software de contenido educativo (materiales auto instruccionales) , para mil carreras y un total de 60 mil cursos virtuales, así como los Sistemas Administrativos, de Gestión, Control de Estudios y Bibliote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rear la sede del Centro de Tecnología Educativa y Servicios de Información (CETESI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diseñar las estructuras organizativas y los procesos docente – administrativ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649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pacitar al Capital Human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spcAft>
                <a:spcPts val="1624"/>
              </a:spcAft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539640" y="691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79640" y="403920"/>
            <a:ext cx="54100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VIABI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6000" y="981000"/>
            <a:ext cx="727380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>
              <a:lnSpc>
                <a:spcPct val="100000"/>
              </a:lnSpc>
              <a:spcBef>
                <a:spcPts val="326"/>
              </a:spcBef>
              <a:spcAft>
                <a:spcPts val="9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Tecnología Educa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utilizarán tecnologías educativas existentes y probadas en el ámbito Nacional e Inter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arias de las universidades aliadas ya tienen años de experiencia en Educación a Distanci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1624"/>
              </a:spcBef>
              <a:spcAft>
                <a:spcPts val="975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Desarrollo de los Contenidos Educa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Universidades Aliadas poseen un amplio plantel docente  con potencial para el desarrollo de contenido educ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arias de las universidades aliadas cuentan con personal especializado en el área para capacitar a otros facilitadores y prepar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79640" y="403920"/>
            <a:ext cx="54100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VIABI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6000" y="907560"/>
            <a:ext cx="7201080" cy="51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Funcionamiento y mantenimiento de la plataforma tecnoló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ción del CETESI para asegurar la operatividad de la nueva plataf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ferencia tecnológica de la República Popular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ontará con un inventario adecuado de partes y suministros.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Espacios fís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l espacio total requerido, sólo el 10% será intramuros. El 90% restante será extramuros (Alcaldías, Bibliotecas regionales, Escuelas, Liceos, Misiones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5000"/>
              </a:lnSpc>
              <a:spcBef>
                <a:spcPts val="300"/>
              </a:spcBef>
              <a:spcAft>
                <a:spcPts val="150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692000" y="907920"/>
            <a:ext cx="7056360" cy="57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oyo económico de la República Popular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quisición y/o ensamblaje local de computadoras personales a bajo co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bilidad de los participantes de conseguir financiamiento de computadoras personales a través de créditos sociales, lo cual disminuiría la inversión total del Proy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nciamiento en base a la Ley Organica de Ciencia, Tecnología e Inov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979640" y="403920"/>
            <a:ext cx="54100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VIABI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900000" y="260280"/>
            <a:ext cx="77263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TAPAS DEL PROYEC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79280" y="4365720"/>
            <a:ext cx="187164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704880" y="1003320"/>
            <a:ext cx="8064000" cy="4608000"/>
            <a:chOff x="704880" y="1003320"/>
            <a:chExt cx="8064000" cy="4608000"/>
          </a:xfrm>
        </p:grpSpPr>
        <p:sp>
          <p:nvSpPr>
            <p:cNvPr id="127" name="Rectangle 5"/>
            <p:cNvSpPr/>
            <p:nvPr/>
          </p:nvSpPr>
          <p:spPr>
            <a:xfrm>
              <a:off x="6751800" y="2382120"/>
              <a:ext cx="2015280" cy="32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0,6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6751800" y="1003320"/>
              <a:ext cx="2015280" cy="13788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Arial"/>
                </a:rPr>
                <a:t>Inversión estimada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Arial"/>
                </a:rPr>
                <a:t>(MM US$)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3296520" y="2382120"/>
              <a:ext cx="3454920" cy="32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457200" indent="-27468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Ingeniería de detalle del proyecto elaborada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27468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Proyecto aprobado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27468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Contrato de préstamo aprobado.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457200" indent="-274680">
                <a:lnSpc>
                  <a:spcPct val="10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05040"/>
                  <a:tab algn="l" pos="1353960"/>
                  <a:tab algn="l" pos="1803240"/>
                  <a:tab algn="l" pos="2252520"/>
                  <a:tab algn="l" pos="2701800"/>
                  <a:tab algn="l" pos="3151080"/>
                  <a:tab algn="l" pos="3600360"/>
                  <a:tab algn="l" pos="4049640"/>
                  <a:tab algn="l" pos="4498920"/>
                  <a:tab algn="l" pos="4948200"/>
                  <a:tab algn="l" pos="5397480"/>
                  <a:tab algn="l" pos="5846760"/>
                  <a:tab algn="l" pos="6296040"/>
                  <a:tab algn="l" pos="6745320"/>
                  <a:tab algn="l" pos="7194600"/>
                  <a:tab algn="l" pos="7643880"/>
                  <a:tab algn="l" pos="8093160"/>
                  <a:tab algn="l" pos="8542440"/>
                  <a:tab algn="l" pos="8991720"/>
                  <a:tab algn="l" pos="944100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Al menos una nueva carrera piloto de EAD en funcionamiento con la Plataforma actual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8"/>
            <p:cNvSpPr/>
            <p:nvPr/>
          </p:nvSpPr>
          <p:spPr>
            <a:xfrm>
              <a:off x="1615680" y="2382120"/>
              <a:ext cx="1680480" cy="32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Anteproyect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9"/>
            <p:cNvSpPr/>
            <p:nvPr/>
          </p:nvSpPr>
          <p:spPr>
            <a:xfrm>
              <a:off x="704880" y="2382120"/>
              <a:ext cx="910800" cy="32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3296520" y="1003320"/>
              <a:ext cx="3454920" cy="13788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Arial"/>
                </a:rPr>
                <a:t>Resultados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Arial"/>
                </a:rPr>
                <a:t>Esperados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1615680" y="1003320"/>
              <a:ext cx="1680480" cy="13788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Arial"/>
                </a:rPr>
                <a:t>Fase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2"/>
            <p:cNvSpPr/>
            <p:nvPr/>
          </p:nvSpPr>
          <p:spPr>
            <a:xfrm>
              <a:off x="704880" y="1003320"/>
              <a:ext cx="910800" cy="13788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Arial"/>
                </a:rPr>
                <a:t>Añ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3"/>
            <p:cNvSpPr/>
            <p:nvPr/>
          </p:nvSpPr>
          <p:spPr>
            <a:xfrm>
              <a:off x="704880" y="2382120"/>
              <a:ext cx="80625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4"/>
            <p:cNvSpPr/>
            <p:nvPr/>
          </p:nvSpPr>
          <p:spPr>
            <a:xfrm>
              <a:off x="1615680" y="1003320"/>
              <a:ext cx="1440" cy="46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5"/>
            <p:cNvSpPr/>
            <p:nvPr/>
          </p:nvSpPr>
          <p:spPr>
            <a:xfrm>
              <a:off x="3296520" y="1003320"/>
              <a:ext cx="1440" cy="46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6"/>
            <p:cNvSpPr/>
            <p:nvPr/>
          </p:nvSpPr>
          <p:spPr>
            <a:xfrm>
              <a:off x="6751800" y="1003320"/>
              <a:ext cx="1080" cy="46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7"/>
            <p:cNvSpPr/>
            <p:nvPr/>
          </p:nvSpPr>
          <p:spPr>
            <a:xfrm>
              <a:off x="704880" y="1003320"/>
              <a:ext cx="1080" cy="46065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>
              <a:off x="704880" y="1003320"/>
              <a:ext cx="8062560" cy="1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8767440" y="1003320"/>
              <a:ext cx="1440" cy="46065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>
              <a:off x="704880" y="5609880"/>
              <a:ext cx="8062560" cy="14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845280"/>
            <a:ext cx="6192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TRODUC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27236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 Proyecto Ciber Robinson nace de la iniciativa del Dr. Manuel Mariña Müller, Rector de la Universidad Nacional Experimental Simón Rodríguez  y es acogido por la Asociación de Rectores Bolivarianos (ARBOL) para ser desarrollado en alianza con las Universidades representadas por dicha Asoci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64818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TAPAS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66680" y="4653000"/>
            <a:ext cx="18828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24000" y="981000"/>
            <a:ext cx="8446680" cy="4895640"/>
            <a:chOff x="324000" y="981000"/>
            <a:chExt cx="8446680" cy="4895640"/>
          </a:xfrm>
        </p:grpSpPr>
        <p:sp>
          <p:nvSpPr>
            <p:cNvPr id="146" name="Rectangle 5"/>
            <p:cNvSpPr/>
            <p:nvPr/>
          </p:nvSpPr>
          <p:spPr>
            <a:xfrm>
              <a:off x="7020000" y="2009520"/>
              <a:ext cx="1749240" cy="38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35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6"/>
            <p:cNvSpPr/>
            <p:nvPr/>
          </p:nvSpPr>
          <p:spPr>
            <a:xfrm>
              <a:off x="7020000" y="981000"/>
              <a:ext cx="1749240" cy="1028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Inversión estimad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MM US$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7"/>
            <p:cNvSpPr/>
            <p:nvPr/>
          </p:nvSpPr>
          <p:spPr>
            <a:xfrm>
              <a:off x="3276000" y="2009520"/>
              <a:ext cx="3744000" cy="38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0.000 nuevos participantes EAD en la plataforma actual.  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ETESI construid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alas virtuales para el 2008 habilitada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taforma tecnológica para operar en el 2008 instalada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nido educativo para la EAD del 2008 disponible.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1404720" y="2009520"/>
              <a:ext cx="1871280" cy="38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strucció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9"/>
            <p:cNvSpPr/>
            <p:nvPr/>
          </p:nvSpPr>
          <p:spPr>
            <a:xfrm>
              <a:off x="324000" y="2009520"/>
              <a:ext cx="1080720" cy="38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10"/>
            <p:cNvSpPr/>
            <p:nvPr/>
          </p:nvSpPr>
          <p:spPr>
            <a:xfrm>
              <a:off x="3276000" y="981000"/>
              <a:ext cx="3744000" cy="1028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Resultado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Esperado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11"/>
            <p:cNvSpPr/>
            <p:nvPr/>
          </p:nvSpPr>
          <p:spPr>
            <a:xfrm>
              <a:off x="1404720" y="981000"/>
              <a:ext cx="1871280" cy="1028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2"/>
            <p:cNvSpPr/>
            <p:nvPr/>
          </p:nvSpPr>
          <p:spPr>
            <a:xfrm>
              <a:off x="324000" y="981000"/>
              <a:ext cx="1080720" cy="1028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Añ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324000" y="981000"/>
              <a:ext cx="8445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324000" y="2009520"/>
              <a:ext cx="8445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324000" y="5875560"/>
              <a:ext cx="84456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324000" y="981000"/>
              <a:ext cx="1080" cy="489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1404720" y="981000"/>
              <a:ext cx="1080" cy="489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18"/>
            <p:cNvSpPr/>
            <p:nvPr/>
          </p:nvSpPr>
          <p:spPr>
            <a:xfrm>
              <a:off x="3276000" y="981000"/>
              <a:ext cx="1080" cy="489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>
              <a:off x="8769600" y="981000"/>
              <a:ext cx="1080" cy="489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7020000" y="981000"/>
              <a:ext cx="1440" cy="489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539640" y="333360"/>
            <a:ext cx="80866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TAPAS DEL PROYEC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36440" y="4581360"/>
            <a:ext cx="20592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395280" y="981000"/>
            <a:ext cx="8206920" cy="4535280"/>
            <a:chOff x="395280" y="981000"/>
            <a:chExt cx="8206920" cy="4535280"/>
          </a:xfrm>
        </p:grpSpPr>
        <p:sp>
          <p:nvSpPr>
            <p:cNvPr id="165" name="Rectangle 5"/>
            <p:cNvSpPr/>
            <p:nvPr/>
          </p:nvSpPr>
          <p:spPr>
            <a:xfrm>
              <a:off x="6811920" y="2008080"/>
              <a:ext cx="17884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6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6811920" y="981000"/>
              <a:ext cx="1788480" cy="1027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Inversión Estimad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MM US$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2855160" y="2008080"/>
              <a:ext cx="395640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230.000 participantes adicionales de EAD en salas virtuales para un total de 250.000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250.000 participantes adicionales de EAD con PCs en sus hogares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Total participantes 500.000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Arial"/>
                </a:rPr>
                <a:t>300 nuevas carreras EAD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Bef>
                  <a:spcPts val="5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302840" y="2008080"/>
              <a:ext cx="155232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Operación con la nueva plataform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395280" y="2008080"/>
              <a:ext cx="90756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2855160" y="981000"/>
              <a:ext cx="3956400" cy="1027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Resultado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Esperado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11"/>
            <p:cNvSpPr/>
            <p:nvPr/>
          </p:nvSpPr>
          <p:spPr>
            <a:xfrm>
              <a:off x="1302840" y="981000"/>
              <a:ext cx="1552320" cy="1027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12"/>
            <p:cNvSpPr/>
            <p:nvPr/>
          </p:nvSpPr>
          <p:spPr>
            <a:xfrm>
              <a:off x="395280" y="981000"/>
              <a:ext cx="907560" cy="1027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Añ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13"/>
            <p:cNvSpPr/>
            <p:nvPr/>
          </p:nvSpPr>
          <p:spPr>
            <a:xfrm>
              <a:off x="395280" y="981000"/>
              <a:ext cx="82054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14"/>
            <p:cNvSpPr/>
            <p:nvPr/>
          </p:nvSpPr>
          <p:spPr>
            <a:xfrm>
              <a:off x="395280" y="981000"/>
              <a:ext cx="1080" cy="102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15"/>
            <p:cNvSpPr/>
            <p:nvPr/>
          </p:nvSpPr>
          <p:spPr>
            <a:xfrm>
              <a:off x="1302840" y="981000"/>
              <a:ext cx="1440" cy="453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6"/>
            <p:cNvSpPr/>
            <p:nvPr/>
          </p:nvSpPr>
          <p:spPr>
            <a:xfrm>
              <a:off x="2855160" y="981000"/>
              <a:ext cx="1080" cy="453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7"/>
            <p:cNvSpPr/>
            <p:nvPr/>
          </p:nvSpPr>
          <p:spPr>
            <a:xfrm>
              <a:off x="8600760" y="981000"/>
              <a:ext cx="1440" cy="102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8"/>
            <p:cNvSpPr/>
            <p:nvPr/>
          </p:nvSpPr>
          <p:spPr>
            <a:xfrm>
              <a:off x="6811920" y="981000"/>
              <a:ext cx="1440" cy="453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9"/>
            <p:cNvSpPr/>
            <p:nvPr/>
          </p:nvSpPr>
          <p:spPr>
            <a:xfrm>
              <a:off x="395280" y="2008080"/>
              <a:ext cx="1080" cy="3506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0"/>
            <p:cNvSpPr/>
            <p:nvPr/>
          </p:nvSpPr>
          <p:spPr>
            <a:xfrm>
              <a:off x="395280" y="2008080"/>
              <a:ext cx="8205480" cy="1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1"/>
            <p:cNvSpPr/>
            <p:nvPr/>
          </p:nvSpPr>
          <p:spPr>
            <a:xfrm>
              <a:off x="395280" y="5515200"/>
              <a:ext cx="8205480" cy="1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2"/>
            <p:cNvSpPr/>
            <p:nvPr/>
          </p:nvSpPr>
          <p:spPr>
            <a:xfrm>
              <a:off x="8600760" y="2008080"/>
              <a:ext cx="1440" cy="3506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63640" y="404640"/>
            <a:ext cx="5832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TAPAS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0" y="981000"/>
            <a:ext cx="8966160" cy="4680000"/>
            <a:chOff x="0" y="981000"/>
            <a:chExt cx="8966160" cy="4680000"/>
          </a:xfrm>
        </p:grpSpPr>
        <p:sp>
          <p:nvSpPr>
            <p:cNvPr id="185" name="Rectangle 4"/>
            <p:cNvSpPr/>
            <p:nvPr/>
          </p:nvSpPr>
          <p:spPr>
            <a:xfrm>
              <a:off x="0" y="4363920"/>
              <a:ext cx="1871640" cy="129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5"/>
            <p:cNvSpPr/>
            <p:nvPr/>
          </p:nvSpPr>
          <p:spPr>
            <a:xfrm>
              <a:off x="7286760" y="2106720"/>
              <a:ext cx="1677960" cy="33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6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6"/>
            <p:cNvSpPr/>
            <p:nvPr/>
          </p:nvSpPr>
          <p:spPr>
            <a:xfrm>
              <a:off x="7286760" y="1052640"/>
              <a:ext cx="1677960" cy="1054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Inversión Estimad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(MM US$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2916360" y="2106720"/>
              <a:ext cx="4370400" cy="33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58840" indent="-25884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250.000 participantes adicionales de EAD en salas virtuales para un total de 500.00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250.000 participantes adicionales de EAD con PCs en sus hogares para un total de 500.00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Total Participantes: 1 Milló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58840" indent="-258840">
                <a:lnSpc>
                  <a:spcPct val="100000"/>
                </a:lnSpc>
                <a:spcAft>
                  <a:spcPts val="10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258840"/>
                  <a:tab algn="l" pos="706320"/>
                  <a:tab algn="l" pos="1155600"/>
                  <a:tab algn="l" pos="1604880"/>
                  <a:tab algn="l" pos="2054160"/>
                  <a:tab algn="l" pos="2503440"/>
                  <a:tab algn="l" pos="2952720"/>
                  <a:tab algn="l" pos="3402000"/>
                  <a:tab algn="l" pos="3851280"/>
                  <a:tab algn="l" pos="4300560"/>
                  <a:tab algn="l" pos="4749840"/>
                  <a:tab algn="l" pos="5199120"/>
                  <a:tab algn="l" pos="5648400"/>
                  <a:tab algn="l" pos="6097680"/>
                  <a:tab algn="l" pos="6546960"/>
                  <a:tab algn="l" pos="6996240"/>
                  <a:tab algn="l" pos="7445520"/>
                  <a:tab algn="l" pos="7894800"/>
                  <a:tab algn="l" pos="8344080"/>
                  <a:tab algn="l" pos="8793000"/>
                  <a:tab algn="l" pos="9242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700 nuevas carreras EAD para un total de 1.000 carreras.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1309680" y="2106720"/>
              <a:ext cx="1822320" cy="33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recimiento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9"/>
            <p:cNvSpPr/>
            <p:nvPr/>
          </p:nvSpPr>
          <p:spPr>
            <a:xfrm>
              <a:off x="376200" y="2106720"/>
              <a:ext cx="933480" cy="33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10"/>
            <p:cNvSpPr/>
            <p:nvPr/>
          </p:nvSpPr>
          <p:spPr>
            <a:xfrm>
              <a:off x="3132000" y="1052640"/>
              <a:ext cx="4154760" cy="1054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Resultado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Esperado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11"/>
            <p:cNvSpPr/>
            <p:nvPr/>
          </p:nvSpPr>
          <p:spPr>
            <a:xfrm>
              <a:off x="1309680" y="1052640"/>
              <a:ext cx="1822320" cy="1054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12"/>
            <p:cNvSpPr/>
            <p:nvPr/>
          </p:nvSpPr>
          <p:spPr>
            <a:xfrm>
              <a:off x="376200" y="1052640"/>
              <a:ext cx="933480" cy="1054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Añ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13"/>
            <p:cNvSpPr/>
            <p:nvPr/>
          </p:nvSpPr>
          <p:spPr>
            <a:xfrm>
              <a:off x="376200" y="1052640"/>
              <a:ext cx="8588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14"/>
            <p:cNvSpPr/>
            <p:nvPr/>
          </p:nvSpPr>
          <p:spPr>
            <a:xfrm>
              <a:off x="376200" y="1052640"/>
              <a:ext cx="1800" cy="105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5"/>
            <p:cNvSpPr/>
            <p:nvPr/>
          </p:nvSpPr>
          <p:spPr>
            <a:xfrm>
              <a:off x="1297080" y="1052640"/>
              <a:ext cx="1440" cy="435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6"/>
            <p:cNvSpPr/>
            <p:nvPr/>
          </p:nvSpPr>
          <p:spPr>
            <a:xfrm>
              <a:off x="2916360" y="981000"/>
              <a:ext cx="1440" cy="435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7"/>
            <p:cNvSpPr/>
            <p:nvPr/>
          </p:nvSpPr>
          <p:spPr>
            <a:xfrm>
              <a:off x="8964720" y="1052640"/>
              <a:ext cx="1440" cy="105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8"/>
            <p:cNvSpPr/>
            <p:nvPr/>
          </p:nvSpPr>
          <p:spPr>
            <a:xfrm>
              <a:off x="7488360" y="1052640"/>
              <a:ext cx="1440" cy="435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9"/>
            <p:cNvSpPr/>
            <p:nvPr/>
          </p:nvSpPr>
          <p:spPr>
            <a:xfrm>
              <a:off x="376200" y="2106720"/>
              <a:ext cx="1800" cy="3305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20"/>
            <p:cNvSpPr/>
            <p:nvPr/>
          </p:nvSpPr>
          <p:spPr>
            <a:xfrm>
              <a:off x="376200" y="2106720"/>
              <a:ext cx="8588520" cy="14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21"/>
            <p:cNvSpPr/>
            <p:nvPr/>
          </p:nvSpPr>
          <p:spPr>
            <a:xfrm>
              <a:off x="376200" y="5411880"/>
              <a:ext cx="8588520" cy="14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22"/>
            <p:cNvSpPr/>
            <p:nvPr/>
          </p:nvSpPr>
          <p:spPr>
            <a:xfrm>
              <a:off x="8964720" y="2106720"/>
              <a:ext cx="1440" cy="3305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heel spokes="3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02920" y="386280"/>
            <a:ext cx="7280280" cy="9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FINANCIAMIENTO DEL PROYECTO</a:t>
            </a:r>
            <a:br>
              <a:rPr sz="3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illon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de US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908000" y="1341360"/>
          <a:ext cx="6858000" cy="4173480"/>
        </p:xfrm>
        <a:graphic>
          <a:graphicData uri="http://schemas.openxmlformats.org/drawingml/2006/table">
            <a:tbl>
              <a:tblPr/>
              <a:tblGrid>
                <a:gridCol w="1714680"/>
                <a:gridCol w="2101680"/>
                <a:gridCol w="1511640"/>
                <a:gridCol w="1530000"/>
              </a:tblGrid>
              <a:tr h="111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p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mbank Ch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8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8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0,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403920"/>
            <a:ext cx="80661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REQUERIMIENTOS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2"/>
          <p:cNvGrpSpPr/>
          <p:nvPr/>
        </p:nvGrpSpPr>
        <p:grpSpPr>
          <a:xfrm>
            <a:off x="1187280" y="1197000"/>
            <a:ext cx="7561080" cy="3534840"/>
            <a:chOff x="1187280" y="1197000"/>
            <a:chExt cx="7561080" cy="3534840"/>
          </a:xfrm>
        </p:grpSpPr>
        <p:sp>
          <p:nvSpPr>
            <p:cNvPr id="208" name="Rectangle 3"/>
            <p:cNvSpPr/>
            <p:nvPr/>
          </p:nvSpPr>
          <p:spPr>
            <a:xfrm>
              <a:off x="6064560" y="3938760"/>
              <a:ext cx="2682360" cy="364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7,7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2244240" y="3938760"/>
              <a:ext cx="3819960" cy="364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tro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1187280" y="3938760"/>
              <a:ext cx="1056960" cy="364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6"/>
            <p:cNvSpPr/>
            <p:nvPr/>
          </p:nvSpPr>
          <p:spPr>
            <a:xfrm>
              <a:off x="6064560" y="4303440"/>
              <a:ext cx="2682360" cy="426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880,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7"/>
            <p:cNvSpPr/>
            <p:nvPr/>
          </p:nvSpPr>
          <p:spPr>
            <a:xfrm>
              <a:off x="2244240" y="4303440"/>
              <a:ext cx="3819960" cy="426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Tot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1187280" y="4303440"/>
              <a:ext cx="1056960" cy="426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6064560" y="3538800"/>
              <a:ext cx="26823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,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2244240" y="3538800"/>
              <a:ext cx="38199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ETES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1187280" y="3538800"/>
              <a:ext cx="10569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12"/>
            <p:cNvSpPr/>
            <p:nvPr/>
          </p:nvSpPr>
          <p:spPr>
            <a:xfrm>
              <a:off x="6064560" y="3173760"/>
              <a:ext cx="2682360" cy="365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22,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2244240" y="3173760"/>
              <a:ext cx="3819960" cy="365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lataforma tecnológ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14"/>
            <p:cNvSpPr/>
            <p:nvPr/>
          </p:nvSpPr>
          <p:spPr>
            <a:xfrm>
              <a:off x="1187280" y="3173760"/>
              <a:ext cx="1056960" cy="365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15"/>
            <p:cNvSpPr/>
            <p:nvPr/>
          </p:nvSpPr>
          <p:spPr>
            <a:xfrm>
              <a:off x="6064560" y="2808720"/>
              <a:ext cx="2682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7,9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2244240" y="2808720"/>
              <a:ext cx="38199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fraestructura físic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7"/>
            <p:cNvSpPr/>
            <p:nvPr/>
          </p:nvSpPr>
          <p:spPr>
            <a:xfrm>
              <a:off x="1187280" y="2808720"/>
              <a:ext cx="10569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8"/>
            <p:cNvSpPr/>
            <p:nvPr/>
          </p:nvSpPr>
          <p:spPr>
            <a:xfrm>
              <a:off x="6064560" y="2169360"/>
              <a:ext cx="2682360" cy="639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4,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19"/>
            <p:cNvSpPr/>
            <p:nvPr/>
          </p:nvSpPr>
          <p:spPr>
            <a:xfrm>
              <a:off x="2244240" y="2169360"/>
              <a:ext cx="3819960" cy="639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oftware de contenido educativo y de servici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20"/>
            <p:cNvSpPr/>
            <p:nvPr/>
          </p:nvSpPr>
          <p:spPr>
            <a:xfrm>
              <a:off x="1187280" y="2169360"/>
              <a:ext cx="1056960" cy="639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21"/>
            <p:cNvSpPr/>
            <p:nvPr/>
          </p:nvSpPr>
          <p:spPr>
            <a:xfrm>
              <a:off x="6064560" y="1804680"/>
              <a:ext cx="26823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69.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22"/>
            <p:cNvSpPr/>
            <p:nvPr/>
          </p:nvSpPr>
          <p:spPr>
            <a:xfrm>
              <a:off x="2244240" y="1804680"/>
              <a:ext cx="38199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Cs y periférico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23"/>
            <p:cNvSpPr/>
            <p:nvPr/>
          </p:nvSpPr>
          <p:spPr>
            <a:xfrm>
              <a:off x="1187280" y="1804680"/>
              <a:ext cx="10569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24"/>
            <p:cNvSpPr/>
            <p:nvPr/>
          </p:nvSpPr>
          <p:spPr>
            <a:xfrm>
              <a:off x="6064560" y="1197000"/>
              <a:ext cx="2682360" cy="6076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700" spc="-1" strike="noStrike">
                  <a:solidFill>
                    <a:srgbClr val="ffffff"/>
                  </a:solidFill>
                  <a:latin typeface="Arial"/>
                </a:rPr>
                <a:t>INVERSIÓN ESTIMADA (MILLONES $)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25"/>
            <p:cNvSpPr/>
            <p:nvPr/>
          </p:nvSpPr>
          <p:spPr>
            <a:xfrm>
              <a:off x="2244240" y="1197000"/>
              <a:ext cx="3819960" cy="6076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700" spc="-1" strike="noStrike">
                  <a:solidFill>
                    <a:srgbClr val="ffffff"/>
                  </a:solidFill>
                  <a:latin typeface="Arial"/>
                </a:rPr>
                <a:t>DESCRIPCIÓN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26"/>
            <p:cNvSpPr/>
            <p:nvPr/>
          </p:nvSpPr>
          <p:spPr>
            <a:xfrm>
              <a:off x="1187280" y="1197000"/>
              <a:ext cx="1056960" cy="6076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700" spc="-1" strike="noStrike">
                  <a:solidFill>
                    <a:srgbClr val="ffffff"/>
                  </a:solidFill>
                  <a:latin typeface="Arial"/>
                </a:rPr>
                <a:t>ÁREA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27"/>
            <p:cNvSpPr/>
            <p:nvPr/>
          </p:nvSpPr>
          <p:spPr>
            <a:xfrm>
              <a:off x="1187280" y="1197000"/>
              <a:ext cx="75600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28"/>
            <p:cNvSpPr/>
            <p:nvPr/>
          </p:nvSpPr>
          <p:spPr>
            <a:xfrm>
              <a:off x="1187280" y="1804680"/>
              <a:ext cx="7560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29"/>
            <p:cNvSpPr/>
            <p:nvPr/>
          </p:nvSpPr>
          <p:spPr>
            <a:xfrm>
              <a:off x="1187280" y="2169360"/>
              <a:ext cx="756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30"/>
            <p:cNvSpPr/>
            <p:nvPr/>
          </p:nvSpPr>
          <p:spPr>
            <a:xfrm>
              <a:off x="1187280" y="2808720"/>
              <a:ext cx="756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31"/>
            <p:cNvSpPr/>
            <p:nvPr/>
          </p:nvSpPr>
          <p:spPr>
            <a:xfrm>
              <a:off x="1187280" y="3173760"/>
              <a:ext cx="756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32"/>
            <p:cNvSpPr/>
            <p:nvPr/>
          </p:nvSpPr>
          <p:spPr>
            <a:xfrm>
              <a:off x="1187280" y="3538800"/>
              <a:ext cx="7560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33"/>
            <p:cNvSpPr/>
            <p:nvPr/>
          </p:nvSpPr>
          <p:spPr>
            <a:xfrm>
              <a:off x="1187280" y="3938760"/>
              <a:ext cx="75600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34"/>
            <p:cNvSpPr/>
            <p:nvPr/>
          </p:nvSpPr>
          <p:spPr>
            <a:xfrm>
              <a:off x="1187280" y="4730400"/>
              <a:ext cx="75600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35"/>
            <p:cNvSpPr/>
            <p:nvPr/>
          </p:nvSpPr>
          <p:spPr>
            <a:xfrm>
              <a:off x="1187280" y="1197000"/>
              <a:ext cx="1080" cy="353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36"/>
            <p:cNvSpPr/>
            <p:nvPr/>
          </p:nvSpPr>
          <p:spPr>
            <a:xfrm>
              <a:off x="2244240" y="1197000"/>
              <a:ext cx="1080" cy="353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37"/>
            <p:cNvSpPr/>
            <p:nvPr/>
          </p:nvSpPr>
          <p:spPr>
            <a:xfrm>
              <a:off x="6064560" y="1197000"/>
              <a:ext cx="1440" cy="353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38"/>
            <p:cNvSpPr/>
            <p:nvPr/>
          </p:nvSpPr>
          <p:spPr>
            <a:xfrm>
              <a:off x="8747280" y="1197000"/>
              <a:ext cx="1080" cy="353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39"/>
            <p:cNvSpPr/>
            <p:nvPr/>
          </p:nvSpPr>
          <p:spPr>
            <a:xfrm>
              <a:off x="1187280" y="4303440"/>
              <a:ext cx="756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Text Box 40"/>
          <p:cNvSpPr/>
          <p:nvPr/>
        </p:nvSpPr>
        <p:spPr>
          <a:xfrm>
            <a:off x="1655640" y="479736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 monto total del Proyecto puede bajar a US$ 630,0 millones, sí los PCs de los participantes son financiados por la Banca o Entes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17236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IFICACIÓN ECONÓMICA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asado en la UNE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6"/>
          <p:cNvSpPr/>
          <p:nvPr/>
        </p:nvSpPr>
        <p:spPr>
          <a:xfrm>
            <a:off x="179280" y="4365720"/>
            <a:ext cx="187164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71"/>
          <p:cNvGrpSpPr/>
          <p:nvPr/>
        </p:nvGrpSpPr>
        <p:grpSpPr>
          <a:xfrm>
            <a:off x="193680" y="1712880"/>
            <a:ext cx="8780040" cy="3774600"/>
            <a:chOff x="193680" y="1712880"/>
            <a:chExt cx="8780040" cy="3774600"/>
          </a:xfrm>
        </p:grpSpPr>
        <p:sp>
          <p:nvSpPr>
            <p:cNvPr id="249" name="Rectangle 72"/>
            <p:cNvSpPr/>
            <p:nvPr/>
          </p:nvSpPr>
          <p:spPr>
            <a:xfrm>
              <a:off x="7684920" y="4086360"/>
              <a:ext cx="1287360" cy="699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$ 259,9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73"/>
            <p:cNvSpPr/>
            <p:nvPr/>
          </p:nvSpPr>
          <p:spPr>
            <a:xfrm>
              <a:off x="5877360" y="4086360"/>
              <a:ext cx="18075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387,1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74"/>
            <p:cNvSpPr/>
            <p:nvPr/>
          </p:nvSpPr>
          <p:spPr>
            <a:xfrm>
              <a:off x="3993120" y="4086360"/>
              <a:ext cx="18842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657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75"/>
            <p:cNvSpPr/>
            <p:nvPr/>
          </p:nvSpPr>
          <p:spPr>
            <a:xfrm>
              <a:off x="2109240" y="4086360"/>
              <a:ext cx="18838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74,4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76"/>
            <p:cNvSpPr/>
            <p:nvPr/>
          </p:nvSpPr>
          <p:spPr>
            <a:xfrm>
              <a:off x="193680" y="4086360"/>
              <a:ext cx="19155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sto Operat. Anu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77"/>
            <p:cNvSpPr/>
            <p:nvPr/>
          </p:nvSpPr>
          <p:spPr>
            <a:xfrm>
              <a:off x="2109240" y="4786200"/>
              <a:ext cx="188388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65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78"/>
            <p:cNvSpPr/>
            <p:nvPr/>
          </p:nvSpPr>
          <p:spPr>
            <a:xfrm>
              <a:off x="2109240" y="3386520"/>
              <a:ext cx="18838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136,2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79"/>
            <p:cNvSpPr/>
            <p:nvPr/>
          </p:nvSpPr>
          <p:spPr>
            <a:xfrm>
              <a:off x="2109240" y="1712880"/>
              <a:ext cx="1883880" cy="16736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Costo actual Modelo Presenci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80"/>
            <p:cNvSpPr/>
            <p:nvPr/>
          </p:nvSpPr>
          <p:spPr>
            <a:xfrm>
              <a:off x="7684920" y="4786200"/>
              <a:ext cx="1287360" cy="699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$ 259,9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81"/>
            <p:cNvSpPr/>
            <p:nvPr/>
          </p:nvSpPr>
          <p:spPr>
            <a:xfrm>
              <a:off x="5877360" y="4786200"/>
              <a:ext cx="18075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387,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82"/>
            <p:cNvSpPr/>
            <p:nvPr/>
          </p:nvSpPr>
          <p:spPr>
            <a:xfrm>
              <a:off x="3993120" y="4786200"/>
              <a:ext cx="18842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65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83"/>
            <p:cNvSpPr/>
            <p:nvPr/>
          </p:nvSpPr>
          <p:spPr>
            <a:xfrm>
              <a:off x="193680" y="4786200"/>
              <a:ext cx="19155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sto por Participante (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84"/>
            <p:cNvSpPr/>
            <p:nvPr/>
          </p:nvSpPr>
          <p:spPr>
            <a:xfrm>
              <a:off x="7684920" y="3386520"/>
              <a:ext cx="1287360" cy="699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$ 808,2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85"/>
            <p:cNvSpPr/>
            <p:nvPr/>
          </p:nvSpPr>
          <p:spPr>
            <a:xfrm>
              <a:off x="5877360" y="3386520"/>
              <a:ext cx="18075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87,9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6"/>
            <p:cNvSpPr/>
            <p:nvPr/>
          </p:nvSpPr>
          <p:spPr>
            <a:xfrm>
              <a:off x="3993120" y="3386520"/>
              <a:ext cx="18842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$ 896,1 M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87"/>
            <p:cNvSpPr/>
            <p:nvPr/>
          </p:nvSpPr>
          <p:spPr>
            <a:xfrm>
              <a:off x="193680" y="3386520"/>
              <a:ext cx="19155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Inversión En Planta Físic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88"/>
            <p:cNvSpPr/>
            <p:nvPr/>
          </p:nvSpPr>
          <p:spPr>
            <a:xfrm>
              <a:off x="7684920" y="1712880"/>
              <a:ext cx="1287360" cy="16736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horros Ciber Robins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1er Millon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89"/>
            <p:cNvSpPr/>
            <p:nvPr/>
          </p:nvSpPr>
          <p:spPr>
            <a:xfrm>
              <a:off x="5877360" y="1712880"/>
              <a:ext cx="1807560" cy="16736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Costo Ciber Robinson  (Un Millón de Participant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90"/>
            <p:cNvSpPr/>
            <p:nvPr/>
          </p:nvSpPr>
          <p:spPr>
            <a:xfrm>
              <a:off x="3993120" y="1712880"/>
              <a:ext cx="1884240" cy="16736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s-ES_tradnl" sz="1900" spc="-1" strike="noStrike">
                  <a:solidFill>
                    <a:srgbClr val="ffffff"/>
                  </a:solidFill>
                  <a:latin typeface="Arial"/>
                </a:rPr>
                <a:t>Costo proyectado Modelo Presencial  (Un Millón de Participantes)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91"/>
            <p:cNvSpPr/>
            <p:nvPr/>
          </p:nvSpPr>
          <p:spPr>
            <a:xfrm>
              <a:off x="193680" y="1712880"/>
              <a:ext cx="1915560" cy="16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92"/>
            <p:cNvSpPr/>
            <p:nvPr/>
          </p:nvSpPr>
          <p:spPr>
            <a:xfrm>
              <a:off x="193680" y="3386520"/>
              <a:ext cx="8778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93"/>
            <p:cNvSpPr/>
            <p:nvPr/>
          </p:nvSpPr>
          <p:spPr>
            <a:xfrm>
              <a:off x="193680" y="4086360"/>
              <a:ext cx="8778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94"/>
            <p:cNvSpPr/>
            <p:nvPr/>
          </p:nvSpPr>
          <p:spPr>
            <a:xfrm>
              <a:off x="2109240" y="1712880"/>
              <a:ext cx="1440" cy="37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95"/>
            <p:cNvSpPr/>
            <p:nvPr/>
          </p:nvSpPr>
          <p:spPr>
            <a:xfrm>
              <a:off x="5877360" y="1712880"/>
              <a:ext cx="1080" cy="37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96"/>
            <p:cNvSpPr/>
            <p:nvPr/>
          </p:nvSpPr>
          <p:spPr>
            <a:xfrm>
              <a:off x="7684920" y="1712880"/>
              <a:ext cx="1440" cy="37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97"/>
            <p:cNvSpPr/>
            <p:nvPr/>
          </p:nvSpPr>
          <p:spPr>
            <a:xfrm>
              <a:off x="3993120" y="1712880"/>
              <a:ext cx="1440" cy="37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98"/>
            <p:cNvSpPr/>
            <p:nvPr/>
          </p:nvSpPr>
          <p:spPr>
            <a:xfrm>
              <a:off x="193680" y="4786200"/>
              <a:ext cx="87789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99"/>
            <p:cNvSpPr/>
            <p:nvPr/>
          </p:nvSpPr>
          <p:spPr>
            <a:xfrm>
              <a:off x="193680" y="1712880"/>
              <a:ext cx="8778960" cy="1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00"/>
            <p:cNvSpPr/>
            <p:nvPr/>
          </p:nvSpPr>
          <p:spPr>
            <a:xfrm>
              <a:off x="193680" y="1712880"/>
              <a:ext cx="1080" cy="3773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01"/>
            <p:cNvSpPr/>
            <p:nvPr/>
          </p:nvSpPr>
          <p:spPr>
            <a:xfrm>
              <a:off x="8972640" y="1712880"/>
              <a:ext cx="1080" cy="37731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02"/>
            <p:cNvSpPr/>
            <p:nvPr/>
          </p:nvSpPr>
          <p:spPr>
            <a:xfrm>
              <a:off x="193680" y="5486040"/>
              <a:ext cx="8778960" cy="14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heel spokes="3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403280" y="1700280"/>
            <a:ext cx="7129440" cy="35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8840" indent="-25884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365040"/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inversión del proyecto se recupera con los ahorros presupuestarios de tres años y cinco me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365040"/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icionalmente se evita invertir US$ 808,2 millones en planta fís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365040"/>
                <a:tab algn="l" pos="814320"/>
                <a:tab algn="l" pos="1263600"/>
                <a:tab algn="l" pos="1712880"/>
                <a:tab algn="l" pos="2162160"/>
                <a:tab algn="l" pos="2611440"/>
                <a:tab algn="l" pos="3060720"/>
                <a:tab algn="l" pos="3510000"/>
                <a:tab algn="l" pos="3959280"/>
                <a:tab algn="l" pos="4408560"/>
                <a:tab algn="l" pos="4857840"/>
                <a:tab algn="l" pos="5307120"/>
                <a:tab algn="l" pos="5756400"/>
                <a:tab algn="l" pos="6205680"/>
                <a:tab algn="l" pos="6654960"/>
                <a:tab algn="l" pos="7104240"/>
                <a:tab algn="l" pos="7553160"/>
                <a:tab algn="l" pos="8002440"/>
                <a:tab algn="l" pos="8451720"/>
                <a:tab algn="l" pos="8901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sto individual para el segundo millón de participantes se reducirá notablemente debido a que se utilizará la misma plataforma educativa construida por el Proyecto Ciber Robin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900000" y="548640"/>
            <a:ext cx="7715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USTIFICACIÓN ECONÓMICA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Basado en la UNES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755640" y="277920"/>
            <a:ext cx="7570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1332000" y="907920"/>
            <a:ext cx="7812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spcAft>
                <a:spcPts val="5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ara el País: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celerar la formación del Capital Humano para apuntalar nuestro desarrollo endógen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5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ara los bachilleres del paí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udiar y trabajar simultáneamen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udiar desde zonas distantes ahorrando tiempo, gastos de transporte, alimentación y hospedaje: Llevando la Universidad a la Comunida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5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ara las Universidades Aliadas: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Brindar mayores oportunidades de estudio a los participantes de bajos recursos económicos y de zonas distant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mpartir la Red Inter Universitaria y los contenidos educativos creando sinergia entre las Universidad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"/>
          <p:cNvSpPr/>
          <p:nvPr/>
        </p:nvSpPr>
        <p:spPr>
          <a:xfrm>
            <a:off x="1403280" y="260280"/>
            <a:ext cx="6562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476000" y="1052640"/>
            <a:ext cx="766764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sminuir significativamente la demanda estudiantil insatisfech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yecto técnicamente vi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cuenta con financiamiento exter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ermitirá formar a un millón de participant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reduce el costo por participante en un 39,6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ahorra US$ 808,2 millones en Planta Física y US$ 259,9 millones en costos operativos anu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reducirá significativamente el costo para el segundo millón de participantes al contar con una plataforma educativa inter universitaria construi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2400" indent="0">
              <a:lnSpc>
                <a:spcPct val="12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2360" y="403920"/>
            <a:ext cx="6192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TRODUC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050920" y="981000"/>
            <a:ext cx="568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104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s Universidades Aliadas s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584360" y="1535040"/>
            <a:ext cx="755964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niversidad Bolivariana de Venezuela (UBV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niversidad Latinoamericana del Caribe (ULAC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niversidad Nacional Experimental Marítima del Caribe (UMC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niversidad Nacional Experimental de la Fuerza Armada Nacional (UNEF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niversidad Nacional Experimental “Francisco de Miranda” (UNEFM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niversidad Nacional Experimental de Los Llanos Occidentales “Ezequiel Zamora” (UNELLEZ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1199"/>
              </a:spcAft>
              <a:tabLst>
                <a:tab algn="l" pos="0"/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35280" y="332640"/>
            <a:ext cx="6192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TRODUCCIÓ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484360" y="836640"/>
            <a:ext cx="6659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104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s Universidades Aliadas s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440000" y="1270080"/>
            <a:ext cx="7704000" cy="56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Nacional Experimental de Los Llanos Centrales “Rómulo Gallegos” (UNERG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Nacional Experimental “Rafael María Baralt” (UNERMB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Nacional Experimental “Simón Rodríguez” (UNES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Nacional Experimental Sur del Lago                                 “Jesús Maria Semprum” (UNESU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Nacional Experimental de Yaracuy (UNEY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Rafael Bellos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5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versidad Yacamb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-2826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541440"/>
                <a:tab algn="l" pos="988920"/>
                <a:tab algn="l" pos="1438200"/>
                <a:tab algn="l" pos="1887480"/>
                <a:tab algn="l" pos="2336760"/>
                <a:tab algn="l" pos="2786040"/>
                <a:tab algn="l" pos="3235320"/>
                <a:tab algn="l" pos="3684600"/>
                <a:tab algn="l" pos="4133880"/>
                <a:tab algn="l" pos="4583160"/>
                <a:tab algn="l" pos="5032440"/>
                <a:tab algn="l" pos="5481720"/>
                <a:tab algn="l" pos="5931000"/>
                <a:tab algn="l" pos="6380280"/>
                <a:tab algn="l" pos="6829560"/>
                <a:tab algn="l" pos="7278840"/>
                <a:tab algn="l" pos="7728120"/>
                <a:tab algn="l" pos="8177040"/>
                <a:tab algn="l" pos="8626320"/>
                <a:tab algn="l" pos="9075600"/>
                <a:tab algn="l" pos="9524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900000" y="189000"/>
            <a:ext cx="76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33"/>
          <p:cNvSpPr/>
          <p:nvPr/>
        </p:nvSpPr>
        <p:spPr>
          <a:xfrm>
            <a:off x="1330920" y="6021360"/>
            <a:ext cx="52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*) No incluye  a la UBV, ULAC, UNESU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1) PAE: Presupuesto asignado por estudi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4"/>
          <p:cNvSpPr/>
          <p:nvPr/>
        </p:nvSpPr>
        <p:spPr>
          <a:xfrm>
            <a:off x="2340000" y="1052640"/>
            <a:ext cx="482436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IFRAS DEL AÑO 20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6"/>
          <p:cNvSpPr/>
          <p:nvPr/>
        </p:nvSpPr>
        <p:spPr>
          <a:xfrm>
            <a:off x="0" y="4437000"/>
            <a:ext cx="219564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4"/>
          <p:cNvGrpSpPr/>
          <p:nvPr/>
        </p:nvGrpSpPr>
        <p:grpSpPr>
          <a:xfrm>
            <a:off x="539640" y="1844640"/>
            <a:ext cx="8229240" cy="3742920"/>
            <a:chOff x="539640" y="1844640"/>
            <a:chExt cx="8229240" cy="3742920"/>
          </a:xfrm>
        </p:grpSpPr>
        <p:sp>
          <p:nvSpPr>
            <p:cNvPr id="67" name="Rectangle 5"/>
            <p:cNvSpPr/>
            <p:nvPr/>
          </p:nvSpPr>
          <p:spPr>
            <a:xfrm>
              <a:off x="7331040" y="4673520"/>
              <a:ext cx="14364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55.3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6"/>
            <p:cNvSpPr/>
            <p:nvPr/>
          </p:nvSpPr>
          <p:spPr>
            <a:xfrm>
              <a:off x="4769280" y="4673520"/>
              <a:ext cx="25614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8.22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7"/>
            <p:cNvSpPr/>
            <p:nvPr/>
          </p:nvSpPr>
          <p:spPr>
            <a:xfrm>
              <a:off x="2326680" y="4673520"/>
              <a:ext cx="24426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4.85 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539640" y="4673520"/>
              <a:ext cx="1787040" cy="912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%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9"/>
            <p:cNvSpPr/>
            <p:nvPr/>
          </p:nvSpPr>
          <p:spPr>
            <a:xfrm>
              <a:off x="7331040" y="3764160"/>
              <a:ext cx="1436400" cy="9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2.6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0"/>
            <p:cNvSpPr/>
            <p:nvPr/>
          </p:nvSpPr>
          <p:spPr>
            <a:xfrm>
              <a:off x="4769280" y="3764160"/>
              <a:ext cx="2561400" cy="9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62.34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1"/>
            <p:cNvSpPr/>
            <p:nvPr/>
          </p:nvSpPr>
          <p:spPr>
            <a:xfrm>
              <a:off x="2326680" y="3764160"/>
              <a:ext cx="2442600" cy="9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60.93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2"/>
            <p:cNvSpPr/>
            <p:nvPr/>
          </p:nvSpPr>
          <p:spPr>
            <a:xfrm>
              <a:off x="539640" y="3764160"/>
              <a:ext cx="1787040" cy="909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RBO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3"/>
            <p:cNvSpPr/>
            <p:nvPr/>
          </p:nvSpPr>
          <p:spPr>
            <a:xfrm>
              <a:off x="7331040" y="2851920"/>
              <a:ext cx="1436400" cy="9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4.8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4"/>
            <p:cNvSpPr/>
            <p:nvPr/>
          </p:nvSpPr>
          <p:spPr>
            <a:xfrm>
              <a:off x="4769280" y="2851920"/>
              <a:ext cx="2561400" cy="9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1.973.1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5"/>
            <p:cNvSpPr/>
            <p:nvPr/>
          </p:nvSpPr>
          <p:spPr>
            <a:xfrm>
              <a:off x="2326680" y="2851920"/>
              <a:ext cx="2442600" cy="9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410.30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6"/>
            <p:cNvSpPr/>
            <p:nvPr/>
          </p:nvSpPr>
          <p:spPr>
            <a:xfrm>
              <a:off x="539640" y="2851920"/>
              <a:ext cx="1787040" cy="912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NACION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7"/>
            <p:cNvSpPr/>
            <p:nvPr/>
          </p:nvSpPr>
          <p:spPr>
            <a:xfrm>
              <a:off x="7331040" y="1844640"/>
              <a:ext cx="1436400" cy="1008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PAE </a:t>
              </a:r>
              <a:r>
                <a:rPr b="0" lang="en-GB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(1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8"/>
            <p:cNvSpPr/>
            <p:nvPr/>
          </p:nvSpPr>
          <p:spPr>
            <a:xfrm>
              <a:off x="4769280" y="1844640"/>
              <a:ext cx="2561400" cy="1008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PRESUPUESTO (MM Bs.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19"/>
            <p:cNvSpPr/>
            <p:nvPr/>
          </p:nvSpPr>
          <p:spPr>
            <a:xfrm>
              <a:off x="2326680" y="1844640"/>
              <a:ext cx="2442600" cy="1008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marL="339840" indent="-339840" algn="ctr">
                <a:lnSpc>
                  <a:spcPct val="100000"/>
                </a:lnSpc>
                <a:tabLst>
                  <a:tab algn="l" pos="0"/>
                  <a:tab algn="l" pos="339840"/>
                  <a:tab algn="l" pos="787320"/>
                  <a:tab algn="l" pos="1236600"/>
                  <a:tab algn="l" pos="1685880"/>
                  <a:tab algn="l" pos="2135160"/>
                  <a:tab algn="l" pos="2584440"/>
                  <a:tab algn="l" pos="3033720"/>
                  <a:tab algn="l" pos="3483000"/>
                  <a:tab algn="l" pos="3932280"/>
                  <a:tab algn="l" pos="4381560"/>
                  <a:tab algn="l" pos="4830840"/>
                  <a:tab algn="l" pos="5280120"/>
                  <a:tab algn="l" pos="5729400"/>
                  <a:tab algn="l" pos="6178680"/>
                  <a:tab algn="l" pos="6627960"/>
                  <a:tab algn="l" pos="7077240"/>
                  <a:tab algn="l" pos="7526160"/>
                  <a:tab algn="l" pos="7975440"/>
                  <a:tab algn="l" pos="8424720"/>
                  <a:tab algn="l" pos="8874000"/>
                  <a:tab algn="l" pos="93232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ESTUDIAN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0"/>
            <p:cNvSpPr/>
            <p:nvPr/>
          </p:nvSpPr>
          <p:spPr>
            <a:xfrm>
              <a:off x="539640" y="1844640"/>
              <a:ext cx="1787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Line 21"/>
            <p:cNvSpPr/>
            <p:nvPr/>
          </p:nvSpPr>
          <p:spPr>
            <a:xfrm>
              <a:off x="539640" y="1844640"/>
              <a:ext cx="17870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22"/>
            <p:cNvSpPr/>
            <p:nvPr/>
          </p:nvSpPr>
          <p:spPr>
            <a:xfrm>
              <a:off x="539640" y="5586480"/>
              <a:ext cx="8228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3"/>
            <p:cNvSpPr/>
            <p:nvPr/>
          </p:nvSpPr>
          <p:spPr>
            <a:xfrm>
              <a:off x="539640" y="1844640"/>
              <a:ext cx="1080" cy="100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24"/>
            <p:cNvSpPr/>
            <p:nvPr/>
          </p:nvSpPr>
          <p:spPr>
            <a:xfrm>
              <a:off x="8767800" y="1844640"/>
              <a:ext cx="1080" cy="374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25"/>
            <p:cNvSpPr/>
            <p:nvPr/>
          </p:nvSpPr>
          <p:spPr>
            <a:xfrm>
              <a:off x="2326680" y="1844640"/>
              <a:ext cx="6440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6"/>
            <p:cNvSpPr/>
            <p:nvPr/>
          </p:nvSpPr>
          <p:spPr>
            <a:xfrm>
              <a:off x="2326680" y="1844640"/>
              <a:ext cx="1440" cy="374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7"/>
            <p:cNvSpPr/>
            <p:nvPr/>
          </p:nvSpPr>
          <p:spPr>
            <a:xfrm>
              <a:off x="4769280" y="1844640"/>
              <a:ext cx="1080" cy="374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28"/>
            <p:cNvSpPr/>
            <p:nvPr/>
          </p:nvSpPr>
          <p:spPr>
            <a:xfrm>
              <a:off x="7331040" y="1844640"/>
              <a:ext cx="1440" cy="374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9"/>
            <p:cNvSpPr/>
            <p:nvPr/>
          </p:nvSpPr>
          <p:spPr>
            <a:xfrm>
              <a:off x="539640" y="2851920"/>
              <a:ext cx="8228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30"/>
            <p:cNvSpPr/>
            <p:nvPr/>
          </p:nvSpPr>
          <p:spPr>
            <a:xfrm>
              <a:off x="539640" y="3764160"/>
              <a:ext cx="822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31"/>
            <p:cNvSpPr/>
            <p:nvPr/>
          </p:nvSpPr>
          <p:spPr>
            <a:xfrm>
              <a:off x="539640" y="285192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32"/>
            <p:cNvSpPr/>
            <p:nvPr/>
          </p:nvSpPr>
          <p:spPr>
            <a:xfrm>
              <a:off x="539640" y="4673520"/>
              <a:ext cx="8228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108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5640" y="586080"/>
            <a:ext cx="7201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TECEDENTE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E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47280" y="1685520"/>
            <a:ext cx="7272360" cy="39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da el 24 de Enero de 197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ormada por 21 núcleos y 4 estaciones experimen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estructura de red para voz y datos que abarca 21 núcleos y 4 dependencias con cobertura en trece estados y el Distrito Fed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900 Facilita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3.315 Participantes (200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do de 152.000 participantes para el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18920" y="691200"/>
            <a:ext cx="62643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JUSTIFICACIÓN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2920" y="1341360"/>
            <a:ext cx="7272360" cy="43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60984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7192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MANDA ESTUDIANTIL INSATISFE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Aft>
                <a:spcPts val="901"/>
              </a:spcAft>
              <a:buNone/>
              <a:tabLst>
                <a:tab algn="l" pos="0"/>
                <a:tab algn="l" pos="7192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ás de dos millones de bachilleres proveniente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36760" indent="-5335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7192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so Nacional de Admisión 450.000 (Año 200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36760" indent="-5335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7192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siones Educativas 680.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36760" indent="-5335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7192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blación flotante 470.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36760" indent="-533520">
              <a:lnSpc>
                <a:spcPct val="100000"/>
              </a:lnSpc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71928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ertores de las distintas carreras de los Institutos Universitarios y Universidades 400.000 (estimad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63280" y="907200"/>
            <a:ext cx="62643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JUSTIFICACIÓN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32000" y="1557360"/>
            <a:ext cx="728352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cesidad de formar profesionales para apuntalar el Desarrollo Endóg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iabilidad económica de crecimiento con el Modelo Enseñanza- Aprendizaje Presen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rear una plataforma educativa compartida por las Universidades Ali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619920"/>
            <a:ext cx="70675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JUSTIFICACIÓN DEL PROY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6920" y="1197000"/>
            <a:ext cx="7417080" cy="39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iabilidad Económica del Modelo de Enseñanza - Aprendizaje Presencial para atender Un Millón de Estudiantes ya que se requeriría, solamente para la UNESR,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sión en Planta Física d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$ 896,1 mill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upuesto Anual de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$   657 mill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osorio</dc:creator>
  <dc:description/>
  <dc:language>en-US</dc:language>
  <cp:lastModifiedBy>WinuE</cp:lastModifiedBy>
  <dcterms:modified xsi:type="dcterms:W3CDTF">2008-04-07T15:49:30Z</dcterms:modified>
  <cp:revision>59</cp:revision>
  <dc:subject/>
  <dc:title>CIBER ROBINSON </dc:title>
</cp:coreProperties>
</file>