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1480" cy="34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30440"/>
            <a:ext cx="54831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658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760" y="8658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A559F-F192-42F7-A77C-FAE66493A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31535-4007-4191-91A2-CD30614B1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ualizada con las sugerencias derivadas de la reunión con los Representantes de ARBOL del 28-07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ltima revisión: 11-0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F4397-92F9-4357-A477-8887F6F4F9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60FC2-7E92-4D2B-B503-3E9E24E7E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4372F-2F09-481D-822B-158E75806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C8F10-30A4-426C-BC22-E8278892F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tar a la comunidad de la UNESR y de otras universidades públicas, de una plataforma de tecnología de información y comunicaciones que brinde servicios de información, los cuales le permita a la Universidad Nacional Experimental Simón Rodríguez convertirse en la principal fuente nacional para la educación de sus recursos humanos y la generación de conocimientos y soluciones, con el fin de acelerar el desarrollo de la República Bolivariana de Venezue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3165A-377E-4B68-976D-84E490C3A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8840D-2092-458C-B412-572944250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8BA1D-F1BA-43C4-956D-F7C893BAAA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94126-C237-403C-A7EB-D53C554BC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84447-29F4-427D-8600-24FD68C4F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31226-5DE9-40F6-9E7F-06EC14ABB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7EFD9-F498-434E-A233-6C271FF76E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5691C-80CC-46A8-8A22-3F461DBED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56F5B-C7BB-4E7C-9627-35BFE4CC3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6902E-7D62-4170-B9B4-3CA6E0BBE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C0EB7-D268-45CD-AF76-4E3C38DBD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898BB-1308-4D20-A735-4CD001610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42F7D-D883-48CA-A7BB-F329B1FF7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56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pacio Físico Adicional Requerido para EAD = 255.990 M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gister Robinsoniano 48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R 5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UNESR $60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FIEC  $7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Misión Cultura $5.6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tal Presupuest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$74.4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sto por participant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= Presupuesto total ($74,4) / Nº participantes (113.315) = $656,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supuesto EAD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= Costo del Proyecto (880,0-Espacio Físico (87,9) entre 3 años + Costo de Personal (123,1)= 264+123,1= $387,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LANTA FÍSICA REQUERIDA EAD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87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sto de Persona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de soporte= 515.000 (sueldo minimo mensual)*16 meses= 8,24 millones *7361 (numero de personas)= bs 60,7 millardos / $28,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docente= 2000.000 (Sueldo mensual)*16 meses = 32 millones * 5000 docentes = bs 160 millardos / $74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complementario 20% = (soporte (28,2) + docente (74,4))*0.2= 102,6*0,2= 2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tal personal = soporte ($28,2 mm) + docente ($74,4 mm) + complementario ($20,5 MM) = $ 123,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4A14B-691E-4F53-9035-F05913F6E6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0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pacio Físico Adicional Requerido para EAD = 255.990 M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ister Robinsoniano 48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 5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upuesto 60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upuesto EA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60,9 (Presupuesto Actual) + Costo del Proyecto (770,0-Espacio Físico (53,8) entre 3 años= 60,9+239,0= 299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TA FÍSICA REQUERIDA EAD =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6,2 (PLANTA F ACTUAL) + 53,8 (ESPACIO ADICIONAL EAD)=19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 dar cabida a los 900 mil estudiantes adicionales en el modelo presencial, se estima un crecimiento de 10 veces la Planta Física. Planta Física Proyectada= Plan F Actual *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horro en Planta Física= inversión adicional modelo presencial (759,9) – inversión ciber robinson (87,9)=6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90F76-B9AC-4179-8656-6CD3BC6CC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13CA8-AFCE-43AC-B888-DFC6A6F11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1991B-5B7F-4427-8786-AACEA08E3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27503-7C2F-4749-B89A-A7FE6B998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F4AC9-471E-4D48-BED6-92DBF39E3F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B63CC-539C-450E-8823-1B2963074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5941B-759E-4338-8F8D-8E9B152E2D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B521E-761A-4C27-BCB3-6E15948A6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A880F-F798-44EF-B531-3D0A04737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BAB6-BB71-4F9D-B92A-38485F8BC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068E-1770-4E22-9005-34330138A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2AED-1611-42C7-A163-67236A2CF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8A5A-D339-4FD8-A25B-B070EBB761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540E-AF86-4155-B1D3-CC78BDB5D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3ED5-C8B1-41A2-B824-6EB091BBD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F9CD-A102-48DF-89A6-FC337B9FC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F9C8-BE38-4740-9772-6B7EB41D6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01520"/>
            <a:ext cx="728028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F61D-0148-4FB8-9A8B-6D542A295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472F-FE9C-4E1D-8663-05B73D740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47C4-AC59-418A-A89E-A302AD4F0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5EC2-470A-48E7-8017-B9212801A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48FABE-9D3B-4D2E-87D6-7A13006E17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11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YECTO CIBER ROBI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476360" y="62064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ÚBLICA BOLIVARIANA DE VENEZUEL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VERSIDAD NACIONAL EXPERIMEN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ÓN RODRÍGU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OCIACIÓN DE RECT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 LAS UNIVERSIDADES BOLIVARIAN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34360" y="5969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. 11-08-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619920"/>
            <a:ext cx="6827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70436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enseñanza-aprendizaje andragógico: El Facilitador orienta al Particip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tenciar y/o crear nuevos roles de los Facilitad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ar, actualizar y mejorar los programas y contenidos educ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uiar al participante durante su formación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gíster Robinsonian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923760" y="765000"/>
            <a:ext cx="82202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OL DEL MAGISTER ROBINSONIANO (M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224000" y="1484280"/>
            <a:ext cx="7920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uiar al participante en la selección de la carre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yudarlo en la conformación de su programa de estud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tener soporte de los especialistas de conoci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stionar la obtención de cursos requeridos por el participante no disponibles en la univers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tender un estimado de 200 participan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32000" y="332640"/>
            <a:ext cx="682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684360" y="836640"/>
            <a:ext cx="7715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CNOLOGIA DE EDUCACIÓN A DISTAN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476360" y="1484280"/>
            <a:ext cx="7273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rnos en la etapa de desarrollo de Nivel IV, de acuerdo al  Instituto de Educación Superior  de América Latina y el Caribe (IESALC-UNESCO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ucturas curriculares multi-ru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s pedagógicos auto-dirig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os y materiales modulares de aprendiza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idación del aprendizaje mediante test y tutores    electrónicos y la interacción con facilit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2560" y="59976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ente: Informe sobre la Educación Superior en América La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y el Caribe 2000 - 2005, p.5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16000" y="332640"/>
            <a:ext cx="682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5640" y="1298520"/>
            <a:ext cx="460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04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tar a la Comunidad de las Universidades Aliadas, de una Red Inter Universitaria de Tecnología Educativa para atender progresivamente un millón de participantes en mil carreras, en un lapso de dos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2920" y="1125360"/>
            <a:ext cx="74898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mpartir Educación a Distancia (EAD) para un millón de participantes, en especial de bajos recursos económicos en el lapso de dos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otar con 691.781 PCs para participantes, personal docente, administrativo y obrero y salas virtu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ir la plataforma tecnológica para la Red Educativa Inter Universitaria (servidores, redes, estaciones de trabajo, imprenta y TV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ir y/o adecuar las instalaciones físicas  para 7.361 Salas Virtu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640" y="475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1280" y="1268280"/>
            <a:ext cx="7632720" cy="49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dquirir, desarrollar y adaptar el Software de contenido educativo (materiales auto instruccionales) , para mil carreras y un total de 60 mil cursos virtuales, así como los Sistemas Administrativos, de Gestión, Control de Estudios y Bibliote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ar la sede del Centro de Tecnología Educativa y Servicios de Información (CETES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iseñar las estructuras organizativas y los procesos docente – administrat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pacitar al Capital Huma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spcAft>
                <a:spcPts val="1624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9640" y="691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72738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lnSpc>
                <a:spcPct val="100000"/>
              </a:lnSpc>
              <a:spcBef>
                <a:spcPts val="326"/>
              </a:spcBef>
              <a:spcAft>
                <a:spcPts val="9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ecnología Educ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tilizarán tecnologías educativas existentes y probadas en el ámbito Nacional e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de las universidades aliadas ya tienen años de experiencia en Educación a Dista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sarrollo de los Contenidos Educ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Universidades Aliadas poseen un amplio plantel docente  con potencial para el desarrollo de contenido educ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de las universidades aliadas cuentan con personal especializado en el área para capacitar a otros facilitadores y prepar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6000" y="907560"/>
            <a:ext cx="7201080" cy="51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uncionamiento y mantenimiento de la plataforma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ción del CETESI para asegurar la operatividad de la nueva plata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erencia tecnológica de la República Popular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ntará con un inventario adecuado de partes y suministros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spacios fís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 espacio total requerido, sólo el 10% será intramuros. El 90% restante será extramuros (Alcaldías, Bibliotecas regionales, Escuelas, Liceos, Mision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5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92000" y="907920"/>
            <a:ext cx="705636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yo económico de la República Popular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quisición y/o ensamblaje local de computadoras personales a bajo c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 de los participantes de conseguir financiamiento de computadoras personales a través de créditos sociales, lo cual disminuiría la inversión total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amiento en base a la Ley Organica de Ciencia, Tecnología e Ino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00000" y="260280"/>
            <a:ext cx="7726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79280" y="4365720"/>
            <a:ext cx="18716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704880" y="1003320"/>
            <a:ext cx="8064000" cy="4608000"/>
            <a:chOff x="704880" y="1003320"/>
            <a:chExt cx="8064000" cy="4608000"/>
          </a:xfrm>
        </p:grpSpPr>
        <p:sp>
          <p:nvSpPr>
            <p:cNvPr id="127" name="Rectangle 5"/>
            <p:cNvSpPr/>
            <p:nvPr/>
          </p:nvSpPr>
          <p:spPr>
            <a:xfrm>
              <a:off x="6751800" y="2382120"/>
              <a:ext cx="201528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6751800" y="1003320"/>
              <a:ext cx="201528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296520" y="2382120"/>
              <a:ext cx="345492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Ingeniería de detalle del proyecto elaborada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yecto aprobado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ontrato de préstamo aprobado.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Al menos una nueva carrera piloto de EAD en funcionamiento con la Plataforma actua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1615680" y="2382120"/>
              <a:ext cx="168048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Anteproyect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704880" y="2382120"/>
              <a:ext cx="91080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296520" y="1003320"/>
              <a:ext cx="345492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1615680" y="1003320"/>
              <a:ext cx="168048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704880" y="1003320"/>
              <a:ext cx="91080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704880" y="2382120"/>
              <a:ext cx="8062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1615680" y="1003320"/>
              <a:ext cx="144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3296520" y="1003320"/>
              <a:ext cx="144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6751800" y="1003320"/>
              <a:ext cx="108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704880" y="1003320"/>
              <a:ext cx="1080" cy="4606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04880" y="1003320"/>
              <a:ext cx="806256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8767440" y="1003320"/>
              <a:ext cx="1440" cy="4606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04880" y="5609880"/>
              <a:ext cx="806256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84528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Proyecto Ciber Robinson nace de la iniciativa del Dr. Manuel Mariña Müller, Rector de la Universidad Nacional Experimental Simón Rodríguez  y es acogido por la Asociación de Rectores Bolivarianos (ARBOL) para ser desarrollado en alianza con las Universidades representadas por dicha Asoci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66680" y="4653000"/>
            <a:ext cx="18828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24000" y="981000"/>
            <a:ext cx="8446680" cy="4895640"/>
            <a:chOff x="324000" y="981000"/>
            <a:chExt cx="8446680" cy="4895640"/>
          </a:xfrm>
        </p:grpSpPr>
        <p:sp>
          <p:nvSpPr>
            <p:cNvPr id="146" name="Rectangle 5"/>
            <p:cNvSpPr/>
            <p:nvPr/>
          </p:nvSpPr>
          <p:spPr>
            <a:xfrm>
              <a:off x="7020000" y="2009520"/>
              <a:ext cx="174924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5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7020000" y="981000"/>
              <a:ext cx="174924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3276000" y="2009520"/>
              <a:ext cx="374400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.000 nuevos participantes EAD en la plataforma actual.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ETESI construid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alas virtuales para el 2008 habilitada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taforma tecnológica para operar en el 2008 instalada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nido educativo para la EAD del 2008 disponible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1404720" y="2009520"/>
              <a:ext cx="187128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324000" y="2009520"/>
              <a:ext cx="108072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3276000" y="981000"/>
              <a:ext cx="374400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1404720" y="981000"/>
              <a:ext cx="187128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324000" y="981000"/>
              <a:ext cx="108072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324000" y="981000"/>
              <a:ext cx="844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324000" y="2009520"/>
              <a:ext cx="844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324000" y="5875560"/>
              <a:ext cx="844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324000" y="981000"/>
              <a:ext cx="1080" cy="489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04720" y="981000"/>
              <a:ext cx="108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276000" y="981000"/>
              <a:ext cx="108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8769600" y="981000"/>
              <a:ext cx="1080" cy="489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020000" y="981000"/>
              <a:ext cx="144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539640" y="333360"/>
            <a:ext cx="808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6440" y="4581360"/>
            <a:ext cx="20592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395280" y="981000"/>
            <a:ext cx="8206920" cy="4535280"/>
            <a:chOff x="395280" y="981000"/>
            <a:chExt cx="8206920" cy="4535280"/>
          </a:xfrm>
        </p:grpSpPr>
        <p:sp>
          <p:nvSpPr>
            <p:cNvPr id="165" name="Rectangle 5"/>
            <p:cNvSpPr/>
            <p:nvPr/>
          </p:nvSpPr>
          <p:spPr>
            <a:xfrm>
              <a:off x="6811920" y="2008080"/>
              <a:ext cx="17884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6811920" y="981000"/>
              <a:ext cx="178848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2855160" y="2008080"/>
              <a:ext cx="395640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230.000 participantes adicionales de EAD en salas virtuales para un total de 250.000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250.000 participantes adicionales de EAD con PCs en sus hogares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Total participantes 500.000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300 nuevas carreras EAD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302840" y="2008080"/>
              <a:ext cx="15523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peración con la nueva plataform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395280" y="2008080"/>
              <a:ext cx="90756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2855160" y="981000"/>
              <a:ext cx="395640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1302840" y="981000"/>
              <a:ext cx="155232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95280" y="981000"/>
              <a:ext cx="90756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395280" y="98100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395280" y="981000"/>
              <a:ext cx="1080" cy="10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>
              <a:off x="1302840" y="981000"/>
              <a:ext cx="144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2855160" y="981000"/>
              <a:ext cx="108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8600760" y="981000"/>
              <a:ext cx="1440" cy="10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6811920" y="981000"/>
              <a:ext cx="144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95280" y="2008080"/>
              <a:ext cx="1080" cy="3506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95280" y="2008080"/>
              <a:ext cx="820548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395280" y="5515200"/>
              <a:ext cx="820548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8600760" y="2008080"/>
              <a:ext cx="1440" cy="3506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8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0" y="981000"/>
            <a:ext cx="8966160" cy="4680000"/>
            <a:chOff x="0" y="981000"/>
            <a:chExt cx="8966160" cy="4680000"/>
          </a:xfrm>
        </p:grpSpPr>
        <p:sp>
          <p:nvSpPr>
            <p:cNvPr id="185" name="Rectangle 4"/>
            <p:cNvSpPr/>
            <p:nvPr/>
          </p:nvSpPr>
          <p:spPr>
            <a:xfrm>
              <a:off x="0" y="4363920"/>
              <a:ext cx="187164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7286760" y="2106720"/>
              <a:ext cx="167796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7286760" y="1052640"/>
              <a:ext cx="167796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2916360" y="2106720"/>
              <a:ext cx="437040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250.000 participantes adicionales de EAD en salas virtuales para un total de 500.00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250.000 participantes adicionales de EAD con PCs en sus hogares para un total de 500.00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otal Participantes: 1 Mill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700 nuevas carreras EAD para un total de 1.000 carreras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1309680" y="2106720"/>
              <a:ext cx="182232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recimiento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6200" y="2106720"/>
              <a:ext cx="93348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3132000" y="1052640"/>
              <a:ext cx="415476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1309680" y="1052640"/>
              <a:ext cx="182232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376200" y="1052640"/>
              <a:ext cx="93348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376200" y="1052640"/>
              <a:ext cx="8588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376200" y="1052640"/>
              <a:ext cx="1800" cy="10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1297080" y="105264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>
              <a:off x="2916360" y="9810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>
              <a:off x="8964720" y="1052640"/>
              <a:ext cx="1440" cy="10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7488360" y="105264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>
              <a:off x="376200" y="2106720"/>
              <a:ext cx="1800" cy="3305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>
              <a:off x="376200" y="2106720"/>
              <a:ext cx="858852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>
              <a:off x="376200" y="5411880"/>
              <a:ext cx="858852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>
              <a:off x="8964720" y="2106720"/>
              <a:ext cx="1440" cy="3305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2920" y="386280"/>
            <a:ext cx="7280280" cy="9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INANCIAMIENTO DEL PROYECTO</a:t>
            </a: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llon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 US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08000" y="1341360"/>
          <a:ext cx="6858000" cy="4173480"/>
        </p:xfrm>
        <a:graphic>
          <a:graphicData uri="http://schemas.openxmlformats.org/drawingml/2006/table">
            <a:tbl>
              <a:tblPr/>
              <a:tblGrid>
                <a:gridCol w="1714680"/>
                <a:gridCol w="2101680"/>
                <a:gridCol w="1511640"/>
                <a:gridCol w="1530000"/>
              </a:tblGrid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mbank 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8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3920"/>
            <a:ext cx="8066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QUERIMIENTO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1187280" y="1197000"/>
            <a:ext cx="7561080" cy="3534840"/>
            <a:chOff x="1187280" y="1197000"/>
            <a:chExt cx="7561080" cy="3534840"/>
          </a:xfrm>
        </p:grpSpPr>
        <p:sp>
          <p:nvSpPr>
            <p:cNvPr id="208" name="Rectangle 3"/>
            <p:cNvSpPr/>
            <p:nvPr/>
          </p:nvSpPr>
          <p:spPr>
            <a:xfrm>
              <a:off x="6064560" y="3938760"/>
              <a:ext cx="26823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7,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2244240" y="3938760"/>
              <a:ext cx="38199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r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1187280" y="3938760"/>
              <a:ext cx="10569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6064560" y="4303440"/>
              <a:ext cx="26823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880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2244240" y="4303440"/>
              <a:ext cx="38199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1187280" y="4303440"/>
              <a:ext cx="10569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6064560" y="3538800"/>
              <a:ext cx="2682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,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244240" y="3538800"/>
              <a:ext cx="38199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ETES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1187280" y="3538800"/>
              <a:ext cx="10569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64560" y="3173760"/>
              <a:ext cx="26823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22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244240" y="3173760"/>
              <a:ext cx="38199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lataforma tecnológ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1187280" y="3173760"/>
              <a:ext cx="10569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6064560" y="2808720"/>
              <a:ext cx="2682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7,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2244240" y="2808720"/>
              <a:ext cx="3819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raestructura fís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7"/>
            <p:cNvSpPr/>
            <p:nvPr/>
          </p:nvSpPr>
          <p:spPr>
            <a:xfrm>
              <a:off x="1187280" y="2808720"/>
              <a:ext cx="1056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6064560" y="2169360"/>
              <a:ext cx="26823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4,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2244240" y="2169360"/>
              <a:ext cx="38199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ftware de contenido educativo y de servic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1187280" y="2169360"/>
              <a:ext cx="10569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6064560" y="1804680"/>
              <a:ext cx="2682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69.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2"/>
            <p:cNvSpPr/>
            <p:nvPr/>
          </p:nvSpPr>
          <p:spPr>
            <a:xfrm>
              <a:off x="2244240" y="1804680"/>
              <a:ext cx="3819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Cs y periféric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1187280" y="1804680"/>
              <a:ext cx="1056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4"/>
            <p:cNvSpPr/>
            <p:nvPr/>
          </p:nvSpPr>
          <p:spPr>
            <a:xfrm>
              <a:off x="6064560" y="1197000"/>
              <a:ext cx="26823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INVERSIÓN ESTIMADA (MILLONES $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2244240" y="1197000"/>
              <a:ext cx="38199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DESCRIPCIÓ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1187280" y="1197000"/>
              <a:ext cx="10569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ÁREA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1187280" y="1197000"/>
              <a:ext cx="75600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1187280" y="180468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>
              <a:off x="1187280" y="216936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1187280" y="280872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>
              <a:off x="1187280" y="317376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1187280" y="353880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1187280" y="393876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34"/>
            <p:cNvSpPr/>
            <p:nvPr/>
          </p:nvSpPr>
          <p:spPr>
            <a:xfrm>
              <a:off x="1187280" y="4730400"/>
              <a:ext cx="756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35"/>
            <p:cNvSpPr/>
            <p:nvPr/>
          </p:nvSpPr>
          <p:spPr>
            <a:xfrm>
              <a:off x="1187280" y="1197000"/>
              <a:ext cx="1080" cy="35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36"/>
            <p:cNvSpPr/>
            <p:nvPr/>
          </p:nvSpPr>
          <p:spPr>
            <a:xfrm>
              <a:off x="2244240" y="1197000"/>
              <a:ext cx="1080" cy="35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37"/>
            <p:cNvSpPr/>
            <p:nvPr/>
          </p:nvSpPr>
          <p:spPr>
            <a:xfrm>
              <a:off x="6064560" y="1197000"/>
              <a:ext cx="1440" cy="35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38"/>
            <p:cNvSpPr/>
            <p:nvPr/>
          </p:nvSpPr>
          <p:spPr>
            <a:xfrm>
              <a:off x="8747280" y="1197000"/>
              <a:ext cx="1080" cy="35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>
              <a:off x="1187280" y="430344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Text Box 40"/>
          <p:cNvSpPr/>
          <p:nvPr/>
        </p:nvSpPr>
        <p:spPr>
          <a:xfrm>
            <a:off x="1655640" y="4797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 monto total del Proyecto puede bajar a US$ 630,0 millones, sí los PCs de los participantes son financiados por la Banca o Ente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17236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IFICACIÓN ECONÓMICA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asado en la UNE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179280" y="4365720"/>
            <a:ext cx="18716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71"/>
          <p:cNvGrpSpPr/>
          <p:nvPr/>
        </p:nvGrpSpPr>
        <p:grpSpPr>
          <a:xfrm>
            <a:off x="193680" y="1712880"/>
            <a:ext cx="8780040" cy="3774600"/>
            <a:chOff x="193680" y="1712880"/>
            <a:chExt cx="8780040" cy="3774600"/>
          </a:xfrm>
        </p:grpSpPr>
        <p:sp>
          <p:nvSpPr>
            <p:cNvPr id="249" name="Rectangle 72"/>
            <p:cNvSpPr/>
            <p:nvPr/>
          </p:nvSpPr>
          <p:spPr>
            <a:xfrm>
              <a:off x="7684920" y="4086360"/>
              <a:ext cx="1287360" cy="69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9,9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73"/>
            <p:cNvSpPr/>
            <p:nvPr/>
          </p:nvSpPr>
          <p:spPr>
            <a:xfrm>
              <a:off x="5877360" y="4086360"/>
              <a:ext cx="1807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387,1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4"/>
            <p:cNvSpPr/>
            <p:nvPr/>
          </p:nvSpPr>
          <p:spPr>
            <a:xfrm>
              <a:off x="3993120" y="4086360"/>
              <a:ext cx="1884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75"/>
            <p:cNvSpPr/>
            <p:nvPr/>
          </p:nvSpPr>
          <p:spPr>
            <a:xfrm>
              <a:off x="2109240" y="4086360"/>
              <a:ext cx="1883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74,4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76"/>
            <p:cNvSpPr/>
            <p:nvPr/>
          </p:nvSpPr>
          <p:spPr>
            <a:xfrm>
              <a:off x="193680" y="4086360"/>
              <a:ext cx="1915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sto Operat. Anu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77"/>
            <p:cNvSpPr/>
            <p:nvPr/>
          </p:nvSpPr>
          <p:spPr>
            <a:xfrm>
              <a:off x="2109240" y="4786200"/>
              <a:ext cx="18838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78"/>
            <p:cNvSpPr/>
            <p:nvPr/>
          </p:nvSpPr>
          <p:spPr>
            <a:xfrm>
              <a:off x="2109240" y="3386520"/>
              <a:ext cx="1883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136,2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79"/>
            <p:cNvSpPr/>
            <p:nvPr/>
          </p:nvSpPr>
          <p:spPr>
            <a:xfrm>
              <a:off x="2109240" y="1712880"/>
              <a:ext cx="188388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osto actual Modelo Presen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80"/>
            <p:cNvSpPr/>
            <p:nvPr/>
          </p:nvSpPr>
          <p:spPr>
            <a:xfrm>
              <a:off x="7684920" y="4786200"/>
              <a:ext cx="1287360" cy="69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9,9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1"/>
            <p:cNvSpPr/>
            <p:nvPr/>
          </p:nvSpPr>
          <p:spPr>
            <a:xfrm>
              <a:off x="5877360" y="4786200"/>
              <a:ext cx="1807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387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82"/>
            <p:cNvSpPr/>
            <p:nvPr/>
          </p:nvSpPr>
          <p:spPr>
            <a:xfrm>
              <a:off x="3993120" y="4786200"/>
              <a:ext cx="18842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83"/>
            <p:cNvSpPr/>
            <p:nvPr/>
          </p:nvSpPr>
          <p:spPr>
            <a:xfrm>
              <a:off x="193680" y="4786200"/>
              <a:ext cx="1915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sto por Participante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84"/>
            <p:cNvSpPr/>
            <p:nvPr/>
          </p:nvSpPr>
          <p:spPr>
            <a:xfrm>
              <a:off x="7684920" y="3386520"/>
              <a:ext cx="1287360" cy="69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808,2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85"/>
            <p:cNvSpPr/>
            <p:nvPr/>
          </p:nvSpPr>
          <p:spPr>
            <a:xfrm>
              <a:off x="5877360" y="3386520"/>
              <a:ext cx="1807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87,9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6"/>
            <p:cNvSpPr/>
            <p:nvPr/>
          </p:nvSpPr>
          <p:spPr>
            <a:xfrm>
              <a:off x="3993120" y="3386520"/>
              <a:ext cx="1884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896,1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87"/>
            <p:cNvSpPr/>
            <p:nvPr/>
          </p:nvSpPr>
          <p:spPr>
            <a:xfrm>
              <a:off x="193680" y="3386520"/>
              <a:ext cx="1915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nversión En Planta Fís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88"/>
            <p:cNvSpPr/>
            <p:nvPr/>
          </p:nvSpPr>
          <p:spPr>
            <a:xfrm>
              <a:off x="7684920" y="1712880"/>
              <a:ext cx="1287360" cy="1673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horros Ciber Robins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1er Millo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89"/>
            <p:cNvSpPr/>
            <p:nvPr/>
          </p:nvSpPr>
          <p:spPr>
            <a:xfrm>
              <a:off x="5877360" y="1712880"/>
              <a:ext cx="180756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osto Ciber Robinson  (Un Millón de Participant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90"/>
            <p:cNvSpPr/>
            <p:nvPr/>
          </p:nvSpPr>
          <p:spPr>
            <a:xfrm>
              <a:off x="3993120" y="1712880"/>
              <a:ext cx="188424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1900" spc="-1" strike="noStrike">
                  <a:solidFill>
                    <a:srgbClr val="ffffff"/>
                  </a:solidFill>
                  <a:latin typeface="Arial"/>
                </a:rPr>
                <a:t>Costo proyectado Modelo Presencial  (Un Millón de Participantes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91"/>
            <p:cNvSpPr/>
            <p:nvPr/>
          </p:nvSpPr>
          <p:spPr>
            <a:xfrm>
              <a:off x="193680" y="1712880"/>
              <a:ext cx="19155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92"/>
            <p:cNvSpPr/>
            <p:nvPr/>
          </p:nvSpPr>
          <p:spPr>
            <a:xfrm>
              <a:off x="193680" y="3386520"/>
              <a:ext cx="877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93"/>
            <p:cNvSpPr/>
            <p:nvPr/>
          </p:nvSpPr>
          <p:spPr>
            <a:xfrm>
              <a:off x="193680" y="4086360"/>
              <a:ext cx="8778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94"/>
            <p:cNvSpPr/>
            <p:nvPr/>
          </p:nvSpPr>
          <p:spPr>
            <a:xfrm>
              <a:off x="210924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95"/>
            <p:cNvSpPr/>
            <p:nvPr/>
          </p:nvSpPr>
          <p:spPr>
            <a:xfrm>
              <a:off x="5877360" y="1712880"/>
              <a:ext cx="108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96"/>
            <p:cNvSpPr/>
            <p:nvPr/>
          </p:nvSpPr>
          <p:spPr>
            <a:xfrm>
              <a:off x="768492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97"/>
            <p:cNvSpPr/>
            <p:nvPr/>
          </p:nvSpPr>
          <p:spPr>
            <a:xfrm>
              <a:off x="399312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98"/>
            <p:cNvSpPr/>
            <p:nvPr/>
          </p:nvSpPr>
          <p:spPr>
            <a:xfrm>
              <a:off x="193680" y="4786200"/>
              <a:ext cx="8778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99"/>
            <p:cNvSpPr/>
            <p:nvPr/>
          </p:nvSpPr>
          <p:spPr>
            <a:xfrm>
              <a:off x="193680" y="1712880"/>
              <a:ext cx="877896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00"/>
            <p:cNvSpPr/>
            <p:nvPr/>
          </p:nvSpPr>
          <p:spPr>
            <a:xfrm>
              <a:off x="193680" y="1712880"/>
              <a:ext cx="1080" cy="377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01"/>
            <p:cNvSpPr/>
            <p:nvPr/>
          </p:nvSpPr>
          <p:spPr>
            <a:xfrm>
              <a:off x="8972640" y="1712880"/>
              <a:ext cx="1080" cy="377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02"/>
            <p:cNvSpPr/>
            <p:nvPr/>
          </p:nvSpPr>
          <p:spPr>
            <a:xfrm>
              <a:off x="193680" y="5486040"/>
              <a:ext cx="877896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712944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versión del proyecto se recupera con los ahorros presupuestarios de tres años y cinco m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almente se evita invertir US$ 808,2 millones en planta fís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sto individual para el segundo millón de participantes se reducirá notablemente debido a que se utilizará la misma plataforma educativa construida por el Proyecto Ciber Robi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900000" y="548640"/>
            <a:ext cx="7715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USTIFICACIÓN ECONÓMICA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asado en la UNE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755640" y="277920"/>
            <a:ext cx="7570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332000" y="907920"/>
            <a:ext cx="7812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el Paí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elerar la formación del Capital Humano para apuntalar nuestro desarrollo endóge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los bachilleres del paí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ar y trabajar simultáneam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ar desde zonas distantes ahorrando tiempo, gastos de transporte, alimentación y hospedaje: Llevando la Universidad a la Comunid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las Universidades Aliada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indar mayores oportunidades de estudio a los participantes de bajos recursos económicos y de zonas dista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partir la Red Inter Universitaria y los contenidos educativos creando sinergia entre las Universidad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1403280" y="260280"/>
            <a:ext cx="6562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ir significativamente la demanda estudiantil insatisfech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yecto técnicamente v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uenta con financiamiento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á formar a un millón de participan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reduce el costo por participante en un 39,6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ahorra US$ 808,2 millones en Planta Física y US$ 259,9 millones en costos operativos anu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reducirá significativamente el costo para el segundo millón de participantes al contar con una plataforma educativa inter universitaria constru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40392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50920" y="981000"/>
            <a:ext cx="568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s Universidades Aliadas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84360" y="1535040"/>
            <a:ext cx="755964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Bolivariana de Venezuela (UBV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Latinoamericana del Caribe (ULA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Marítima del Caribe (UM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de la Fuerza Armada Nacional (UNEF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“Francisco de Miranda” (UNEF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de Los Llanos Occidentales “Ezequiel Zamora” (UNELLEZ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5280" y="33264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484360" y="836640"/>
            <a:ext cx="665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s Universidades Aliadas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0000" y="1270080"/>
            <a:ext cx="7704000" cy="56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de Los Llanos Centrales “Rómulo Gallegos” (UNER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“Rafael María Baralt” (UNERM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“Simón Rodríguez” (UNES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Sur del Lago                                 “Jesús Maria Semprum” (UNESU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de Yaracuy (UNE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Rafael Bellos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Yacamb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900000" y="18900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330920" y="6021360"/>
            <a:ext cx="52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*) No incluye  a la UBV, ULAC, UNE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1) PAE: Presupuesto asignado por estudi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2340000" y="1052640"/>
            <a:ext cx="4824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IFRAS DEL AÑO 2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0" y="4437000"/>
            <a:ext cx="219564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9640" y="1844640"/>
            <a:ext cx="8229240" cy="3742920"/>
            <a:chOff x="539640" y="1844640"/>
            <a:chExt cx="8229240" cy="3742920"/>
          </a:xfrm>
        </p:grpSpPr>
        <p:sp>
          <p:nvSpPr>
            <p:cNvPr id="67" name="Rectangle 5"/>
            <p:cNvSpPr/>
            <p:nvPr/>
          </p:nvSpPr>
          <p:spPr>
            <a:xfrm>
              <a:off x="7331040" y="4673520"/>
              <a:ext cx="1436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55.3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4769280" y="4673520"/>
              <a:ext cx="2561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8.22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2326680" y="4673520"/>
              <a:ext cx="24426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4.85 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539640" y="4673520"/>
              <a:ext cx="1787040" cy="91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7331040" y="3764160"/>
              <a:ext cx="14364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.6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4769280" y="3764160"/>
              <a:ext cx="25614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62.34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2326680" y="3764160"/>
              <a:ext cx="24426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0.93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539640" y="3764160"/>
              <a:ext cx="1787040" cy="909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RB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7331040" y="2851920"/>
              <a:ext cx="14364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.8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4769280" y="2851920"/>
              <a:ext cx="25614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.973.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2326680" y="2851920"/>
              <a:ext cx="24426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10.3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39640" y="2851920"/>
              <a:ext cx="1787040" cy="912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A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7331040" y="1844640"/>
              <a:ext cx="14364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PAE </a:t>
              </a:r>
              <a:r>
                <a:rPr b="0" lang="en-GB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1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769280" y="1844640"/>
              <a:ext cx="25614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PRESUPUESTO (MM Bs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2326680" y="1844640"/>
              <a:ext cx="24426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ESTUDIA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539640" y="1844640"/>
              <a:ext cx="1787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>
              <a:off x="539640" y="1844640"/>
              <a:ext cx="17870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539640" y="5586480"/>
              <a:ext cx="822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3"/>
            <p:cNvSpPr/>
            <p:nvPr/>
          </p:nvSpPr>
          <p:spPr>
            <a:xfrm>
              <a:off x="539640" y="1844640"/>
              <a:ext cx="1080" cy="100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>
              <a:off x="8767800" y="1844640"/>
              <a:ext cx="108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>
              <a:off x="2326680" y="1844640"/>
              <a:ext cx="64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>
              <a:off x="2326680" y="1844640"/>
              <a:ext cx="144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>
              <a:off x="4769280" y="1844640"/>
              <a:ext cx="108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7331040" y="1844640"/>
              <a:ext cx="144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539640" y="2851920"/>
              <a:ext cx="822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0"/>
            <p:cNvSpPr/>
            <p:nvPr/>
          </p:nvSpPr>
          <p:spPr>
            <a:xfrm>
              <a:off x="539640" y="3764160"/>
              <a:ext cx="822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1"/>
            <p:cNvSpPr/>
            <p:nvPr/>
          </p:nvSpPr>
          <p:spPr>
            <a:xfrm>
              <a:off x="539640" y="285192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2"/>
            <p:cNvSpPr/>
            <p:nvPr/>
          </p:nvSpPr>
          <p:spPr>
            <a:xfrm>
              <a:off x="539640" y="4673520"/>
              <a:ext cx="822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586080"/>
            <a:ext cx="7201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TECEDENT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E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280" y="1685520"/>
            <a:ext cx="7272360" cy="39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da el 24 de Enero de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ormada por 21 núcleos y 4 estaciones experi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estructura de red para voz y datos que abarca 21 núcleos y 4 dependencias con cobertura en trece estados y el Distrito Fed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900 Facili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3.315 Participantes (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do de 152.000 participantes para el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8920" y="691200"/>
            <a:ext cx="6264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7272360" cy="43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60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ANDA ESTUDIANTIL INSATIS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ás de dos millones de bachilleres proveniente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Nacional de Admisión 450.000 (Año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iones Educativas 68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blación flotante 47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rtores de las distintas carreras de los Institutos Universitarios y Universidades 400.000 (estim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907200"/>
            <a:ext cx="6264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28352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dad de formar profesionales para apuntalar el Desarrollo Endó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iabilidad económica de crecimiento con el Modelo Enseñanza- Aprendizaje Pres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ar una plataforma educativa compartida por las Universidades Al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619920"/>
            <a:ext cx="70675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417080" cy="39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iabilidad Económica del Modelo de Enseñanza - Aprendizaje Presencial para atender Un Millón de Estudiantes ya que se requeriría, solamente para la UNESR,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ón en Planta Física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$ 896,1 mill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puesto Anual d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$   657 mill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osorio</dc:creator>
  <dc:description/>
  <dc:language>en-US</dc:language>
  <cp:lastModifiedBy>WinuE</cp:lastModifiedBy>
  <dcterms:modified xsi:type="dcterms:W3CDTF">2008-04-07T15:49:30Z</dcterms:modified>
  <cp:revision>59</cp:revision>
  <dc:subject/>
  <dc:title>CIBER ROBINSON </dc:title>
</cp:coreProperties>
</file>