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B76-EB34-41E7-998F-F38A4040EA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E23-35CC-44BB-AA47-926DB5E1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3F3-26D7-4748-941C-FB034F0F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D36-D30C-432A-B0E7-D42DEA1B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472-B742-412C-A695-3C96D93D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190F-415B-40B4-ACF9-D65323D9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828-9065-4EF9-9EE2-1FEAC9B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3C4-852E-483B-8558-139251E2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D5C3-BEB9-4775-A7F4-D03785D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A13-5971-4D46-9844-AE7802F7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3F40-FD52-438B-AA62-066C5E73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908C-AAC9-445D-8AFB-424F154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154-3514-4DDB-A3EA-AA2A55C2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30E7-774F-4029-B216-C36A43F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AC29-E1A0-4101-A9A7-831E511B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24AE-2838-4E8D-9FDB-637731A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8A7F-5FD7-4E20-A26D-9D4AE3EF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31C9-86D1-4222-8890-CDFE69BA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03C-9714-499C-A309-54E1E3FF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4C1-4982-43A6-B559-C057E068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C84-9F25-423C-B838-025E0A3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65A-5F1A-4761-89ED-D3F0DAB4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30F-7C45-4194-BE86-A1886C2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7A5-4BEA-43D2-A3B3-8BE06A2B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B70-F116-459E-AE09-4485984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668C-140B-4CF7-A478-4DE4E9EB9F3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FBC0-EC41-4B82-A5D3-33A12CBDC3A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png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" Target="slide16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46.xml"/><Relationship Id="rId28" Type="http://schemas.openxmlformats.org/officeDocument/2006/relationships/slide" Target="slide42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" Target="slide43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3886200" cy="167652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627280" y="57337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viembre,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71640" y="2924280"/>
            <a:ext cx="7619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entros Bolivariano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e Informática y Telemática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989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NDABI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29240" y="404640"/>
            <a:ext cx="895320" cy="100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08720" y="333360"/>
            <a:ext cx="14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inister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 Edu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y De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</a:rPr>
              <a:t>Contribuir en la formación integral del individuo a través del desarrollo de actividades productivas, científicas y humanísticas, con énfasis en los procesos de enseñanza y aprendizaje,  mediante la incorporación de las Tecnologías de la Información y la Comunicación en el proceso educativo de las comunidade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  General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841920"/>
            <a:ext cx="7905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 el desarrollo de proyectos y programas orientados al uso pedagógico de  la informática, presentados por las escuelas y la comunidad en general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75248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la labor docente en las áreas del Currículo Básico Nacional (CBN) utilizando como medio las tecnologías de la información y la comunicación (TIC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23720" indent="-42372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Ofrecer a las instituciones educativas y la comunidad, el medio para la difusión de experiencias pedagógicas y científicas relacionadas con el uso de la tecnología que se genera a nivel nacional e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0880" y="4800600"/>
            <a:ext cx="768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Promover concursos, charlas, foros, competencias, investigaciones y olimpiadas mediante el uso de las TIC.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338040" indent="-3380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tribuir en el mejoramiento de los procesos de enseñanza y aprendizaje en  los diferentes niveles y modalidades del Sistema Educativo, mediante el uso de las TIC, para que el individuo desarrolle capacidades intelectuales, motoras y afectivas; fundamentado</a:t>
            </a:r>
            <a:r>
              <a:rPr b="1" lang="es-ES" sz="26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en la  investigación, exploración, construcción del conocimiento y trabajo cooperativ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905120"/>
            <a:ext cx="7766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formar una Red Nacional de Actualización de Docentes en las diferentes áreas del saber, a través de las Tecnologías de la Información y la Comunicación fundamentada  en  los lineamientos del Ministerio de Educación, Cultura y Deport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971640" y="4365720"/>
            <a:ext cx="741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Red Nacional de Actualización de Docentes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Compon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68040" y="3115800"/>
            <a:ext cx="345924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cc"/>
                </a:solidFill>
                <a:uFillTx/>
                <a:latin typeface="Century Gothic"/>
                <a:hlinkClick r:id="rId6" action="ppaction://hlinksldjump"/>
              </a:rPr>
              <a:t>Aula Interactiva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7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971640" y="1963800"/>
            <a:ext cx="496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ula de Compu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6" h="21600">
                <a:moveTo>
                  <a:pt x="17681" y="3794"/>
                </a:moveTo>
                <a:lnTo>
                  <a:pt x="31694" y="10800"/>
                </a:lnTo>
                <a:lnTo>
                  <a:pt x="176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06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5640" y="2971800"/>
            <a:ext cx="3960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20 ó 40 Termi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nectados en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Impre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Acceso a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4788000" y="2924280"/>
            <a:ext cx="396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oftware educativo bajo licencia “Fuente abierta” o “Licencia Pública General” (LP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844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2692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 la interacción de los participantes con la Tecnología, desarrollando habilidades de búsqueda, selección y sistematización de información, así como la comunicación e interacción con personas de otras latitudes,   formando un individuo desde el ser, conocer, hacer y  convivi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198900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97164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mpres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493236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0" action="ppaction://hlinksldjump"/>
          </p:cNvPr>
          <p:cNvSpPr/>
          <p:nvPr/>
        </p:nvSpPr>
        <p:spPr>
          <a:xfrm>
            <a:off x="478800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ideos Educ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tios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esent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256536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n atender  atender los ejes educativos, como lo son: el lenguaje, desarrollo del pensamiento, valores, trabajo y ambiente, aquí el individuo comparte con sus semejantes temas de interés de su vida social comunal o nacional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Fortalez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971640" y="227664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urrículo  Básico Nacional (199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lan de Desarrollo Económico y Social de la Nación(2001-2007),  orientado a  Fortalecer las Instituciones Educativas, incorporar y adaptar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5" action="ppaction://hlinksldjump"/>
              </a:rPr>
              <a:t>Experiencias de instituciones públicas y privadas con el uso de las TIC en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67640" y="57340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9" h="21600">
                <a:moveTo>
                  <a:pt x="13088" y="3794"/>
                </a:moveTo>
                <a:lnTo>
                  <a:pt x="27101" y="10800"/>
                </a:lnTo>
                <a:lnTo>
                  <a:pt x="1308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213192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900000" y="2852640"/>
            <a:ext cx="734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Red elect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ortal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stema de Educación a Dist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55640" y="2565360"/>
            <a:ext cx="734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eventos (Charlas, cursos, talleres, congresos, foros, entre otros) donde los  docentes podrá informarse y participar en  planes de formación continua y permanente, auspiciados por Instituciones de Educación Superior u otro ente que proporcionen este tipo de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1760400"/>
          <a:ext cx="8028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60400"/>
                    <a:ext cx="8028000" cy="49262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7" action="ppaction://hlinksldjump"/>
          </p:cNvPr>
          <p:cNvSpPr/>
          <p:nvPr/>
        </p:nvSpPr>
        <p:spPr>
          <a:xfrm>
            <a:off x="1187280" y="53737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stad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CBIT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8" action="ppaction://hlinksldjump"/>
          </p:cNvPr>
          <p:cNvSpPr/>
          <p:nvPr/>
        </p:nvSpPr>
        <p:spPr>
          <a:xfrm>
            <a:off x="125892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tos - C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028000" y="6165720"/>
            <a:ext cx="790560" cy="333360"/>
          </a:xfrm>
          <a:custGeom>
            <a:avLst/>
            <a:gdLst>
              <a:gd name="textAreaLeft" fmla="*/ 21600 w 790560"/>
              <a:gd name="textAreaRight" fmla="*/ 768960 w 790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192" h="21600">
                <a:moveTo>
                  <a:pt x="0" y="0"/>
                </a:moveTo>
                <a:lnTo>
                  <a:pt x="51192" y="0"/>
                </a:lnTo>
                <a:lnTo>
                  <a:pt x="51192" y="21600"/>
                </a:lnTo>
                <a:lnTo>
                  <a:pt x="0" y="21600"/>
                </a:lnTo>
                <a:close/>
              </a:path>
              <a:path fill="lightenLess" w="51192" h="21600">
                <a:moveTo>
                  <a:pt x="0" y="0"/>
                </a:moveTo>
                <a:lnTo>
                  <a:pt x="51192" y="0"/>
                </a:lnTo>
                <a:lnTo>
                  <a:pt x="49792" y="1400"/>
                </a:lnTo>
                <a:lnTo>
                  <a:pt x="1400" y="1400"/>
                </a:lnTo>
                <a:close/>
              </a:path>
              <a:path fill="darken" w="51192" h="21600">
                <a:moveTo>
                  <a:pt x="51192" y="0"/>
                </a:moveTo>
                <a:lnTo>
                  <a:pt x="51192" y="21600"/>
                </a:lnTo>
                <a:lnTo>
                  <a:pt x="49792" y="20200"/>
                </a:lnTo>
                <a:lnTo>
                  <a:pt x="49792" y="1400"/>
                </a:lnTo>
                <a:close/>
              </a:path>
              <a:path fill="darkenLess" w="51192" h="21600">
                <a:moveTo>
                  <a:pt x="51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92" y="20200"/>
                </a:lnTo>
                <a:close/>
              </a:path>
              <a:path fill="lighten" w="51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192" h="21600">
                <a:moveTo>
                  <a:pt x="29095" y="10800"/>
                </a:moveTo>
                <a:lnTo>
                  <a:pt x="18590" y="17806"/>
                </a:lnTo>
                <a:lnTo>
                  <a:pt x="18590" y="3794"/>
                </a:lnTo>
                <a:close/>
              </a:path>
              <a:path fill="darken" w="51192" h="21600">
                <a:moveTo>
                  <a:pt x="30940" y="3794"/>
                </a:moveTo>
                <a:lnTo>
                  <a:pt x="30940" y="17806"/>
                </a:lnTo>
                <a:lnTo>
                  <a:pt x="32603" y="17806"/>
                </a:lnTo>
                <a:lnTo>
                  <a:pt x="32603" y="37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5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nefic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4941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587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asos de ex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r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Santiago Mariño, módulo Samán de Guere, Samán de Guere S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Tovar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antigua Escuela Martín Tovar, Salón Bellermann, Colonia To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José Rafael Revenga, módulo de Salud Sabaneta, calle Ppal. D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nzoáte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Freites, Prolongación Av. Principal  de Guanta, calle principal de Volcadero Vía la Pl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Píritu, Unidad Educativa Robinson  Herrera, Avenida Peña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FALTA EL CBIT INAU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Antigua Casa de la Cultura,  Av. Mariscal Sucr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Escuela Julian Pino, Frente a la Plaza Bolívar,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olí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18268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Heres,  U.E. Rosa Lusinchi,  Av.  España,  c/c Brasil, La Saba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Gran Sabana, Escuela Técnica Granja Woken, Sta. Elena de Guiar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arab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20500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205000"/>
            <a:ext cx="76964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os Guayos, Vivienda Popular Lo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Guayos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Valencia, Complejo Educativo L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anguita, Zona Educativ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oj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2182680"/>
            <a:ext cx="76960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Anzoátegui, Ciudad de Apartadero, Casa de la Cultura Apartad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elta Amac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182680"/>
            <a:ext cx="769608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Casa Comunal Villa Rosa, Urbanización Villa R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Av. 19 de Abril Parque Tucu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n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971640" y="2852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Un Computador para cada Escuela (CENAMEC- 199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royecto Simón (Fundación Gran Mariscal de Ayacucho -19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rmática Integral (MECD y Gobernaciones - 199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7451640" y="551664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Regimiento Guardia de Honor, Liceo Ezequiel Zamora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Palacio de Mirafl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U.E. Pablo Acosta Ortiz, Av. San Martín con Av. Morán . La Quebradita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Bicentenario del Libertador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República del Ecuador , Av. San Mart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B. República de Bolivia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E.B.B. Venezuela, Av. México Bellas A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Casa de Bello, Edif. Sede del Ministerio de Educación, Cultura y Dep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 Elias Toro, Paralela a la Av. Principal del V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L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, Casa Rosada, carrera 17, esquina calle 25, Barquisim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 , Urb. La Carucieñ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,  Sector II, CP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Torres, E.B. Morere, calle Lisboa, Car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Andrés Eloy Blanco, Av. Jacinto Lara con calle F, San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é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ivas Dávila,  Centro de Información Turística la Campesina, Av. Bolí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iblioteca Liber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Casa de la Cultura, calle Dr. Francisco Espejo, diagonal  a la Plaza Bolívar, Santa Lu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U.E. Venezuela, Urb. Brisas de Mac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áez, Casa de la Cultura de Río Chico, Calle Mariño,  Río Ch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Brión, U.E.  Juan Pablo Sojo, Parroquia Curiepe, Barlov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laza, antiguo Banco La Guaira, Sector la Llanada, cruce  con calle Páez y Ayacucho. Esq. Nore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.E.E. Luís Beltrán Prieto Figueroa, Av. Rómulo Gallegos, sector Montecristo. Los Dos Caminos, Municipio Suc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Nueva Esp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Díaz, a Guardia, El Parlo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neiro, Biblioteca “Rosauro Rosas Acosta”, Av. Principal de Pampatar, Frente a la Iglesia Cristo del Buen Vi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riño, Centro Bolivariano de Educación Inicial “Azul y Viento”,  calle Las Flores con Calle La Iglesia, Porla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Villalba, Auditórium Municipal, San Pedro de Coch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Su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Sede del INCE Industrial, Barrio Bolivariana,  Av. Principal, Cuma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Tách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Independencia, Calle 6, frente a la Plaza Bolívar, Capa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afael Urdaneta, Centro Cívico, Carrera 3, entre calle 2 y 3,  Las Deli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Ateneo del Táchira, calle 9  con carrera 6, San Cristób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namericano, Carrera 2, entre calles 4 y 5, Colonc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Var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Vargas, Escuela Bolivariana Nacional, Av. Principal de Naiguat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Complejo Cultural Vargas, Av. Soublette, piso 1 al lado de la Aduana Marítima, La Gua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00000" y="278136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mputadoras Viajeras (Estado Carabobo- 199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Bibliotecas Virtuales (Estado Aragua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CENTROS (CNTI- 200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entros Bolivarianos de Informática  y Telemática ( FundaBIT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24400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7493"/>
                </a:moveTo>
                <a:lnTo>
                  <a:pt x="10388" y="7493"/>
                </a:lnTo>
                <a:lnTo>
                  <a:pt x="10388" y="12828"/>
                </a:lnTo>
                <a:cubicBezTo>
                  <a:pt x="10388" y="13751"/>
                  <a:pt x="11189" y="14482"/>
                  <a:pt x="12224" y="14482"/>
                </a:cubicBezTo>
                <a:lnTo>
                  <a:pt x="13887" y="14482"/>
                </a:lnTo>
                <a:cubicBezTo>
                  <a:pt x="14923" y="14482"/>
                  <a:pt x="15723" y="13751"/>
                  <a:pt x="15723" y="12828"/>
                </a:cubicBezTo>
                <a:lnTo>
                  <a:pt x="15723" y="7493"/>
                </a:lnTo>
                <a:lnTo>
                  <a:pt x="13887" y="7493"/>
                </a:lnTo>
                <a:lnTo>
                  <a:pt x="17394" y="3985"/>
                </a:lnTo>
                <a:lnTo>
                  <a:pt x="21067" y="7493"/>
                </a:lnTo>
                <a:lnTo>
                  <a:pt x="19231" y="7493"/>
                </a:lnTo>
                <a:lnTo>
                  <a:pt x="19231" y="12828"/>
                </a:lnTo>
                <a:cubicBezTo>
                  <a:pt x="19231" y="15596"/>
                  <a:pt x="16655" y="18155"/>
                  <a:pt x="13887" y="18155"/>
                </a:cubicBezTo>
                <a:lnTo>
                  <a:pt x="12224" y="18155"/>
                </a:lnTo>
                <a:cubicBezTo>
                  <a:pt x="9457" y="18155"/>
                  <a:pt x="6880" y="15596"/>
                  <a:pt x="688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Yarac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niversidad Pedagógica Experimental (UPEL) Libertador, Av. Cartagena con calle Rafael,  San Feli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Zu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aracaibo, Parque Vereda del L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iranda, Urbanización Nuevo Hornito  Sector Costa Sur , área Pesqu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Baralt, Casa de la Cultura de San Timot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332000" y="1590840"/>
            <a:ext cx="4103640" cy="2412000"/>
            <a:chOff x="1332000" y="1590840"/>
            <a:chExt cx="4103640" cy="2412000"/>
          </a:xfrm>
        </p:grpSpPr>
        <p:graphicFrame>
          <p:nvGraphicFramePr>
            <p:cNvPr id="311" name=""/>
            <p:cNvGraphicFramePr/>
            <p:nvPr/>
          </p:nvGraphicFramePr>
          <p:xfrm>
            <a:off x="1332000" y="1590840"/>
            <a:ext cx="2460600" cy="17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590840"/>
                      <a:ext cx="2460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164040" y="2935440"/>
              <a:ext cx="2271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 Fernando de Apu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p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12-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2400" y="4257720"/>
            <a:ext cx="3441960" cy="2553480"/>
            <a:chOff x="482400" y="4257720"/>
            <a:chExt cx="3441960" cy="2553480"/>
          </a:xfrm>
        </p:grpSpPr>
        <p:graphicFrame>
          <p:nvGraphicFramePr>
            <p:cNvPr id="315" name=""/>
            <p:cNvGraphicFramePr/>
            <p:nvPr/>
          </p:nvGraphicFramePr>
          <p:xfrm>
            <a:off x="1476360" y="4257720"/>
            <a:ext cx="2448000" cy="177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4257720"/>
                      <a:ext cx="2448000" cy="17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482400" y="5743800"/>
              <a:ext cx="180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Puerto La Cru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nzoáte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5-04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14920" y="1557360"/>
            <a:ext cx="3521160" cy="2192400"/>
            <a:chOff x="5614920" y="1557360"/>
            <a:chExt cx="3521160" cy="2192400"/>
          </a:xfrm>
        </p:grpSpPr>
        <p:graphicFrame>
          <p:nvGraphicFramePr>
            <p:cNvPr id="319" name=""/>
            <p:cNvGraphicFramePr/>
            <p:nvPr/>
          </p:nvGraphicFramePr>
          <p:xfrm>
            <a:off x="5614920" y="1557360"/>
            <a:ext cx="2520720" cy="16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4920" y="1557360"/>
                      <a:ext cx="252072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7629480" y="292572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ta Lucí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iran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0-05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14400" y="4221000"/>
            <a:ext cx="3514680" cy="1825920"/>
            <a:chOff x="4514400" y="4221000"/>
            <a:chExt cx="3514680" cy="1825920"/>
          </a:xfrm>
        </p:grpSpPr>
        <p:graphicFrame>
          <p:nvGraphicFramePr>
            <p:cNvPr id="323" name=""/>
            <p:cNvGraphicFramePr/>
            <p:nvPr/>
          </p:nvGraphicFramePr>
          <p:xfrm>
            <a:off x="5725800" y="4221000"/>
            <a:ext cx="2303280" cy="182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5800" y="4221000"/>
                      <a:ext cx="2303280" cy="18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4514400" y="5157720"/>
              <a:ext cx="13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iladore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ér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1-02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9" action="ppaction://hlinksldjump"/>
          </p:cNvPr>
          <p:cNvSpPr/>
          <p:nvPr/>
        </p:nvSpPr>
        <p:spPr>
          <a:xfrm>
            <a:off x="8388360" y="5877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16000" y="1700280"/>
            <a:ext cx="3655440" cy="2364480"/>
            <a:chOff x="1116000" y="1700280"/>
            <a:chExt cx="3655440" cy="2364480"/>
          </a:xfrm>
        </p:grpSpPr>
        <p:graphicFrame>
          <p:nvGraphicFramePr>
            <p:cNvPr id="329" name=""/>
            <p:cNvGraphicFramePr/>
            <p:nvPr/>
          </p:nvGraphicFramePr>
          <p:xfrm>
            <a:off x="1116000" y="1700280"/>
            <a:ext cx="278136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00280"/>
                      <a:ext cx="278136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"/>
            <p:cNvSpPr/>
            <p:nvPr/>
          </p:nvSpPr>
          <p:spPr>
            <a:xfrm>
              <a:off x="3347280" y="2997360"/>
              <a:ext cx="142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bane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Bari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6-04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32640" y="1700280"/>
            <a:ext cx="2903040" cy="2172960"/>
            <a:chOff x="5732640" y="1700280"/>
            <a:chExt cx="2903040" cy="217296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6095160" y="1700280"/>
              <a:ext cx="254052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732640" y="3049200"/>
              <a:ext cx="123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Cuman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Suc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6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2920" y="4183200"/>
            <a:ext cx="3476160" cy="2446200"/>
            <a:chOff x="682920" y="4183200"/>
            <a:chExt cx="3476160" cy="2446200"/>
          </a:xfrm>
        </p:grpSpPr>
        <p:graphicFrame>
          <p:nvGraphicFramePr>
            <p:cNvPr id="336" name=""/>
            <p:cNvGraphicFramePr/>
            <p:nvPr/>
          </p:nvGraphicFramePr>
          <p:xfrm>
            <a:off x="1711440" y="4183200"/>
            <a:ext cx="2447640" cy="21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11440" y="4183200"/>
                      <a:ext cx="2447640" cy="21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"/>
            <p:cNvSpPr/>
            <p:nvPr/>
          </p:nvSpPr>
          <p:spPr>
            <a:xfrm>
              <a:off x="682920" y="58053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rquisime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La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0480" y="4365720"/>
            <a:ext cx="3648240" cy="2230560"/>
            <a:chOff x="5100480" y="4365720"/>
            <a:chExt cx="3648240" cy="2230560"/>
          </a:xfrm>
        </p:grpSpPr>
        <p:graphicFrame>
          <p:nvGraphicFramePr>
            <p:cNvPr id="340" name=""/>
            <p:cNvGraphicFramePr/>
            <p:nvPr/>
          </p:nvGraphicFramePr>
          <p:xfrm>
            <a:off x="5867280" y="4365720"/>
            <a:ext cx="2881440" cy="18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67280" y="4365720"/>
                      <a:ext cx="288144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5100480" y="577224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Naiquat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Var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3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70028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de la I, II y III Etapa de Educación Básica, mediante sus Proyectos Pedagógicos de Aula (PP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, mediante planes de formación continua y perman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Miembros de las comunidades aledañas, mediante todo tipo eventos, así como actividades de servicios comuni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Benefici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484280"/>
            <a:ext cx="712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y docente  en horario escolar, de lunes a viernes de 8:00am a 12:00m y de1:00pm a 5:00p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 de 8:00am a 12:00m y de 1:00pm a 5:00pm, en cursos presenciales o a distancia durante la segunda quincena de julio y segunda quincena de septiemb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munidad en general de  lunes a viernes de 5:00pm a 8:00pm y los sábados de 8:00am a 12m y de 1:00pm a 5:00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Horario de u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76360" y="1700280"/>
          <a:ext cx="6767640" cy="492444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mazo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nzoateg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p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ra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ari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5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rabo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24400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76360" y="1700280"/>
          <a:ext cx="6767640" cy="519588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oje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tto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elta Amac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Falc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Guá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La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5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é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7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8244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0000" y="1844640"/>
          <a:ext cx="7704360" cy="4226040"/>
        </p:xfrm>
        <a:graphic>
          <a:graphicData uri="http://schemas.openxmlformats.org/drawingml/2006/table">
            <a:tbl>
              <a:tblPr/>
              <a:tblGrid>
                <a:gridCol w="3605400"/>
                <a:gridCol w="1396800"/>
                <a:gridCol w="943200"/>
                <a:gridCol w="815760"/>
                <a:gridCol w="9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iran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on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Nva. Espar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Portug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Su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ach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0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8028000" y="5877000"/>
            <a:ext cx="865080" cy="50472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11" h="21600">
                <a:moveTo>
                  <a:pt x="0" y="0"/>
                </a:moveTo>
                <a:lnTo>
                  <a:pt x="37011" y="0"/>
                </a:lnTo>
                <a:lnTo>
                  <a:pt x="37011" y="21600"/>
                </a:lnTo>
                <a:lnTo>
                  <a:pt x="0" y="21600"/>
                </a:lnTo>
                <a:close/>
              </a:path>
              <a:path fill="lightenLess" w="37011" h="21600">
                <a:moveTo>
                  <a:pt x="0" y="0"/>
                </a:moveTo>
                <a:lnTo>
                  <a:pt x="37011" y="0"/>
                </a:lnTo>
                <a:lnTo>
                  <a:pt x="35611" y="1400"/>
                </a:lnTo>
                <a:lnTo>
                  <a:pt x="1400" y="1400"/>
                </a:lnTo>
                <a:close/>
              </a:path>
              <a:path fill="darken" w="37011" h="21600">
                <a:moveTo>
                  <a:pt x="37011" y="0"/>
                </a:moveTo>
                <a:lnTo>
                  <a:pt x="37011" y="21600"/>
                </a:lnTo>
                <a:lnTo>
                  <a:pt x="35611" y="20200"/>
                </a:lnTo>
                <a:lnTo>
                  <a:pt x="35611" y="1400"/>
                </a:lnTo>
                <a:close/>
              </a:path>
              <a:path fill="darkenLess" w="37011" h="21600">
                <a:moveTo>
                  <a:pt x="3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1" y="20200"/>
                </a:lnTo>
                <a:close/>
              </a:path>
              <a:path fill="lighten" w="3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1" h="21600">
                <a:moveTo>
                  <a:pt x="11499" y="3794"/>
                </a:moveTo>
                <a:lnTo>
                  <a:pt x="25512" y="10800"/>
                </a:lnTo>
                <a:lnTo>
                  <a:pt x="1149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1700280"/>
          <a:ext cx="6624720" cy="4568760"/>
        </p:xfrm>
        <a:graphic>
          <a:graphicData uri="http://schemas.openxmlformats.org/drawingml/2006/table">
            <a:tbl>
              <a:tblPr/>
              <a:tblGrid>
                <a:gridCol w="302400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Var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Yaracu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Zul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6.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.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.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101080" y="5661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71640" y="256536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Marco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Oport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971640" y="3141720"/>
            <a:ext cx="74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a apertura de Organismos Internacionales para invertir en Programas Soci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971640" y="4653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l interés de Autoridades Regionales e Instituciones Públicas y Privadas en contribuir recursos para el desarrollo de Proyectos de incorporación de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8604360" y="5950080"/>
            <a:ext cx="539640" cy="3585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97" h="21600">
                <a:moveTo>
                  <a:pt x="0" y="0"/>
                </a:moveTo>
                <a:lnTo>
                  <a:pt x="32497" y="0"/>
                </a:lnTo>
                <a:lnTo>
                  <a:pt x="32497" y="21600"/>
                </a:lnTo>
                <a:lnTo>
                  <a:pt x="0" y="21600"/>
                </a:lnTo>
                <a:close/>
              </a:path>
              <a:path fill="lightenLess" w="32497" h="21600">
                <a:moveTo>
                  <a:pt x="0" y="0"/>
                </a:moveTo>
                <a:lnTo>
                  <a:pt x="32497" y="0"/>
                </a:lnTo>
                <a:lnTo>
                  <a:pt x="31097" y="1400"/>
                </a:lnTo>
                <a:lnTo>
                  <a:pt x="1400" y="1400"/>
                </a:lnTo>
                <a:close/>
              </a:path>
              <a:path fill="darken" w="32497" h="21600">
                <a:moveTo>
                  <a:pt x="32497" y="0"/>
                </a:moveTo>
                <a:lnTo>
                  <a:pt x="32497" y="21600"/>
                </a:lnTo>
                <a:lnTo>
                  <a:pt x="31097" y="20200"/>
                </a:lnTo>
                <a:lnTo>
                  <a:pt x="31097" y="1400"/>
                </a:lnTo>
                <a:close/>
              </a:path>
              <a:path fill="darkenLess" w="32497" h="21600">
                <a:moveTo>
                  <a:pt x="32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7" y="20200"/>
                </a:lnTo>
                <a:close/>
              </a:path>
              <a:path fill="lighten" w="32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7" h="21600">
                <a:moveTo>
                  <a:pt x="9242" y="3794"/>
                </a:moveTo>
                <a:lnTo>
                  <a:pt x="23255" y="10800"/>
                </a:lnTo>
                <a:lnTo>
                  <a:pt x="924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619280" y="1366920"/>
          <a:ext cx="2808360" cy="4870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maz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nzoáteg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p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r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ar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olí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arabo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oj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elta Amac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istrito Ca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Falc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Guár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Próximos CBIT por est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219640" y="1341360"/>
          <a:ext cx="2808360" cy="484992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La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é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ir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ona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Nueva Esp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Portugu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Suc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ách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ruj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Var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Yarac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Zu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0000" y="1800360"/>
          <a:ext cx="82440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00360"/>
                    <a:ext cx="8244000" cy="50576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Funda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61440" indent="-36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Marc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900000" y="2421000"/>
            <a:ext cx="7559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nstitución de la República (Art. 108 y 1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Orgánica de Educación (Art.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Decreto 8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de Telecomunic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OPNA (Art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FIDES ( Art.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7740720" y="57340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7493"/>
                </a:moveTo>
                <a:lnTo>
                  <a:pt x="16557" y="7493"/>
                </a:lnTo>
                <a:lnTo>
                  <a:pt x="16557" y="12828"/>
                </a:lnTo>
                <a:cubicBezTo>
                  <a:pt x="16557" y="13751"/>
                  <a:pt x="17358" y="14482"/>
                  <a:pt x="18394" y="14482"/>
                </a:cubicBezTo>
                <a:lnTo>
                  <a:pt x="20056" y="14482"/>
                </a:lnTo>
                <a:cubicBezTo>
                  <a:pt x="21092" y="14482"/>
                  <a:pt x="21893" y="13751"/>
                  <a:pt x="21893" y="12828"/>
                </a:cubicBezTo>
                <a:lnTo>
                  <a:pt x="21893" y="7493"/>
                </a:lnTo>
                <a:lnTo>
                  <a:pt x="20056" y="7493"/>
                </a:lnTo>
                <a:lnTo>
                  <a:pt x="23564" y="3985"/>
                </a:lnTo>
                <a:lnTo>
                  <a:pt x="27237" y="7493"/>
                </a:lnTo>
                <a:lnTo>
                  <a:pt x="25400" y="7493"/>
                </a:lnTo>
                <a:lnTo>
                  <a:pt x="25400" y="12828"/>
                </a:lnTo>
                <a:cubicBezTo>
                  <a:pt x="25400" y="15596"/>
                  <a:pt x="22824" y="18155"/>
                  <a:pt x="20056" y="18155"/>
                </a:cubicBezTo>
                <a:lnTo>
                  <a:pt x="18394" y="18155"/>
                </a:lnTo>
                <a:cubicBezTo>
                  <a:pt x="15626" y="18155"/>
                  <a:pt x="13050" y="15596"/>
                  <a:pt x="1305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86900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Escasez de recursos didáctico computarizado de libre uso, adaptado a nuestr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21000"/>
            <a:ext cx="7358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305640" indent="-305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scasa divulgación del conocimiento de la TIC en la educación venezol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7250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Dificultad para el acceso a la tecnología de la  informática y telemá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565360"/>
            <a:ext cx="73580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vidente pérdida de valores en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No continuidad en los proyec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islamiento de la escuela de su entorno comunit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ltos costos de acceso a la tec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925640"/>
            <a:ext cx="7553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entury Gothic"/>
              </a:rPr>
              <a:t>Son centros educativos dotados de recursos multimedios, orientados a la formación integral, continua y permanente de docentes, alumnos y comunidad en general, a través del uso de las Tecnologías de la Información y la Comunicación (T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¿ Qué son los CBI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5:16:36Z</dcterms:created>
  <dc:creator>Ministerio de Educaciòn Cultura y Deportes</dc:creator>
  <dc:description/>
  <dc:language>en-US</dc:language>
  <cp:lastModifiedBy>MILAGROS</cp:lastModifiedBy>
  <dcterms:modified xsi:type="dcterms:W3CDTF">2008-02-29T14:52:54Z</dcterms:modified>
  <cp:revision>328</cp:revision>
  <dc:subject/>
  <dc:title>Diapositiva 1</dc:title>
</cp:coreProperties>
</file>