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69AD-42A7-4A92-A897-E06DC512276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A48-4038-420D-9D37-529ED5F3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D78-55E4-4419-A89E-2B509A59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52ED-9B4B-488A-931F-CD3DF8C7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ADE-DEE1-49F8-AF7E-7EDBEB3E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C5D6-834F-4572-A01A-E339D2F9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3F25-9533-4E78-BEC2-0AC2FC6E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42D1-FA1B-418D-BF19-693A9DA1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0C88-BABE-48C9-A5CE-5D283182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81D4-03EF-47A9-B2B0-CA28841D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AF87-C886-475D-BF57-9B3EF99C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830F-A799-4CF5-A3F8-575ADA15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95B0-2D85-4F20-8BFD-A0DC1322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1E73-5AE2-4185-B36F-B8D4B39D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1558-C5F0-498B-97AF-91DF8CA6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FE87-7EF1-45BA-B067-A2F16BE6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6CD5-A0A8-4513-B939-B2AE459F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5D23-3B7E-455D-9A20-CD190FEB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7B6-117C-476C-8C28-C938B0E0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5F9D-034B-4CEB-BF1C-8BFBDC71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D970-FCF7-4BB1-8418-E0289868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A5E-29FA-4DB3-88D9-073734C0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3C20-1F49-4B34-B6EB-13265067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E79-7810-43E7-8241-DEBD44E9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4529-D175-4009-9288-DA6235BC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DAA4-0393-4E43-837E-ED3902A3FF2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7551-FA91-4AB7-B497-183949039A2F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3.png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image" Target="../media/image3.png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6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" Target="slide16.xml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" Target="slide16.xml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32.xml"/><Relationship Id="rId4" Type="http://schemas.openxmlformats.org/officeDocument/2006/relationships/slide" Target="slide26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5.xml"/><Relationship Id="rId8" Type="http://schemas.openxmlformats.org/officeDocument/2006/relationships/slide" Target="slide48.xml"/><Relationship Id="rId9" Type="http://schemas.openxmlformats.org/officeDocument/2006/relationships/slide" Target="slide44.xml"/><Relationship Id="rId10" Type="http://schemas.openxmlformats.org/officeDocument/2006/relationships/slide" Target="slide27.xml"/><Relationship Id="rId11" Type="http://schemas.openxmlformats.org/officeDocument/2006/relationships/slide" Target="slide39.xml"/><Relationship Id="rId12" Type="http://schemas.openxmlformats.org/officeDocument/2006/relationships/slide" Target="slide24.xml"/><Relationship Id="rId13" Type="http://schemas.openxmlformats.org/officeDocument/2006/relationships/slide" Target="slide41.xml"/><Relationship Id="rId14" Type="http://schemas.openxmlformats.org/officeDocument/2006/relationships/slide" Target="slide43.xml"/><Relationship Id="rId15" Type="http://schemas.openxmlformats.org/officeDocument/2006/relationships/slide" Target="slide42.xml"/><Relationship Id="rId16" Type="http://schemas.openxmlformats.org/officeDocument/2006/relationships/slide" Target="slide31.xml"/><Relationship Id="rId17" Type="http://schemas.openxmlformats.org/officeDocument/2006/relationships/slide" Target="slide43.xml"/><Relationship Id="rId18" Type="http://schemas.openxmlformats.org/officeDocument/2006/relationships/slide" Target="slide50.xml"/><Relationship Id="rId19" Type="http://schemas.openxmlformats.org/officeDocument/2006/relationships/slide" Target="slide22.xml"/><Relationship Id="rId20" Type="http://schemas.openxmlformats.org/officeDocument/2006/relationships/slide" Target="slide45.xml"/><Relationship Id="rId21" Type="http://schemas.openxmlformats.org/officeDocument/2006/relationships/slide" Target="slide23.xml"/><Relationship Id="rId22" Type="http://schemas.openxmlformats.org/officeDocument/2006/relationships/slide" Target="slide29.xml"/><Relationship Id="rId23" Type="http://schemas.openxmlformats.org/officeDocument/2006/relationships/slide" Target="slide49.xml"/><Relationship Id="rId24" Type="http://schemas.openxmlformats.org/officeDocument/2006/relationships/slide" Target="slide38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" Target="slide46.xml"/><Relationship Id="rId28" Type="http://schemas.openxmlformats.org/officeDocument/2006/relationships/slide" Target="slide42.xml"/><Relationship Id="rId2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" Target="slide43.xml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image" Target="../media/image3.png"/><Relationship Id="rId6" Type="http://schemas.openxmlformats.org/officeDocument/2006/relationships/slide" Target="slide6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32.xml"/><Relationship Id="rId4" Type="http://schemas.openxmlformats.org/officeDocument/2006/relationships/slide" Target="slide26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5.xml"/><Relationship Id="rId8" Type="http://schemas.openxmlformats.org/officeDocument/2006/relationships/slide" Target="slide48.xml"/><Relationship Id="rId9" Type="http://schemas.openxmlformats.org/officeDocument/2006/relationships/slide" Target="slide44.xml"/><Relationship Id="rId10" Type="http://schemas.openxmlformats.org/officeDocument/2006/relationships/slide" Target="slide27.xml"/><Relationship Id="rId11" Type="http://schemas.openxmlformats.org/officeDocument/2006/relationships/slide" Target="slide39.xml"/><Relationship Id="rId12" Type="http://schemas.openxmlformats.org/officeDocument/2006/relationships/slide" Target="slide24.xml"/><Relationship Id="rId13" Type="http://schemas.openxmlformats.org/officeDocument/2006/relationships/slide" Target="slide41.xml"/><Relationship Id="rId14" Type="http://schemas.openxmlformats.org/officeDocument/2006/relationships/slide" Target="slide43.xml"/><Relationship Id="rId15" Type="http://schemas.openxmlformats.org/officeDocument/2006/relationships/slide" Target="slide42.xml"/><Relationship Id="rId16" Type="http://schemas.openxmlformats.org/officeDocument/2006/relationships/slide" Target="slide31.xml"/><Relationship Id="rId17" Type="http://schemas.openxmlformats.org/officeDocument/2006/relationships/slide" Target="slide43.xml"/><Relationship Id="rId18" Type="http://schemas.openxmlformats.org/officeDocument/2006/relationships/slide" Target="slide50.xml"/><Relationship Id="rId19" Type="http://schemas.openxmlformats.org/officeDocument/2006/relationships/slide" Target="slide22.xml"/><Relationship Id="rId20" Type="http://schemas.openxmlformats.org/officeDocument/2006/relationships/slide" Target="slide45.xml"/><Relationship Id="rId21" Type="http://schemas.openxmlformats.org/officeDocument/2006/relationships/slide" Target="slide23.xml"/><Relationship Id="rId22" Type="http://schemas.openxmlformats.org/officeDocument/2006/relationships/slide" Target="slide29.xml"/><Relationship Id="rId23" Type="http://schemas.openxmlformats.org/officeDocument/2006/relationships/slide" Target="slide49.xml"/><Relationship Id="rId24" Type="http://schemas.openxmlformats.org/officeDocument/2006/relationships/slide" Target="slide38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3886200" cy="167652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627280" y="573372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Noviembre, 2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1224000" cy="1143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971640" y="2924280"/>
            <a:ext cx="76197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Centros Bolivarianos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eaeaea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de Informática y Telemática 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eaeaea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492360" y="1989000"/>
            <a:ext cx="237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FUNDABIT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29240" y="404640"/>
            <a:ext cx="895320" cy="1008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308720" y="333360"/>
            <a:ext cx="1440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inisteri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e Educ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ultu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y Depor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19807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</a:rPr>
              <a:t>Contribuir en la formación integral del individuo a través del desarrollo de actividades productivas, científicas y humanísticas, con énfasis en los procesos de enseñanza y aprendizaje,  mediante la incorporación de las Tecnologías de la Información y la Comunicación en el proceso educativo de las comunidade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  General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14400" y="3841920"/>
            <a:ext cx="79056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poyar  el desarrollo de proyectos y programas orientados al uso pedagógico de  la informática, presentados por las escuelas y la comunidad en general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1752480"/>
            <a:ext cx="7689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poyar la labor docente en las áreas del Currículo Básico Nacional (CBN) utilizando como medio las tecnologías de la información y la comunicación (TIC)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1905120"/>
            <a:ext cx="7689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423720" indent="-42372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Ofrecer a las instituciones educativas y la comunidad, el medio para la difusión de experiencias pedagógicas y científicas relacionadas con el uso de la tecnología que se genera a nivel nacional e internacional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20880" y="4800600"/>
            <a:ext cx="768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Promover concursos, charlas, foros, competencias, investigaciones y olimpiadas mediante el uso de las TIC.</a:t>
            </a: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14400" y="1905120"/>
            <a:ext cx="7689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1000"/>
          </a:bodyPr>
          <a:p>
            <a:pPr marL="338040" indent="-33804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Contribuir en el mejoramiento de los procesos de enseñanza y aprendizaje en  los diferentes niveles y modalidades del Sistema Educativo, mediante el uso de las TIC, para que el individuo desarrolle capacidades intelectuales, motoras y afectivas; fundamentado</a:t>
            </a:r>
            <a:r>
              <a:rPr b="1" lang="es-ES" sz="26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en la  investigación, exploración, construcción del conocimiento y trabajo cooperativo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1905120"/>
            <a:ext cx="7766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Conformar una Red Nacional de Actualización de Docentes en las diferentes áreas del saber, a través de las Tecnologías de la Información y la Comunicación fundamentada  en  los lineamientos del Ministerio de Educación, Cultura y Deporte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971640" y="4365720"/>
            <a:ext cx="741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3" action="ppaction://hlinksldjump"/>
              </a:rPr>
              <a:t>Red Nacional de Actualización de Docentes</a:t>
            </a: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4" action="ppaction://hlinksldjump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Componen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68040" y="3115800"/>
            <a:ext cx="345924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cc"/>
                </a:solidFill>
                <a:uFillTx/>
                <a:latin typeface="Century Gothic"/>
                <a:hlinkClick r:id="rId6" action="ppaction://hlinksldjump"/>
              </a:rPr>
              <a:t>Aula Interactiva</a:t>
            </a: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7" action="ppaction://hlinksldjump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>
            <a:hlinkClick r:id="rId8" action="ppaction://hlinksldjump"/>
          </p:cNvPr>
          <p:cNvSpPr/>
          <p:nvPr/>
        </p:nvSpPr>
        <p:spPr>
          <a:xfrm>
            <a:off x="971640" y="1963800"/>
            <a:ext cx="4968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ula de Comput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0872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76" h="21600">
                <a:moveTo>
                  <a:pt x="17681" y="3794"/>
                </a:moveTo>
                <a:lnTo>
                  <a:pt x="31694" y="10800"/>
                </a:lnTo>
                <a:lnTo>
                  <a:pt x="17681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de Comput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2060640"/>
            <a:ext cx="33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specto téc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55640" y="2971800"/>
            <a:ext cx="39607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20 ó 40 Termina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   </a:t>
            </a: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conectados en 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Century Gothic"/>
              </a:rPr>
              <a:t>1 Servi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Century Gothic"/>
              </a:rPr>
              <a:t>1 Impreso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Century Gothic"/>
              </a:rPr>
              <a:t>Acceso a Intern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028000" y="6022800"/>
            <a:ext cx="647640" cy="358920"/>
          </a:xfrm>
          <a:prstGeom prst="rightArrow">
            <a:avLst>
              <a:gd name="adj1" fmla="val 50000"/>
              <a:gd name="adj2" fmla="val 4511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6" action="ppaction://hlinksldjump"/>
          </p:cNvPr>
          <p:cNvSpPr/>
          <p:nvPr/>
        </p:nvSpPr>
        <p:spPr>
          <a:xfrm>
            <a:off x="4788000" y="2924280"/>
            <a:ext cx="3960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Software educativo bajo licencia “Fuente abierta” o “Licencia Pública General” (LPG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1844640"/>
            <a:ext cx="19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opós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de Comput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85080" y="5950080"/>
            <a:ext cx="647640" cy="358560"/>
          </a:xfrm>
          <a:prstGeom prst="leftArrow">
            <a:avLst>
              <a:gd name="adj1" fmla="val 50000"/>
              <a:gd name="adj2" fmla="val 4515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826920" y="2492280"/>
            <a:ext cx="73454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esarrollo de actividades pedagógicas que permite la interacción de los participantes con la Tecnología, desarrollando habilidades de búsqueda, selección y sistematización de información, así como la comunicación e interacción con personas de otras latitudes,   formando un individuo desde el ser, conocer, hacer y  convivi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1989000"/>
            <a:ext cx="6481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specto téc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Interac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971640" y="2755800"/>
            <a:ext cx="3240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T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V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Compu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Impres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rId7" action="ppaction://hlinksldjump"/>
          </p:cNvPr>
          <p:cNvSpPr/>
          <p:nvPr/>
        </p:nvSpPr>
        <p:spPr>
          <a:xfrm>
            <a:off x="4932360" y="2755800"/>
            <a:ext cx="3240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>
            <a:hlinkClick r:id="rId10" action="ppaction://hlinksldjump"/>
          </p:cNvPr>
          <p:cNvSpPr/>
          <p:nvPr/>
        </p:nvSpPr>
        <p:spPr>
          <a:xfrm>
            <a:off x="4788000" y="2755800"/>
            <a:ext cx="3240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Videos Educa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Sitios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esentacio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28000" y="6022800"/>
            <a:ext cx="647640" cy="358920"/>
          </a:xfrm>
          <a:prstGeom prst="rightArrow">
            <a:avLst>
              <a:gd name="adj1" fmla="val 50000"/>
              <a:gd name="adj2" fmla="val 4511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58920" y="1989000"/>
            <a:ext cx="28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opós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Interac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900000" y="2565360"/>
            <a:ext cx="7345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esarrollo de actividades pedagógicas que permiten atender  atender los ejes educativos, como lo son: el lenguaje, desarrollo del pensamiento, valores, trabajo y ambiente, aquí el individuo comparte con sus semejantes temas de interés de su vida social comunal o nacional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85080" y="5950080"/>
            <a:ext cx="647640" cy="358560"/>
          </a:xfrm>
          <a:prstGeom prst="leftArrow">
            <a:avLst>
              <a:gd name="adj1" fmla="val 50000"/>
              <a:gd name="adj2" fmla="val 4515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15640" y="169992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Fortalez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971640" y="2276640"/>
            <a:ext cx="76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urrículo  Básico Nacional (199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Plan de Desarrollo Económico y Social de la Nación(2001-2007),  orientado a  Fortalecer las Instituciones Educativas, incorporar y adaptar las 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5" action="ppaction://hlinksldjump"/>
              </a:rPr>
              <a:t>Experiencias de instituciones públicas y privadas con el uso de las TIC en Educ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6" action="ppaction://hlinksldjump"/>
          </p:cNvPr>
          <p:cNvSpPr/>
          <p:nvPr/>
        </p:nvSpPr>
        <p:spPr>
          <a:xfrm>
            <a:off x="7667640" y="5734080"/>
            <a:ext cx="936720" cy="50328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89" h="21600">
                <a:moveTo>
                  <a:pt x="0" y="0"/>
                </a:moveTo>
                <a:lnTo>
                  <a:pt x="40189" y="0"/>
                </a:lnTo>
                <a:lnTo>
                  <a:pt x="40189" y="21600"/>
                </a:lnTo>
                <a:lnTo>
                  <a:pt x="0" y="21600"/>
                </a:lnTo>
                <a:close/>
              </a:path>
              <a:path fill="lightenLess" w="40189" h="21600">
                <a:moveTo>
                  <a:pt x="0" y="0"/>
                </a:moveTo>
                <a:lnTo>
                  <a:pt x="40189" y="0"/>
                </a:lnTo>
                <a:lnTo>
                  <a:pt x="38789" y="1400"/>
                </a:lnTo>
                <a:lnTo>
                  <a:pt x="1400" y="1400"/>
                </a:lnTo>
                <a:close/>
              </a:path>
              <a:path fill="darken" w="40189" h="21600">
                <a:moveTo>
                  <a:pt x="40189" y="0"/>
                </a:moveTo>
                <a:lnTo>
                  <a:pt x="40189" y="21600"/>
                </a:lnTo>
                <a:lnTo>
                  <a:pt x="38789" y="20200"/>
                </a:lnTo>
                <a:lnTo>
                  <a:pt x="38789" y="1400"/>
                </a:lnTo>
                <a:close/>
              </a:path>
              <a:path fill="darkenLess" w="40189" h="21600">
                <a:moveTo>
                  <a:pt x="40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89" y="20200"/>
                </a:lnTo>
                <a:close/>
              </a:path>
              <a:path fill="lighten" w="40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89" h="21600">
                <a:moveTo>
                  <a:pt x="13088" y="3794"/>
                </a:moveTo>
                <a:lnTo>
                  <a:pt x="27101" y="10800"/>
                </a:lnTo>
                <a:lnTo>
                  <a:pt x="1308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2131920"/>
            <a:ext cx="748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specto téc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324360" indent="-324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Red Nacional de Actualización de Docen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900000" y="2852640"/>
            <a:ext cx="7345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Red electrón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ortal educa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Sistema de Educación a Dista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028000" y="6022800"/>
            <a:ext cx="647640" cy="358920"/>
          </a:xfrm>
          <a:prstGeom prst="rightArrow">
            <a:avLst>
              <a:gd name="adj1" fmla="val 50000"/>
              <a:gd name="adj2" fmla="val 4511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1989000"/>
            <a:ext cx="28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opós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324360" indent="-324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Red Nacional de Actualización de Docen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755640" y="2565360"/>
            <a:ext cx="73454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esarrollo de eventos (Charlas, cursos, talleres, congresos, foros, entre otros) donde los  docentes podrá informarse y participar en  planes de formación continua y permanente, auspiciados por Instituciones de Educación Superior u otro ente que proporcionen este tipo de servic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885080" y="5950080"/>
            <a:ext cx="647640" cy="358560"/>
          </a:xfrm>
          <a:prstGeom prst="leftArrow">
            <a:avLst>
              <a:gd name="adj1" fmla="val 50000"/>
              <a:gd name="adj2" fmla="val 4515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014800" y="368784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116000" y="1760400"/>
          <a:ext cx="8028000" cy="492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60400"/>
                    <a:ext cx="8028000" cy="4926240"/>
                  </a:xfrm>
                  <a:prstGeom prst="rect">
                    <a:avLst/>
                  </a:prstGeom>
                  <a:ln w="2844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8" name="">
            <a:hlinkClick r:id="rId3" action="ppaction://hlinksldjump"/>
          </p:cNvPr>
          <p:cNvSpPr/>
          <p:nvPr/>
        </p:nvSpPr>
        <p:spPr>
          <a:xfrm>
            <a:off x="4329000" y="545616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ZO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>
            <a:hlinkClick r:id="rId4" action="ppaction://hlinksldjump"/>
          </p:cNvPr>
          <p:cNvSpPr/>
          <p:nvPr/>
        </p:nvSpPr>
        <p:spPr>
          <a:xfrm>
            <a:off x="5472000" y="45417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OLÍVA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rId5" action="ppaction://hlinksldjump"/>
          </p:cNvPr>
          <p:cNvSpPr/>
          <p:nvPr/>
        </p:nvSpPr>
        <p:spPr>
          <a:xfrm>
            <a:off x="3338640" y="4160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PU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>
            <a:hlinkClick r:id="rId6" action="ppaction://hlinksldjump"/>
          </p:cNvPr>
          <p:cNvSpPr/>
          <p:nvPr/>
        </p:nvSpPr>
        <p:spPr>
          <a:xfrm rot="61200">
            <a:off x="6460920" y="3551040"/>
            <a:ext cx="838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ELTA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CUR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rId7" action="ppaction://hlinksldjump"/>
          </p:cNvPr>
          <p:cNvSpPr/>
          <p:nvPr/>
        </p:nvSpPr>
        <p:spPr>
          <a:xfrm>
            <a:off x="2728800" y="37339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ARI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rId8" action="ppaction://hlinksldjump"/>
          </p:cNvPr>
          <p:cNvSpPr/>
          <p:nvPr/>
        </p:nvSpPr>
        <p:spPr>
          <a:xfrm rot="21591600">
            <a:off x="1738080" y="32461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ZULI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>
            <a:hlinkClick r:id="rId9" action="ppaction://hlinksldjump"/>
          </p:cNvPr>
          <p:cNvSpPr/>
          <p:nvPr/>
        </p:nvSpPr>
        <p:spPr>
          <a:xfrm>
            <a:off x="2805120" y="28195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FALCÓN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>
            <a:hlinkClick r:id="rId10" action="ppaction://hlinksldjump"/>
          </p:cNvPr>
          <p:cNvSpPr/>
          <p:nvPr/>
        </p:nvSpPr>
        <p:spPr>
          <a:xfrm>
            <a:off x="2881440" y="3094200"/>
            <a:ext cx="533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LA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11" action="ppaction://hlinksldjump"/>
          </p:cNvPr>
          <p:cNvSpPr/>
          <p:nvPr/>
        </p:nvSpPr>
        <p:spPr>
          <a:xfrm rot="26400">
            <a:off x="3033360" y="35049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ORTUGUES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rId12" action="ppaction://hlinksldjump"/>
          </p:cNvPr>
          <p:cNvSpPr/>
          <p:nvPr/>
        </p:nvSpPr>
        <p:spPr>
          <a:xfrm rot="85200">
            <a:off x="5089320" y="36273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NZOÁTEGUI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>
            <a:hlinkClick r:id="rId13" action="ppaction://hlinksldjump"/>
          </p:cNvPr>
          <p:cNvSpPr/>
          <p:nvPr/>
        </p:nvSpPr>
        <p:spPr>
          <a:xfrm rot="40800">
            <a:off x="5567040" y="3352680"/>
            <a:ext cx="74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ONA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rId14" action="ppaction://hlinksldjump"/>
          </p:cNvPr>
          <p:cNvSpPr/>
          <p:nvPr/>
        </p:nvSpPr>
        <p:spPr>
          <a:xfrm>
            <a:off x="5624640" y="3017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SUC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>
            <a:hlinkClick r:id="rId15" action="ppaction://hlinksldjump"/>
          </p:cNvPr>
          <p:cNvSpPr/>
          <p:nvPr/>
        </p:nvSpPr>
        <p:spPr>
          <a:xfrm>
            <a:off x="5548320" y="274320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NVA. ESPART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rId16" action="ppaction://hlinksldjump"/>
          </p:cNvPr>
          <p:cNvSpPr/>
          <p:nvPr/>
        </p:nvSpPr>
        <p:spPr>
          <a:xfrm>
            <a:off x="4329000" y="30942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IRAN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>
            <a:hlinkClick r:id="rId17" action="ppaction://hlinksldjump"/>
          </p:cNvPr>
          <p:cNvSpPr/>
          <p:nvPr/>
        </p:nvSpPr>
        <p:spPr>
          <a:xfrm rot="19171800">
            <a:off x="3414960" y="28652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YARACUY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>
            <a:hlinkClick r:id="rId18" action="ppaction://hlinksldjump"/>
          </p:cNvPr>
          <p:cNvSpPr/>
          <p:nvPr/>
        </p:nvSpPr>
        <p:spPr>
          <a:xfrm rot="21598800">
            <a:off x="2576520" y="335232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RUJILLL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>
            <a:hlinkClick r:id="rId19" action="ppaction://hlinksldjump"/>
          </p:cNvPr>
          <p:cNvSpPr/>
          <p:nvPr/>
        </p:nvSpPr>
        <p:spPr>
          <a:xfrm rot="24600">
            <a:off x="2193480" y="3703680"/>
            <a:ext cx="609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ÉRI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>
            <a:hlinkClick r:id="rId20" action="ppaction://hlinksldjump"/>
          </p:cNvPr>
          <p:cNvSpPr/>
          <p:nvPr/>
        </p:nvSpPr>
        <p:spPr>
          <a:xfrm rot="21599400">
            <a:off x="1965240" y="38844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ÁCHI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21" action="ppaction://hlinksldjump"/>
          </p:cNvPr>
          <p:cNvSpPr/>
          <p:nvPr/>
        </p:nvSpPr>
        <p:spPr>
          <a:xfrm rot="87000">
            <a:off x="3947760" y="3170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RAGU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22" action="ppaction://hlinksldjump"/>
          </p:cNvPr>
          <p:cNvSpPr/>
          <p:nvPr/>
        </p:nvSpPr>
        <p:spPr>
          <a:xfrm rot="19318800">
            <a:off x="4177440" y="2788920"/>
            <a:ext cx="957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TTO. CAPIT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rId23" action="ppaction://hlinksldjump"/>
          </p:cNvPr>
          <p:cNvSpPr/>
          <p:nvPr/>
        </p:nvSpPr>
        <p:spPr>
          <a:xfrm rot="6600">
            <a:off x="3414600" y="3276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JEDE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>
            <a:hlinkClick r:id="rId24" action="ppaction://hlinksldjump"/>
          </p:cNvPr>
          <p:cNvSpPr/>
          <p:nvPr/>
        </p:nvSpPr>
        <p:spPr>
          <a:xfrm>
            <a:off x="4176720" y="3627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GUÁRIC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>
            <a:hlinkClick r:id="rId25" action="ppaction://hlinksldjump"/>
          </p:cNvPr>
          <p:cNvSpPr/>
          <p:nvPr/>
        </p:nvSpPr>
        <p:spPr>
          <a:xfrm rot="19270200">
            <a:off x="3697560" y="2865240"/>
            <a:ext cx="78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ARABOB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rId26" action="ppaction://hlinksldjump"/>
          </p:cNvPr>
          <p:cNvSpPr/>
          <p:nvPr/>
        </p:nvSpPr>
        <p:spPr>
          <a:xfrm rot="19294800">
            <a:off x="4024800" y="2850840"/>
            <a:ext cx="652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VAR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rId27" action="ppaction://hlinksldjump"/>
          </p:cNvPr>
          <p:cNvSpPr/>
          <p:nvPr/>
        </p:nvSpPr>
        <p:spPr>
          <a:xfrm>
            <a:off x="1187280" y="537372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stadís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81360" y="476280"/>
            <a:ext cx="5715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pperplate Gothic Bold"/>
              </a:rPr>
              <a:t>CBIT Inaugu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>
            <a:hlinkClick r:id="rId28" action="ppaction://hlinksldjump"/>
          </p:cNvPr>
          <p:cNvSpPr/>
          <p:nvPr/>
        </p:nvSpPr>
        <p:spPr>
          <a:xfrm>
            <a:off x="1258920" y="4221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Fotos - C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lastslide"/>
          </p:cNvPr>
          <p:cNvSpPr/>
          <p:nvPr/>
        </p:nvSpPr>
        <p:spPr>
          <a:xfrm>
            <a:off x="8028000" y="6165720"/>
            <a:ext cx="790560" cy="333360"/>
          </a:xfrm>
          <a:custGeom>
            <a:avLst/>
            <a:gdLst>
              <a:gd name="textAreaLeft" fmla="*/ 21600 w 790560"/>
              <a:gd name="textAreaRight" fmla="*/ 768960 w 790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1192" h="21600">
                <a:moveTo>
                  <a:pt x="0" y="0"/>
                </a:moveTo>
                <a:lnTo>
                  <a:pt x="51192" y="0"/>
                </a:lnTo>
                <a:lnTo>
                  <a:pt x="51192" y="21600"/>
                </a:lnTo>
                <a:lnTo>
                  <a:pt x="0" y="21600"/>
                </a:lnTo>
                <a:close/>
              </a:path>
              <a:path fill="lightenLess" w="51192" h="21600">
                <a:moveTo>
                  <a:pt x="0" y="0"/>
                </a:moveTo>
                <a:lnTo>
                  <a:pt x="51192" y="0"/>
                </a:lnTo>
                <a:lnTo>
                  <a:pt x="49792" y="1400"/>
                </a:lnTo>
                <a:lnTo>
                  <a:pt x="1400" y="1400"/>
                </a:lnTo>
                <a:close/>
              </a:path>
              <a:path fill="darken" w="51192" h="21600">
                <a:moveTo>
                  <a:pt x="51192" y="0"/>
                </a:moveTo>
                <a:lnTo>
                  <a:pt x="51192" y="21600"/>
                </a:lnTo>
                <a:lnTo>
                  <a:pt x="49792" y="20200"/>
                </a:lnTo>
                <a:lnTo>
                  <a:pt x="49792" y="1400"/>
                </a:lnTo>
                <a:close/>
              </a:path>
              <a:path fill="darkenLess" w="51192" h="21600">
                <a:moveTo>
                  <a:pt x="51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792" y="20200"/>
                </a:lnTo>
                <a:close/>
              </a:path>
              <a:path fill="lighten" w="51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192" h="21600">
                <a:moveTo>
                  <a:pt x="29095" y="10800"/>
                </a:moveTo>
                <a:lnTo>
                  <a:pt x="18590" y="17806"/>
                </a:lnTo>
                <a:lnTo>
                  <a:pt x="18590" y="3794"/>
                </a:lnTo>
                <a:close/>
              </a:path>
              <a:path fill="darken" w="51192" h="21600">
                <a:moveTo>
                  <a:pt x="30940" y="3794"/>
                </a:moveTo>
                <a:lnTo>
                  <a:pt x="30940" y="17806"/>
                </a:lnTo>
                <a:lnTo>
                  <a:pt x="32603" y="17806"/>
                </a:lnTo>
                <a:lnTo>
                  <a:pt x="32603" y="3794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32000" y="4581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enefici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76360" y="49417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Hor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76360" y="587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Casos de exi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Arag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2182680"/>
            <a:ext cx="76960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Santiago Mariño, módulo Samán de Guere, Samán de Guere Su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Tovar,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antigua Escuela Martín Tovar, Salón Bellermann, Colonia Tov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José Rafael Revenga, módulo de Salud Sabaneta, calle Ppal. De Saban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Anzoáte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2182680"/>
            <a:ext cx="76960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Freites, Prolongación Av. Principal  de Guanta, calle principal de Volcadero Vía la Play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Píritu, Unidad Educativa Robinson  Herrera, Avenida Peñal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FALTA EL CBIT INAUGUR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rId4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Bari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1280" y="2182680"/>
            <a:ext cx="76960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Alberto Arvelo Torrealba, Antigua Casa de la Cultura,  Av. Mariscal Sucre Saban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Alberto Arvelo Torrealba, Escuela Julian Pino, Frente a la Plaza Bolívar, saban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Bolí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2182680"/>
            <a:ext cx="7696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Heres,  U.E. Rosa Lusinchi,  Av.  España,  c/c Brasil, La Sabani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Gran Sabana, Escuela Técnica Granja Woken, Sta. Elena de Guiar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Carabo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2205000"/>
            <a:ext cx="7696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6920" y="2205000"/>
            <a:ext cx="76964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os Guayos, Vivienda Popular Los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Guayos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Valencia, Complejo Educativo La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anguita, Zona Educativa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Coje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2182680"/>
            <a:ext cx="769608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Anzoátegui, Ciudad de Apartadero, Casa de la Cultura Apartad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rId2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Delta Amac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1280" y="2182680"/>
            <a:ext cx="769608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Tucupita, Casa Comunal Villa Rosa, Urbanización Villa Ro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Tucupita, Av. 19 de Abril Parque Tucup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971640" y="1773360"/>
            <a:ext cx="7632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Experiencias con el Uso de las TIC en Edu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971640" y="285264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Un Computador para cada Escuela (CENAMEC- 199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Proyecto Simón (Fundación Gran Mariscal de Ayacucho -199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Informática Integral (MECD y Gobernaciones - 199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6" action="ppaction://hlinksldjump"/>
          </p:cNvPr>
          <p:cNvSpPr/>
          <p:nvPr/>
        </p:nvSpPr>
        <p:spPr>
          <a:xfrm>
            <a:off x="7451640" y="5516640"/>
            <a:ext cx="1081080" cy="649080"/>
          </a:xfrm>
          <a:custGeom>
            <a:avLst/>
            <a:gdLst>
              <a:gd name="textAreaLeft" fmla="*/ 41760 w 1081080"/>
              <a:gd name="textAreaRight" fmla="*/ 1039320 w 108108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35968" h="21600">
                <a:moveTo>
                  <a:pt x="0" y="0"/>
                </a:moveTo>
                <a:lnTo>
                  <a:pt x="35968" y="0"/>
                </a:lnTo>
                <a:lnTo>
                  <a:pt x="35968" y="21600"/>
                </a:lnTo>
                <a:lnTo>
                  <a:pt x="0" y="21600"/>
                </a:lnTo>
                <a:close/>
              </a:path>
              <a:path fill="lightenLess" w="35968" h="21600">
                <a:moveTo>
                  <a:pt x="0" y="0"/>
                </a:moveTo>
                <a:lnTo>
                  <a:pt x="35968" y="0"/>
                </a:lnTo>
                <a:lnTo>
                  <a:pt x="34568" y="1400"/>
                </a:lnTo>
                <a:lnTo>
                  <a:pt x="1400" y="1400"/>
                </a:lnTo>
                <a:close/>
              </a:path>
              <a:path fill="darken" w="35968" h="21600">
                <a:moveTo>
                  <a:pt x="35968" y="0"/>
                </a:moveTo>
                <a:lnTo>
                  <a:pt x="35968" y="21600"/>
                </a:lnTo>
                <a:lnTo>
                  <a:pt x="34568" y="20200"/>
                </a:lnTo>
                <a:lnTo>
                  <a:pt x="34568" y="1400"/>
                </a:lnTo>
                <a:close/>
              </a:path>
              <a:path fill="darkenLess" w="35968" h="21600">
                <a:moveTo>
                  <a:pt x="359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8" y="20200"/>
                </a:lnTo>
                <a:close/>
              </a:path>
              <a:path fill="lighten" w="359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8" h="21600">
                <a:moveTo>
                  <a:pt x="10978" y="3794"/>
                </a:moveTo>
                <a:lnTo>
                  <a:pt x="24991" y="10800"/>
                </a:lnTo>
                <a:lnTo>
                  <a:pt x="1097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Distrito Ca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Regimiento Guardia de Honor, Liceo Ezequiel Zamora,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Palacio de Mirafl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U.E. Pablo Acosta Ortiz, Av. San Martín con Av. Morán . La Quebradita 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E.B.B. Bicentenario del Libertador, La Past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E.B.B. República del Ecuador , Av. San Martí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Distrito Ca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 E.B.B. República de Bolivia, La Past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E.B.B. Venezuela, Av. México Bellas Ar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 Casa de Bello, Edif. Sede del Ministerio de Educación, Cultura y Depor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 E.B. Elias Toro, Paralela a la Av. Principal del Va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>
            <a:hlinkClick r:id="rId6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L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Iribarren, Casa Rosada, carrera 17, esquina calle 25, Barquisime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Iribarren , Urb. La Carucieña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,  Sector II, CP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Municipio Torres, E.B. Morere, calle Lisboa, Car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Municipio Andrés Eloy Blanco, Av. Jacinto Lara con calle F, Sana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Mér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Rivas Dávila,  Centro de Información Turística la Campesina, Av. Bolív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Biblioteca Libert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Mira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az Castillo, Casa de la Cultura, calle Dr. Francisco Espejo, diagonal  a la Plaza Bolívar, Santa Luc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az Castillo, U.E. Venezuela, Urb. Brisas de Macu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áez, Casa de la Cultura de Río Chico, Calle Mariño,  Río Ch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Brión, U.E.  Juan Pablo Sojo, Parroquia Curiepe, Barloven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Mira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laza, antiguo Banco La Guaira, Sector la Llanada, cruce  con calle Páez y Ayacucho. Esq. Nore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U.E.E. Luís Beltrán Prieto Figueroa, Av. Rómulo Gallegos, sector Montecristo. Los Dos Caminos, Municipio Suc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>
            <a:hlinkClick r:id="rId4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Nueva Espar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Díaz, a Guardia, El Parlo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Maneiro, Biblioteca “Rosauro Rosas Acosta”, Av. Principal de Pampatar, Frente a la Iglesia Cristo del Buen Via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Mariño, Centro Bolivariano de Educación Inicial “Azul y Viento”,  calle Las Flores con Calle La Iglesia, Porlam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Villalba, Auditórium Municipal, San Pedro de Coch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Suc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Sede del INCE Industrial, Barrio Bolivariana,  Av. Principal, Cuman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Táchi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Independencia, Calle 6, frente a la Plaza Bolívar, Capa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Rafael Urdaneta, Centro Cívico, Carrera 3, entre calle 2 y 3,  Las Delic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Ateneo del Táchira, calle 9  con carrera 6, San Cristób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anamericano, Carrera 2, entre calles 4 y 5, Colonc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Var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2205000"/>
            <a:ext cx="77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Vargas, Escuela Bolivariana Nacional, Av. Principal de Naiguat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Complejo Cultural Vargas, Av. Soublette, piso 1 al lado de la Aduana Marítima, La Guai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971640" y="1773360"/>
            <a:ext cx="7632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Experiencias con el Uso de las TIC e Edu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900000" y="278136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omputadoras Viajeras (Estado Carabobo- 199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Bibliotecas Virtuales (Estado Aragua- 200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INFOCENTROS (CNTI- 200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entros Bolivarianos de Informática  y Telemática ( FundaBIT- 200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7" action="ppaction://hlinksldjump"/>
          </p:cNvPr>
          <p:cNvSpPr/>
          <p:nvPr/>
        </p:nvSpPr>
        <p:spPr>
          <a:xfrm>
            <a:off x="8244000" y="587700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7493"/>
                </a:moveTo>
                <a:lnTo>
                  <a:pt x="10388" y="7493"/>
                </a:lnTo>
                <a:lnTo>
                  <a:pt x="10388" y="12828"/>
                </a:lnTo>
                <a:cubicBezTo>
                  <a:pt x="10388" y="13751"/>
                  <a:pt x="11189" y="14482"/>
                  <a:pt x="12224" y="14482"/>
                </a:cubicBezTo>
                <a:lnTo>
                  <a:pt x="13887" y="14482"/>
                </a:lnTo>
                <a:cubicBezTo>
                  <a:pt x="14923" y="14482"/>
                  <a:pt x="15723" y="13751"/>
                  <a:pt x="15723" y="12828"/>
                </a:cubicBezTo>
                <a:lnTo>
                  <a:pt x="15723" y="7493"/>
                </a:lnTo>
                <a:lnTo>
                  <a:pt x="13887" y="7493"/>
                </a:lnTo>
                <a:lnTo>
                  <a:pt x="17394" y="3985"/>
                </a:lnTo>
                <a:lnTo>
                  <a:pt x="21067" y="7493"/>
                </a:lnTo>
                <a:lnTo>
                  <a:pt x="19231" y="7493"/>
                </a:lnTo>
                <a:lnTo>
                  <a:pt x="19231" y="12828"/>
                </a:lnTo>
                <a:cubicBezTo>
                  <a:pt x="19231" y="15596"/>
                  <a:pt x="16655" y="18155"/>
                  <a:pt x="13887" y="18155"/>
                </a:cubicBezTo>
                <a:lnTo>
                  <a:pt x="12224" y="18155"/>
                </a:lnTo>
                <a:cubicBezTo>
                  <a:pt x="9457" y="18155"/>
                  <a:pt x="6880" y="15596"/>
                  <a:pt x="6880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Yaracu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6920" y="2205000"/>
            <a:ext cx="77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Universidad Pedagógica Experimental (UPEL) Libertador, Av. Cartagena con calle Rafael,  San Feli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>
            <a:hlinkClick r:id="rId2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Zu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2205000"/>
            <a:ext cx="7632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Maracaibo, Parque Vereda del La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Miranda, Urbanización Nuevo Hornito  Sector Costa Sur , área Pesqu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Baralt, Casa de la Cultura de San Timot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rId4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entros Inaugu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332000" y="1590840"/>
            <a:ext cx="4103640" cy="2412000"/>
            <a:chOff x="1332000" y="1590840"/>
            <a:chExt cx="4103640" cy="2412000"/>
          </a:xfrm>
        </p:grpSpPr>
        <p:graphicFrame>
          <p:nvGraphicFramePr>
            <p:cNvPr id="311" name=""/>
            <p:cNvGraphicFramePr/>
            <p:nvPr/>
          </p:nvGraphicFramePr>
          <p:xfrm>
            <a:off x="1332000" y="1590840"/>
            <a:ext cx="2460600" cy="172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2000" y="1590840"/>
                      <a:ext cx="246060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3" name=""/>
            <p:cNvSpPr/>
            <p:nvPr/>
          </p:nvSpPr>
          <p:spPr>
            <a:xfrm>
              <a:off x="3164040" y="2935440"/>
              <a:ext cx="2271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San Fernando de Apur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Ap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14-12-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82400" y="4257720"/>
            <a:ext cx="3441960" cy="2553480"/>
            <a:chOff x="482400" y="4257720"/>
            <a:chExt cx="3441960" cy="2553480"/>
          </a:xfrm>
        </p:grpSpPr>
        <p:graphicFrame>
          <p:nvGraphicFramePr>
            <p:cNvPr id="315" name=""/>
            <p:cNvGraphicFramePr/>
            <p:nvPr/>
          </p:nvGraphicFramePr>
          <p:xfrm>
            <a:off x="1476360" y="4257720"/>
            <a:ext cx="2448000" cy="1776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6360" y="4257720"/>
                      <a:ext cx="2448000" cy="177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>
              <a:off x="482400" y="5743800"/>
              <a:ext cx="1808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Puerto La Cruz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Anzoátegu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05-04-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614920" y="1557360"/>
            <a:ext cx="3521160" cy="2192400"/>
            <a:chOff x="5614920" y="1557360"/>
            <a:chExt cx="3521160" cy="2192400"/>
          </a:xfrm>
        </p:grpSpPr>
        <p:graphicFrame>
          <p:nvGraphicFramePr>
            <p:cNvPr id="319" name=""/>
            <p:cNvGraphicFramePr/>
            <p:nvPr/>
          </p:nvGraphicFramePr>
          <p:xfrm>
            <a:off x="5614920" y="1557360"/>
            <a:ext cx="2520720" cy="1689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4920" y="1557360"/>
                      <a:ext cx="2520720" cy="16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1" name=""/>
            <p:cNvSpPr/>
            <p:nvPr/>
          </p:nvSpPr>
          <p:spPr>
            <a:xfrm>
              <a:off x="7629480" y="2925720"/>
              <a:ext cx="1506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Santa Lucí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Mirand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20-05-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514400" y="4221000"/>
            <a:ext cx="3514680" cy="1825920"/>
            <a:chOff x="4514400" y="4221000"/>
            <a:chExt cx="3514680" cy="1825920"/>
          </a:xfrm>
        </p:grpSpPr>
        <p:graphicFrame>
          <p:nvGraphicFramePr>
            <p:cNvPr id="323" name=""/>
            <p:cNvGraphicFramePr/>
            <p:nvPr/>
          </p:nvGraphicFramePr>
          <p:xfrm>
            <a:off x="5725800" y="4221000"/>
            <a:ext cx="2303280" cy="1825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25800" y="4221000"/>
                      <a:ext cx="2303280" cy="182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5" name=""/>
            <p:cNvSpPr/>
            <p:nvPr/>
          </p:nvSpPr>
          <p:spPr>
            <a:xfrm>
              <a:off x="4514400" y="5157720"/>
              <a:ext cx="137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Bailadore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Mérid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11-02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">
            <a:hlinkClick r:id="rId9" action="ppaction://hlinksldjump"/>
          </p:cNvPr>
          <p:cNvSpPr/>
          <p:nvPr/>
        </p:nvSpPr>
        <p:spPr>
          <a:xfrm>
            <a:off x="8388360" y="58770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4360" y="62064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entros Inaugu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116000" y="1700280"/>
            <a:ext cx="3655440" cy="2364480"/>
            <a:chOff x="1116000" y="1700280"/>
            <a:chExt cx="3655440" cy="2364480"/>
          </a:xfrm>
        </p:grpSpPr>
        <p:graphicFrame>
          <p:nvGraphicFramePr>
            <p:cNvPr id="329" name=""/>
            <p:cNvGraphicFramePr/>
            <p:nvPr/>
          </p:nvGraphicFramePr>
          <p:xfrm>
            <a:off x="1116000" y="1700280"/>
            <a:ext cx="2781360" cy="1698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1700280"/>
                      <a:ext cx="2781360" cy="16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1" name=""/>
            <p:cNvSpPr/>
            <p:nvPr/>
          </p:nvSpPr>
          <p:spPr>
            <a:xfrm>
              <a:off x="3347280" y="2997360"/>
              <a:ext cx="1424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Sabanet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Bari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26-04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32640" y="1700280"/>
            <a:ext cx="2903040" cy="2172960"/>
            <a:chOff x="5732640" y="1700280"/>
            <a:chExt cx="2903040" cy="2172960"/>
          </a:xfrm>
        </p:grpSpPr>
        <p:pic>
          <p:nvPicPr>
            <p:cNvPr id="333" name="" descr=""/>
            <p:cNvPicPr/>
            <p:nvPr/>
          </p:nvPicPr>
          <p:blipFill>
            <a:blip r:embed="rId3"/>
            <a:stretch/>
          </p:blipFill>
          <p:spPr>
            <a:xfrm>
              <a:off x="6095160" y="1700280"/>
              <a:ext cx="2540520" cy="175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732640" y="3049200"/>
              <a:ext cx="1238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Cumaná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Suc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06-07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82920" y="4183200"/>
            <a:ext cx="3476160" cy="2446200"/>
            <a:chOff x="682920" y="4183200"/>
            <a:chExt cx="3476160" cy="2446200"/>
          </a:xfrm>
        </p:grpSpPr>
        <p:graphicFrame>
          <p:nvGraphicFramePr>
            <p:cNvPr id="336" name=""/>
            <p:cNvGraphicFramePr/>
            <p:nvPr/>
          </p:nvGraphicFramePr>
          <p:xfrm>
            <a:off x="1711440" y="4183200"/>
            <a:ext cx="2447640" cy="211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11440" y="4183200"/>
                      <a:ext cx="2447640" cy="21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8" name=""/>
            <p:cNvSpPr/>
            <p:nvPr/>
          </p:nvSpPr>
          <p:spPr>
            <a:xfrm>
              <a:off x="682920" y="5805360"/>
              <a:ext cx="1549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Barquisime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La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14-07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0480" y="4365720"/>
            <a:ext cx="3648240" cy="2230560"/>
            <a:chOff x="5100480" y="4365720"/>
            <a:chExt cx="3648240" cy="2230560"/>
          </a:xfrm>
        </p:grpSpPr>
        <p:graphicFrame>
          <p:nvGraphicFramePr>
            <p:cNvPr id="340" name=""/>
            <p:cNvGraphicFramePr/>
            <p:nvPr/>
          </p:nvGraphicFramePr>
          <p:xfrm>
            <a:off x="5867280" y="4365720"/>
            <a:ext cx="2881440" cy="1865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4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867280" y="4365720"/>
                      <a:ext cx="2881440" cy="18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2" name=""/>
            <p:cNvSpPr/>
            <p:nvPr/>
          </p:nvSpPr>
          <p:spPr>
            <a:xfrm>
              <a:off x="5100480" y="5772240"/>
              <a:ext cx="1352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Naiquatá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Var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23-07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>
            <a:hlinkClick r:id="rId8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71640" y="1700280"/>
            <a:ext cx="7129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lumnos de la I, II y III Etapa de Educación Básica, mediante sus Proyectos Pedagógicos de Aula (PPA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ocentes, mediante planes de formación continua y permanen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Miembros de las comunidades aledañas, mediante todo tipo eventos, así como actividades de servicios comunitari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Beneficiar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00000" y="2971800"/>
            <a:ext cx="37432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6764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7493"/>
                </a:moveTo>
                <a:lnTo>
                  <a:pt x="23515" y="7493"/>
                </a:lnTo>
                <a:lnTo>
                  <a:pt x="23515" y="12828"/>
                </a:lnTo>
                <a:cubicBezTo>
                  <a:pt x="23515" y="13751"/>
                  <a:pt x="24315" y="14482"/>
                  <a:pt x="25351" y="14482"/>
                </a:cubicBezTo>
                <a:lnTo>
                  <a:pt x="27013" y="14482"/>
                </a:lnTo>
                <a:cubicBezTo>
                  <a:pt x="28049" y="14482"/>
                  <a:pt x="28850" y="13751"/>
                  <a:pt x="28850" y="12828"/>
                </a:cubicBezTo>
                <a:lnTo>
                  <a:pt x="28850" y="7493"/>
                </a:lnTo>
                <a:lnTo>
                  <a:pt x="27013" y="7493"/>
                </a:lnTo>
                <a:lnTo>
                  <a:pt x="30521" y="3985"/>
                </a:lnTo>
                <a:lnTo>
                  <a:pt x="34194" y="7493"/>
                </a:lnTo>
                <a:lnTo>
                  <a:pt x="32358" y="7493"/>
                </a:lnTo>
                <a:lnTo>
                  <a:pt x="32358" y="12828"/>
                </a:lnTo>
                <a:cubicBezTo>
                  <a:pt x="32358" y="15596"/>
                  <a:pt x="29781" y="18155"/>
                  <a:pt x="27013" y="18155"/>
                </a:cubicBezTo>
                <a:lnTo>
                  <a:pt x="25351" y="18155"/>
                </a:lnTo>
                <a:cubicBezTo>
                  <a:pt x="22583" y="18155"/>
                  <a:pt x="20007" y="15596"/>
                  <a:pt x="2000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5640" y="1484280"/>
            <a:ext cx="7129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lumnos y docente  en horario escolar, de lunes a viernes de 8:00am a 12:00m y de1:00pm a 5:00p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ocentes de 8:00am a 12:00m y de 1:00pm a 5:00pm, en cursos presenciales o a distancia durante la segunda quincena de julio y segunda quincena de septiemb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Comunidad en general de  lunes a viernes de 5:00pm a 8:00pm y los sábados de 8:00am a 12m y de 1:00pm a 5:00p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Horario de u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00000" y="2971800"/>
            <a:ext cx="37432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6764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7493"/>
                </a:moveTo>
                <a:lnTo>
                  <a:pt x="23515" y="7493"/>
                </a:lnTo>
                <a:lnTo>
                  <a:pt x="23515" y="12828"/>
                </a:lnTo>
                <a:cubicBezTo>
                  <a:pt x="23515" y="13751"/>
                  <a:pt x="24315" y="14482"/>
                  <a:pt x="25351" y="14482"/>
                </a:cubicBezTo>
                <a:lnTo>
                  <a:pt x="27013" y="14482"/>
                </a:lnTo>
                <a:cubicBezTo>
                  <a:pt x="28049" y="14482"/>
                  <a:pt x="28850" y="13751"/>
                  <a:pt x="28850" y="12828"/>
                </a:cubicBezTo>
                <a:lnTo>
                  <a:pt x="28850" y="7493"/>
                </a:lnTo>
                <a:lnTo>
                  <a:pt x="27013" y="7493"/>
                </a:lnTo>
                <a:lnTo>
                  <a:pt x="30521" y="3985"/>
                </a:lnTo>
                <a:lnTo>
                  <a:pt x="34194" y="7493"/>
                </a:lnTo>
                <a:lnTo>
                  <a:pt x="32358" y="7493"/>
                </a:lnTo>
                <a:lnTo>
                  <a:pt x="32358" y="12828"/>
                </a:lnTo>
                <a:cubicBezTo>
                  <a:pt x="32358" y="15596"/>
                  <a:pt x="29781" y="18155"/>
                  <a:pt x="27013" y="18155"/>
                </a:cubicBezTo>
                <a:lnTo>
                  <a:pt x="25351" y="18155"/>
                </a:lnTo>
                <a:cubicBezTo>
                  <a:pt x="22583" y="18155"/>
                  <a:pt x="20007" y="15596"/>
                  <a:pt x="2000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476360" y="1700280"/>
          <a:ext cx="6767640" cy="4924440"/>
        </p:xfrm>
        <a:graphic>
          <a:graphicData uri="http://schemas.openxmlformats.org/drawingml/2006/table">
            <a:tbl>
              <a:tblPr/>
              <a:tblGrid>
                <a:gridCol w="3166920"/>
                <a:gridCol w="1227240"/>
                <a:gridCol w="828720"/>
                <a:gridCol w="716040"/>
                <a:gridCol w="828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mazon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nzoategu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1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p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rag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Barin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7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5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Bolív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rabob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8244000" y="5805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3794"/>
                </a:moveTo>
                <a:lnTo>
                  <a:pt x="22469" y="10800"/>
                </a:lnTo>
                <a:lnTo>
                  <a:pt x="84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476360" y="1700280"/>
          <a:ext cx="6767640" cy="5195880"/>
        </p:xfrm>
        <a:graphic>
          <a:graphicData uri="http://schemas.openxmlformats.org/drawingml/2006/table">
            <a:tbl>
              <a:tblPr/>
              <a:tblGrid>
                <a:gridCol w="3166920"/>
                <a:gridCol w="1227240"/>
                <a:gridCol w="828720"/>
                <a:gridCol w="716040"/>
                <a:gridCol w="828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oje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tto Ca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elta Amac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7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Falc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Guári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La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5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3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Méri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7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8244000" y="5877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36760" y="-1375560"/>
            <a:ext cx="552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24440" y="-1375560"/>
            <a:ext cx="368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6.8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708520" y="-1375560"/>
            <a:ext cx="598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.33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3.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900000" y="1844640"/>
          <a:ext cx="7704360" cy="4226040"/>
        </p:xfrm>
        <a:graphic>
          <a:graphicData uri="http://schemas.openxmlformats.org/drawingml/2006/table">
            <a:tbl>
              <a:tblPr/>
              <a:tblGrid>
                <a:gridCol w="3605400"/>
                <a:gridCol w="1396800"/>
                <a:gridCol w="943200"/>
                <a:gridCol w="815760"/>
                <a:gridCol w="9432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Miran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6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Monag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Nva. Espar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3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Portugue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Suc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achi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4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0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ruji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8028000" y="5877000"/>
            <a:ext cx="865080" cy="50472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7011" h="21600">
                <a:moveTo>
                  <a:pt x="0" y="0"/>
                </a:moveTo>
                <a:lnTo>
                  <a:pt x="37011" y="0"/>
                </a:lnTo>
                <a:lnTo>
                  <a:pt x="37011" y="21600"/>
                </a:lnTo>
                <a:lnTo>
                  <a:pt x="0" y="21600"/>
                </a:lnTo>
                <a:close/>
              </a:path>
              <a:path fill="lightenLess" w="37011" h="21600">
                <a:moveTo>
                  <a:pt x="0" y="0"/>
                </a:moveTo>
                <a:lnTo>
                  <a:pt x="37011" y="0"/>
                </a:lnTo>
                <a:lnTo>
                  <a:pt x="35611" y="1400"/>
                </a:lnTo>
                <a:lnTo>
                  <a:pt x="1400" y="1400"/>
                </a:lnTo>
                <a:close/>
              </a:path>
              <a:path fill="darken" w="37011" h="21600">
                <a:moveTo>
                  <a:pt x="37011" y="0"/>
                </a:moveTo>
                <a:lnTo>
                  <a:pt x="37011" y="21600"/>
                </a:lnTo>
                <a:lnTo>
                  <a:pt x="35611" y="20200"/>
                </a:lnTo>
                <a:lnTo>
                  <a:pt x="35611" y="1400"/>
                </a:lnTo>
                <a:close/>
              </a:path>
              <a:path fill="darkenLess" w="37011" h="21600">
                <a:moveTo>
                  <a:pt x="37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1" y="20200"/>
                </a:lnTo>
                <a:close/>
              </a:path>
              <a:path fill="lighten" w="37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1" h="21600">
                <a:moveTo>
                  <a:pt x="11499" y="3794"/>
                </a:moveTo>
                <a:lnTo>
                  <a:pt x="25512" y="10800"/>
                </a:lnTo>
                <a:lnTo>
                  <a:pt x="11499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36760" y="-1375560"/>
            <a:ext cx="552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24440" y="-1375560"/>
            <a:ext cx="368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6.8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08520" y="-1375560"/>
            <a:ext cx="598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.33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3.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619280" y="1700280"/>
          <a:ext cx="6624720" cy="4568760"/>
        </p:xfrm>
        <a:graphic>
          <a:graphicData uri="http://schemas.openxmlformats.org/drawingml/2006/table">
            <a:tbl>
              <a:tblPr/>
              <a:tblGrid>
                <a:gridCol w="3024000"/>
                <a:gridCol w="1227240"/>
                <a:gridCol w="828720"/>
                <a:gridCol w="716040"/>
                <a:gridCol w="828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ruji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Varg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9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Yaracu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Zul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6.8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.3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3.9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8101080" y="566100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9" h="21600">
                <a:moveTo>
                  <a:pt x="6463" y="3794"/>
                </a:moveTo>
                <a:lnTo>
                  <a:pt x="20476" y="10800"/>
                </a:lnTo>
                <a:lnTo>
                  <a:pt x="6463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971640" y="2565360"/>
            <a:ext cx="741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316800" indent="-316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3" action="ppaction://hlinksldjump"/>
              </a:rPr>
              <a:t>Marco Leg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Oportun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971640" y="3141720"/>
            <a:ext cx="7488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50280" indent="-350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a apertura de Organismos Internacionales para invertir en Programas Socia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6" action="ppaction://hlinksldjump"/>
          </p:cNvPr>
          <p:cNvSpPr/>
          <p:nvPr/>
        </p:nvSpPr>
        <p:spPr>
          <a:xfrm>
            <a:off x="971640" y="4653000"/>
            <a:ext cx="75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65400" indent="-365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El interés de Autoridades Regionales e Instituciones Públicas y Privadas en contribuir recursos para el desarrollo de Proyectos de incorporación de las 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8" action="ppaction://hlinksldjump"/>
          </p:cNvPr>
          <p:cNvSpPr/>
          <p:nvPr/>
        </p:nvSpPr>
        <p:spPr>
          <a:xfrm>
            <a:off x="8604360" y="5950080"/>
            <a:ext cx="539640" cy="3585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2497" h="21600">
                <a:moveTo>
                  <a:pt x="0" y="0"/>
                </a:moveTo>
                <a:lnTo>
                  <a:pt x="32497" y="0"/>
                </a:lnTo>
                <a:lnTo>
                  <a:pt x="32497" y="21600"/>
                </a:lnTo>
                <a:lnTo>
                  <a:pt x="0" y="21600"/>
                </a:lnTo>
                <a:close/>
              </a:path>
              <a:path fill="lightenLess" w="32497" h="21600">
                <a:moveTo>
                  <a:pt x="0" y="0"/>
                </a:moveTo>
                <a:lnTo>
                  <a:pt x="32497" y="0"/>
                </a:lnTo>
                <a:lnTo>
                  <a:pt x="31097" y="1400"/>
                </a:lnTo>
                <a:lnTo>
                  <a:pt x="1400" y="1400"/>
                </a:lnTo>
                <a:close/>
              </a:path>
              <a:path fill="darken" w="32497" h="21600">
                <a:moveTo>
                  <a:pt x="32497" y="0"/>
                </a:moveTo>
                <a:lnTo>
                  <a:pt x="32497" y="21600"/>
                </a:lnTo>
                <a:lnTo>
                  <a:pt x="31097" y="20200"/>
                </a:lnTo>
                <a:lnTo>
                  <a:pt x="31097" y="1400"/>
                </a:lnTo>
                <a:close/>
              </a:path>
              <a:path fill="darkenLess" w="32497" h="21600">
                <a:moveTo>
                  <a:pt x="32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97" y="20200"/>
                </a:lnTo>
                <a:close/>
              </a:path>
              <a:path fill="lighten" w="32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97" h="21600">
                <a:moveTo>
                  <a:pt x="9242" y="3794"/>
                </a:moveTo>
                <a:lnTo>
                  <a:pt x="23255" y="10800"/>
                </a:lnTo>
                <a:lnTo>
                  <a:pt x="9242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619280" y="1366920"/>
          <a:ext cx="2808360" cy="4870440"/>
        </p:xfrm>
        <a:graphic>
          <a:graphicData uri="http://schemas.openxmlformats.org/drawingml/2006/table">
            <a:tbl>
              <a:tblPr/>
              <a:tblGrid>
                <a:gridCol w="1800360"/>
                <a:gridCol w="100800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Est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mazo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nzoátegu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p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r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Bari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Bolí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Carabo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Coje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Delta Amac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Distrito Capi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Falc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Guár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Próximos CBIT por estad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5219640" y="1341360"/>
          <a:ext cx="2808360" cy="4849920"/>
        </p:xfrm>
        <a:graphic>
          <a:graphicData uri="http://schemas.openxmlformats.org/drawingml/2006/table">
            <a:tbl>
              <a:tblPr/>
              <a:tblGrid>
                <a:gridCol w="1800360"/>
                <a:gridCol w="100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Est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La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Mér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Miran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Monag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Nueva Espar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Portugu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Suc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Táchi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Truji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Varg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Yaracu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Zul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"/>
          <p:cNvSpPr/>
          <p:nvPr/>
        </p:nvSpPr>
        <p:spPr>
          <a:xfrm>
            <a:off x="766764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7493"/>
                </a:moveTo>
                <a:lnTo>
                  <a:pt x="23515" y="7493"/>
                </a:lnTo>
                <a:lnTo>
                  <a:pt x="23515" y="12828"/>
                </a:lnTo>
                <a:cubicBezTo>
                  <a:pt x="23515" y="13751"/>
                  <a:pt x="24315" y="14482"/>
                  <a:pt x="25351" y="14482"/>
                </a:cubicBezTo>
                <a:lnTo>
                  <a:pt x="27013" y="14482"/>
                </a:lnTo>
                <a:cubicBezTo>
                  <a:pt x="28049" y="14482"/>
                  <a:pt x="28850" y="13751"/>
                  <a:pt x="28850" y="12828"/>
                </a:cubicBezTo>
                <a:lnTo>
                  <a:pt x="28850" y="7493"/>
                </a:lnTo>
                <a:lnTo>
                  <a:pt x="27013" y="7493"/>
                </a:lnTo>
                <a:lnTo>
                  <a:pt x="30521" y="3985"/>
                </a:lnTo>
                <a:lnTo>
                  <a:pt x="34194" y="7493"/>
                </a:lnTo>
                <a:lnTo>
                  <a:pt x="32358" y="7493"/>
                </a:lnTo>
                <a:lnTo>
                  <a:pt x="32358" y="12828"/>
                </a:lnTo>
                <a:cubicBezTo>
                  <a:pt x="32358" y="15596"/>
                  <a:pt x="29781" y="18155"/>
                  <a:pt x="27013" y="18155"/>
                </a:cubicBezTo>
                <a:lnTo>
                  <a:pt x="25351" y="18155"/>
                </a:lnTo>
                <a:cubicBezTo>
                  <a:pt x="22583" y="18155"/>
                  <a:pt x="20007" y="15596"/>
                  <a:pt x="2000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014800" y="368784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00000" y="1800360"/>
          <a:ext cx="824400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00360"/>
                    <a:ext cx="8244000" cy="5057640"/>
                  </a:xfrm>
                  <a:prstGeom prst="rect">
                    <a:avLst/>
                  </a:prstGeom>
                  <a:ln w="2844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3" name="">
            <a:hlinkClick r:id="rId3" action="ppaction://hlinksldjump"/>
          </p:cNvPr>
          <p:cNvSpPr/>
          <p:nvPr/>
        </p:nvSpPr>
        <p:spPr>
          <a:xfrm>
            <a:off x="4329000" y="545616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ZO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rId4" action="ppaction://hlinksldjump"/>
          </p:cNvPr>
          <p:cNvSpPr/>
          <p:nvPr/>
        </p:nvSpPr>
        <p:spPr>
          <a:xfrm>
            <a:off x="5472000" y="45417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OLÍVA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>
            <a:hlinkClick r:id="rId5" action="ppaction://hlinksldjump"/>
          </p:cNvPr>
          <p:cNvSpPr/>
          <p:nvPr/>
        </p:nvSpPr>
        <p:spPr>
          <a:xfrm>
            <a:off x="3338640" y="4160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PU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>
            <a:hlinkClick r:id="rId6" action="ppaction://hlinksldjump"/>
          </p:cNvPr>
          <p:cNvSpPr/>
          <p:nvPr/>
        </p:nvSpPr>
        <p:spPr>
          <a:xfrm rot="61200">
            <a:off x="6460920" y="3551040"/>
            <a:ext cx="838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ELTA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CUR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>
            <a:hlinkClick r:id="rId7" action="ppaction://hlinksldjump"/>
          </p:cNvPr>
          <p:cNvSpPr/>
          <p:nvPr/>
        </p:nvSpPr>
        <p:spPr>
          <a:xfrm>
            <a:off x="2728800" y="37339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ARI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>
            <a:hlinkClick r:id="rId8" action="ppaction://hlinksldjump"/>
          </p:cNvPr>
          <p:cNvSpPr/>
          <p:nvPr/>
        </p:nvSpPr>
        <p:spPr>
          <a:xfrm rot="21591600">
            <a:off x="1738080" y="32461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ZULI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rId9" action="ppaction://hlinksldjump"/>
          </p:cNvPr>
          <p:cNvSpPr/>
          <p:nvPr/>
        </p:nvSpPr>
        <p:spPr>
          <a:xfrm>
            <a:off x="2805120" y="28195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FALCÓN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>
            <a:hlinkClick r:id="rId10" action="ppaction://hlinksldjump"/>
          </p:cNvPr>
          <p:cNvSpPr/>
          <p:nvPr/>
        </p:nvSpPr>
        <p:spPr>
          <a:xfrm>
            <a:off x="2881440" y="3094200"/>
            <a:ext cx="533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LA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>
            <a:hlinkClick r:id="rId11" action="ppaction://hlinksldjump"/>
          </p:cNvPr>
          <p:cNvSpPr/>
          <p:nvPr/>
        </p:nvSpPr>
        <p:spPr>
          <a:xfrm rot="26400">
            <a:off x="3033360" y="35049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ORTUGUES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>
            <a:hlinkClick r:id="rId12" action="ppaction://hlinksldjump"/>
          </p:cNvPr>
          <p:cNvSpPr/>
          <p:nvPr/>
        </p:nvSpPr>
        <p:spPr>
          <a:xfrm rot="85200">
            <a:off x="5089320" y="36273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NZOÁTEGUI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>
            <a:hlinkClick r:id="rId13" action="ppaction://hlinksldjump"/>
          </p:cNvPr>
          <p:cNvSpPr/>
          <p:nvPr/>
        </p:nvSpPr>
        <p:spPr>
          <a:xfrm rot="40800">
            <a:off x="5567040" y="3352680"/>
            <a:ext cx="74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ONA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>
            <a:hlinkClick r:id="rId14" action="ppaction://hlinksldjump"/>
          </p:cNvPr>
          <p:cNvSpPr/>
          <p:nvPr/>
        </p:nvSpPr>
        <p:spPr>
          <a:xfrm>
            <a:off x="5624640" y="3017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SUC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>
            <a:hlinkClick r:id="rId15" action="ppaction://hlinksldjump"/>
          </p:cNvPr>
          <p:cNvSpPr/>
          <p:nvPr/>
        </p:nvSpPr>
        <p:spPr>
          <a:xfrm>
            <a:off x="5548320" y="274320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NVA. ESPART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>
            <a:hlinkClick r:id="rId16" action="ppaction://hlinksldjump"/>
          </p:cNvPr>
          <p:cNvSpPr/>
          <p:nvPr/>
        </p:nvSpPr>
        <p:spPr>
          <a:xfrm>
            <a:off x="4329000" y="30942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IRAN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>
            <a:hlinkClick r:id="rId17" action="ppaction://hlinksldjump"/>
          </p:cNvPr>
          <p:cNvSpPr/>
          <p:nvPr/>
        </p:nvSpPr>
        <p:spPr>
          <a:xfrm rot="19171800">
            <a:off x="3414960" y="28652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YARACUY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>
            <a:hlinkClick r:id="rId18" action="ppaction://hlinksldjump"/>
          </p:cNvPr>
          <p:cNvSpPr/>
          <p:nvPr/>
        </p:nvSpPr>
        <p:spPr>
          <a:xfrm rot="21598800">
            <a:off x="2576520" y="335232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RUJILLL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>
            <a:hlinkClick r:id="rId19" action="ppaction://hlinksldjump"/>
          </p:cNvPr>
          <p:cNvSpPr/>
          <p:nvPr/>
        </p:nvSpPr>
        <p:spPr>
          <a:xfrm rot="24600">
            <a:off x="2193480" y="3703680"/>
            <a:ext cx="609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ÉRI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>
            <a:hlinkClick r:id="rId20" action="ppaction://hlinksldjump"/>
          </p:cNvPr>
          <p:cNvSpPr/>
          <p:nvPr/>
        </p:nvSpPr>
        <p:spPr>
          <a:xfrm rot="21599400">
            <a:off x="1965240" y="38844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ÁCHI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>
            <a:hlinkClick r:id="rId21" action="ppaction://hlinksldjump"/>
          </p:cNvPr>
          <p:cNvSpPr/>
          <p:nvPr/>
        </p:nvSpPr>
        <p:spPr>
          <a:xfrm rot="87000">
            <a:off x="3947760" y="3170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RAGU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>
            <a:hlinkClick r:id="rId22" action="ppaction://hlinksldjump"/>
          </p:cNvPr>
          <p:cNvSpPr/>
          <p:nvPr/>
        </p:nvSpPr>
        <p:spPr>
          <a:xfrm rot="19318800">
            <a:off x="4177440" y="2788920"/>
            <a:ext cx="957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TTO. CAPIT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>
            <a:hlinkClick r:id="rId23" action="ppaction://hlinksldjump"/>
          </p:cNvPr>
          <p:cNvSpPr/>
          <p:nvPr/>
        </p:nvSpPr>
        <p:spPr>
          <a:xfrm rot="6600">
            <a:off x="3414600" y="3276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JEDE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>
            <a:hlinkClick r:id="rId24" action="ppaction://hlinksldjump"/>
          </p:cNvPr>
          <p:cNvSpPr/>
          <p:nvPr/>
        </p:nvSpPr>
        <p:spPr>
          <a:xfrm>
            <a:off x="4176720" y="3627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GUÁRIC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>
            <a:hlinkClick r:id="rId25" action="ppaction://hlinksldjump"/>
          </p:cNvPr>
          <p:cNvSpPr/>
          <p:nvPr/>
        </p:nvSpPr>
        <p:spPr>
          <a:xfrm rot="19270200">
            <a:off x="3697560" y="2865240"/>
            <a:ext cx="78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ARABOB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>
            <a:hlinkClick r:id="rId26" action="ppaction://hlinksldjump"/>
          </p:cNvPr>
          <p:cNvSpPr/>
          <p:nvPr/>
        </p:nvSpPr>
        <p:spPr>
          <a:xfrm rot="19294800">
            <a:off x="4024800" y="2850840"/>
            <a:ext cx="652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VAR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81360" y="476280"/>
            <a:ext cx="5715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pperplate Gothic Bold"/>
              </a:rPr>
              <a:t>Gracias por su aten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164360" y="6308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Funda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1844640"/>
            <a:ext cx="74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61440" indent="-361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Marco 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900000" y="2421000"/>
            <a:ext cx="75596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onstitución de la República (Art. 108 y 1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ey Orgánica de Educación (Art. 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Decreto 8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ey de Telecomunic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OPNA (Art. 7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FIDES ( Art. 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8" action="ppaction://hlinksldjump"/>
          </p:cNvPr>
          <p:cNvSpPr/>
          <p:nvPr/>
        </p:nvSpPr>
        <p:spPr>
          <a:xfrm>
            <a:off x="7740720" y="5734080"/>
            <a:ext cx="934920" cy="503280"/>
          </a:xfrm>
          <a:custGeom>
            <a:avLst/>
            <a:gdLst>
              <a:gd name="textAreaLeft" fmla="*/ 32400 w 934920"/>
              <a:gd name="textAreaRight" fmla="*/ 902520 w 93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12" h="21600">
                <a:moveTo>
                  <a:pt x="0" y="0"/>
                </a:moveTo>
                <a:lnTo>
                  <a:pt x="40112" y="0"/>
                </a:lnTo>
                <a:lnTo>
                  <a:pt x="40112" y="21600"/>
                </a:lnTo>
                <a:lnTo>
                  <a:pt x="0" y="21600"/>
                </a:lnTo>
                <a:close/>
              </a:path>
              <a:path fill="lightenLess" w="40112" h="21600">
                <a:moveTo>
                  <a:pt x="0" y="0"/>
                </a:moveTo>
                <a:lnTo>
                  <a:pt x="40112" y="0"/>
                </a:lnTo>
                <a:lnTo>
                  <a:pt x="38712" y="1400"/>
                </a:lnTo>
                <a:lnTo>
                  <a:pt x="1400" y="1400"/>
                </a:lnTo>
                <a:close/>
              </a:path>
              <a:path fill="darken" w="40112" h="21600">
                <a:moveTo>
                  <a:pt x="40112" y="0"/>
                </a:moveTo>
                <a:lnTo>
                  <a:pt x="40112" y="21600"/>
                </a:lnTo>
                <a:lnTo>
                  <a:pt x="38712" y="20200"/>
                </a:lnTo>
                <a:lnTo>
                  <a:pt x="38712" y="1400"/>
                </a:lnTo>
                <a:close/>
              </a:path>
              <a:path fill="darkenLess" w="40112" h="21600">
                <a:moveTo>
                  <a:pt x="40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2" y="20200"/>
                </a:lnTo>
                <a:close/>
              </a:path>
              <a:path fill="lighten" w="40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2" h="21600">
                <a:moveTo>
                  <a:pt x="13050" y="7493"/>
                </a:moveTo>
                <a:lnTo>
                  <a:pt x="16557" y="7493"/>
                </a:lnTo>
                <a:lnTo>
                  <a:pt x="16557" y="12828"/>
                </a:lnTo>
                <a:cubicBezTo>
                  <a:pt x="16557" y="13751"/>
                  <a:pt x="17358" y="14482"/>
                  <a:pt x="18394" y="14482"/>
                </a:cubicBezTo>
                <a:lnTo>
                  <a:pt x="20056" y="14482"/>
                </a:lnTo>
                <a:cubicBezTo>
                  <a:pt x="21092" y="14482"/>
                  <a:pt x="21893" y="13751"/>
                  <a:pt x="21893" y="12828"/>
                </a:cubicBezTo>
                <a:lnTo>
                  <a:pt x="21893" y="7493"/>
                </a:lnTo>
                <a:lnTo>
                  <a:pt x="20056" y="7493"/>
                </a:lnTo>
                <a:lnTo>
                  <a:pt x="23564" y="3985"/>
                </a:lnTo>
                <a:lnTo>
                  <a:pt x="27237" y="7493"/>
                </a:lnTo>
                <a:lnTo>
                  <a:pt x="25400" y="7493"/>
                </a:lnTo>
                <a:lnTo>
                  <a:pt x="25400" y="12828"/>
                </a:lnTo>
                <a:cubicBezTo>
                  <a:pt x="25400" y="15596"/>
                  <a:pt x="22824" y="18155"/>
                  <a:pt x="20056" y="18155"/>
                </a:cubicBezTo>
                <a:lnTo>
                  <a:pt x="18394" y="18155"/>
                </a:lnTo>
                <a:cubicBezTo>
                  <a:pt x="15626" y="18155"/>
                  <a:pt x="13050" y="15596"/>
                  <a:pt x="13050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4869000"/>
            <a:ext cx="7416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entury Gothic"/>
              </a:rPr>
              <a:t>Escasez de recursos didáctico computarizado de libre uso, adaptado a nuestra cult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Debil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2421000"/>
            <a:ext cx="73580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2000"/>
          </a:bodyPr>
          <a:p>
            <a:pPr marL="305640" indent="-3056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Escasa divulgación del conocimiento de la TIC en la educación venezol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3429000"/>
            <a:ext cx="72500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69000" indent="-369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Dificultad para el acceso a la tecnología de la  informática y telemát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Debil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2565360"/>
            <a:ext cx="73580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Evidente pérdida de valores en la socie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No continuidad en los proyec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islamiento de la escuela de su entorno comunita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ltos costos de acceso a la tecnolog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71280" y="1925640"/>
            <a:ext cx="755316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Century Gothic"/>
              </a:rPr>
              <a:t>Son centros educativos dotados de recursos multimedios, orientados a la formación integral, continua y permanente de docentes, alumnos y comunidad en general, a través del uso de las Tecnologías de la Información y la Comunicación (TI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¿ Qué son los CBIT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5:16:36Z</dcterms:created>
  <dc:creator>Ministerio de Educaciòn Cultura y Deportes</dc:creator>
  <dc:description/>
  <dc:language>en-US</dc:language>
  <cp:lastModifiedBy>MILAGROS</cp:lastModifiedBy>
  <dcterms:modified xsi:type="dcterms:W3CDTF">2008-02-29T14:52:54Z</dcterms:modified>
  <cp:revision>328</cp:revision>
  <dc:subject/>
  <dc:title>Diapositiva 1</dc:title>
</cp:coreProperties>
</file>