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D1B8C-E621-49CD-B71B-FE5686D61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441F4-C7EE-4DB9-A1D9-2FA10EA1D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B5B2E-8956-446E-9A8B-C3D63FC9B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3F01D-5651-499F-94CE-0E063640D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F06F71-6131-4F4D-8EC0-6F84D6313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9E1006-9A50-4D89-9B65-4FE53FB97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E0C2CB-3A62-4C46-93F0-C469E1170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F02681-D566-4914-91E3-24A8E9377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1137B2-A58C-40BA-BAA9-09C096E90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CE813D-3F7D-481A-BB60-FEE361F7E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F476BF-2E70-4CCB-BA31-9DD27F58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4C41F-8BE1-41D7-B802-58104EB96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C99341-FF38-442C-9864-952634B1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7C4565-8597-4BBC-95FC-F0F14B74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E30E88-D8D9-49AC-8F50-A3936697D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DBD3AD-1A8C-435E-A9F6-776FEFB84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19DC68-A0E6-40F1-856C-D1D6F51A5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AFD9E-8FDE-448A-8AFD-2405D6A1D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DB53D-0995-4136-BE5B-7E7D5A922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1CF43-44D3-4981-AA95-67F70B2DC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A22BD-6F80-4F09-87F5-7787BC18D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5A9BD-0C61-472A-BCB0-949233A7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4BB42-A0A7-495A-83B9-49BFFDE3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31410-DE02-434C-B80C-7C9157B0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4468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620640" y="1447920"/>
            <a:ext cx="8523360" cy="75960"/>
            <a:chOff x="620640" y="1447920"/>
            <a:chExt cx="8523360" cy="75960"/>
          </a:xfrm>
        </p:grpSpPr>
        <p:sp>
          <p:nvSpPr>
            <p:cNvPr id="2" name=""/>
            <p:cNvSpPr/>
            <p:nvPr/>
          </p:nvSpPr>
          <p:spPr>
            <a:xfrm>
              <a:off x="620640" y="1523880"/>
              <a:ext cx="852336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20640" y="1447920"/>
              <a:ext cx="852336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AAAC2-ABB6-42B8-850A-F22312F60FB6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604800" y="3619440"/>
              <a:ext cx="8523360" cy="76320"/>
              <a:chOff x="604800" y="3619440"/>
              <a:chExt cx="8523360" cy="76320"/>
            </a:xfrm>
          </p:grpSpPr>
          <p:sp>
            <p:nvSpPr>
              <p:cNvPr id="48" name=""/>
              <p:cNvSpPr/>
              <p:nvPr/>
            </p:nvSpPr>
            <p:spPr>
              <a:xfrm>
                <a:off x="604800" y="3695760"/>
                <a:ext cx="8523360" cy="0"/>
              </a:xfrm>
              <a:prstGeom prst="line">
                <a:avLst/>
              </a:prstGeom>
              <a:ln cap="sq" w="2556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04800" y="3619440"/>
                <a:ext cx="8523360" cy="0"/>
              </a:xfrm>
              <a:prstGeom prst="line">
                <a:avLst/>
              </a:prstGeom>
              <a:ln cap="sq" w="7632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609480" y="1523880"/>
              <a:ext cx="8533080" cy="6098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3366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4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5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38675-BFDE-445C-A04D-BB5B07659CBA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dt" idx="6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96040" algn="ctr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343880" algn="ctr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792080" algn="ctr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internetworldstats.com/" TargetMode="Externa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826920" y="981000"/>
            <a:ext cx="7561440" cy="5473800"/>
          </a:xfrm>
          <a:prstGeom prst="rect">
            <a:avLst/>
          </a:prstGeom>
          <a:solidFill>
            <a:srgbClr val="3366cc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2646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Garamond"/>
              </a:rPr>
              <a:t> </a:t>
            </a:r>
            <a:r>
              <a:rPr b="1" lang="es-MX" sz="4400" spc="-1" strike="noStrike">
                <a:solidFill>
                  <a:srgbClr val="ffcc66"/>
                </a:solidFill>
                <a:latin typeface="Garamond"/>
              </a:rPr>
              <a:t>Apropiación Tecnológica, Inclusión Social e Innovació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73640" y="4424400"/>
            <a:ext cx="493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66"/>
                </a:solidFill>
                <a:latin typeface="Garamond"/>
              </a:rPr>
              <a:t>Dra. Silvia C. García Ur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6649 0.00046 L 0 3.14524E-006 E">
                                      <p:cBhvr>
                                        <p:cTn id="6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624996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375000" y="5229360"/>
            <a:ext cx="3097080" cy="504720"/>
          </a:xfrm>
          <a:prstGeom prst="ellipse">
            <a:avLst/>
          </a:prstGeom>
          <a:noFill/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43640" y="404640"/>
            <a:ext cx="244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(OECD Science, technology and Industry Scoreboard 2007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99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4920" y="115920"/>
            <a:ext cx="3889440" cy="29383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79280" y="5661000"/>
            <a:ext cx="85741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El negocio de las telecomunicaciones es el segundo más grande después del petróleo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a densidad de líneas de telecomunicaciones fijas es baja, comparada con otros países de América Latina, pero está creciendo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El mercado de banda ancha está apenas empezando y es un campo promisorio para la inversión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Latin America - Telecoms, Mobile and Broadband in Mercosur, Guyana, Suriname, Venezuela (200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381560" y="88920"/>
            <a:ext cx="4762440" cy="24764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381560" y="3184560"/>
            <a:ext cx="4762440" cy="24764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972000" y="2997360"/>
            <a:ext cx="16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c66"/>
                </a:solidFill>
                <a:latin typeface="Arial"/>
              </a:rPr>
              <a:t>Sitios de u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963800" y="5222880"/>
            <a:ext cx="23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c66"/>
                </a:solidFill>
                <a:latin typeface="Arial"/>
              </a:rPr>
              <a:t>Usuarios de Inter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15680" y="2486160"/>
            <a:ext cx="30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c66"/>
                </a:solidFill>
                <a:latin typeface="Arial"/>
              </a:rPr>
              <a:t>Computadores person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82200" y="2674800"/>
            <a:ext cx="145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ffffff"/>
                </a:solidFill>
                <a:latin typeface="Arial"/>
              </a:rPr>
              <a:t>(World Perspectiv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ffffff"/>
                </a:solidFill>
                <a:latin typeface="Arial"/>
              </a:rPr>
              <a:t>Université de Sherbrook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6649 0.00046 L 0 3.14524E-006 E">
                                      <p:cBhvr>
                                        <p:cTn id="20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981000"/>
            <a:ext cx="9144000" cy="5473800"/>
          </a:xfrm>
          <a:prstGeom prst="rect">
            <a:avLst/>
          </a:prstGeom>
          <a:solidFill>
            <a:srgbClr val="ffffff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80920" y="5661000"/>
            <a:ext cx="615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3366"/>
                </a:solidFill>
                <a:latin typeface="Arial"/>
              </a:rPr>
              <a:t>Fuente: Internet World Stats.  </a:t>
            </a:r>
            <a:r>
              <a:rPr b="0" lang="es-ES" sz="16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http://www.internetworldstats.com</a:t>
            </a: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39720" y="404640"/>
            <a:ext cx="8325000" cy="42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Garamond"/>
              </a:rPr>
              <a:t>Uso de Internet en países de América del S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1280" y="1447920"/>
            <a:ext cx="8964720" cy="38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6649 0.00046 L 0 3.14524E-006 E">
                                      <p:cBhvr>
                                        <p:cTn id="26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0" y="404640"/>
          <a:ext cx="8893080" cy="4027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04640"/>
                    <a:ext cx="8893080" cy="40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108000" y="1154160"/>
          <a:ext cx="9036000" cy="4167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8000" y="1154160"/>
                    <a:ext cx="9036000" cy="41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79280" y="1989000"/>
          <a:ext cx="9145800" cy="42181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9280" y="1989000"/>
                    <a:ext cx="9145800" cy="42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Garamond"/>
              </a:rPr>
              <a:t>Estudios locales sobre Infocentros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La participación de los usuarios en los Infocentros en comunidades virtuales y la participación en creación de contenidos locales es casi inexistente (Gonzalo, 200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Los Infocentros son utilizados para trabajos y actividades productivas individuales, conexión a Internet y centros de aprendizaje tecnológico (IDC/CNTI, 200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8324640" cy="5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Difusión y Formación en Software Libre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c66"/>
                </a:solidFill>
                <a:latin typeface="Arial"/>
              </a:rPr>
              <a:t>El Programa Nacional de Formación en Sistemas de Informát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Coordin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Aseguramiento del perfil de egres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c66"/>
                </a:solidFill>
                <a:latin typeface="Arial"/>
              </a:rPr>
              <a:t>Alfabetización Digi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Profund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Continu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cc66"/>
                </a:solidFill>
                <a:latin typeface="Garamond"/>
              </a:rPr>
              <a:t>La apropiación tecnológica</a:t>
            </a:r>
            <a:endParaRPr b="0" lang="en-US" sz="48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Un concepto complejo y mal entendi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1484280"/>
            <a:ext cx="9144000" cy="5373720"/>
          </a:xfrm>
          <a:prstGeom prst="rect">
            <a:avLst/>
          </a:prstGeom>
          <a:solidFill>
            <a:srgbClr val="ccffff">
              <a:alpha val="68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04000" y="2709720"/>
            <a:ext cx="2160720" cy="576360"/>
          </a:xfrm>
          <a:prstGeom prst="rect">
            <a:avLst/>
          </a:prstGeom>
          <a:solidFill>
            <a:srgbClr val="99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9280" y="3932280"/>
            <a:ext cx="1800360" cy="7207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348000" y="2925720"/>
            <a:ext cx="1511280" cy="52704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940360" y="1773360"/>
            <a:ext cx="2160720" cy="503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3645000"/>
            <a:ext cx="1728720" cy="576000"/>
          </a:xfrm>
          <a:prstGeom prst="rect">
            <a:avLst/>
          </a:prstGeom>
          <a:solidFill>
            <a:srgbClr val="99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708360" y="5083200"/>
            <a:ext cx="863640" cy="431640"/>
          </a:xfrm>
          <a:prstGeom prst="rect">
            <a:avLst/>
          </a:prstGeom>
          <a:solidFill>
            <a:srgbClr val="ffcc66"/>
          </a:solidFill>
          <a:ln w="0">
            <a:noFill/>
          </a:ln>
          <a:effectLst>
            <a:outerShdw dist="107932" dir="189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12000" y="5013360"/>
            <a:ext cx="1512720" cy="504720"/>
          </a:xfrm>
          <a:prstGeom prst="rect">
            <a:avLst/>
          </a:prstGeom>
          <a:solidFill>
            <a:srgbClr val="ffcc66"/>
          </a:solidFill>
          <a:ln w="0">
            <a:noFill/>
          </a:ln>
          <a:effectLst>
            <a:outerShdw dist="107932" dir="189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5877000"/>
            <a:ext cx="1729080" cy="720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740720" y="5877000"/>
            <a:ext cx="863640" cy="6476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4360" y="1989000"/>
            <a:ext cx="1979640" cy="86364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Garamond"/>
              </a:rPr>
              <a:t>La apropiación es un proceso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57" name=""/>
          <p:cNvSpPr/>
          <p:nvPr/>
        </p:nvSpPr>
        <p:spPr>
          <a:xfrm>
            <a:off x="251640" y="2060640"/>
            <a:ext cx="180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Consider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sus práctic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2800" y="3951360"/>
            <a:ext cx="148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valú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las nuev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22520" y="299232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Adop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77600" y="3718080"/>
            <a:ext cx="166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Apropi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33240" y="1819440"/>
            <a:ext cx="207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No Apropi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67760" y="518004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3366"/>
                </a:solidFill>
                <a:latin typeface="Arial"/>
              </a:rPr>
              <a:t>U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15240" y="5064120"/>
            <a:ext cx="147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3366"/>
                </a:solidFill>
                <a:latin typeface="Arial"/>
              </a:rPr>
              <a:t>INNOV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977720" y="5908680"/>
            <a:ext cx="174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Nueva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configuracion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671240" y="5908680"/>
            <a:ext cx="968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Nuevo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us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1307400">
            <a:off x="4959000" y="3642840"/>
            <a:ext cx="936720" cy="162000"/>
          </a:xfrm>
          <a:custGeom>
            <a:avLst/>
            <a:gdLst>
              <a:gd name="textAreaLeft" fmla="*/ 146160 w 936720"/>
              <a:gd name="textAreaRight" fmla="*/ 819720 w 936720"/>
              <a:gd name="textAreaTop" fmla="*/ 40320 h 162000"/>
              <a:gd name="textAreaBottom" fmla="*/ 121680 h 162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3366"/>
          </a:solidFill>
          <a:ln w="0">
            <a:noFill/>
          </a:ln>
          <a:effectLst>
            <a:outerShdw dist="107932" dir="189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20584200">
            <a:off x="2225160" y="3644640"/>
            <a:ext cx="1081080" cy="2048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51120 h 204840"/>
              <a:gd name="textAreaBottom" fmla="*/ 153720 h 204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3366"/>
          </a:solidFill>
          <a:ln w="0">
            <a:noFill/>
          </a:ln>
          <a:effectLst>
            <a:outerShdw dist="107932" dir="189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19423800">
            <a:off x="5094360" y="2479320"/>
            <a:ext cx="863640" cy="222120"/>
          </a:xfrm>
          <a:custGeom>
            <a:avLst/>
            <a:gdLst>
              <a:gd name="textAreaLeft" fmla="*/ 135000 w 863640"/>
              <a:gd name="textAreaRight" fmla="*/ 756000 w 863640"/>
              <a:gd name="textAreaTop" fmla="*/ 55440 h 222120"/>
              <a:gd name="textAreaBottom" fmla="*/ 166680 h 22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3366"/>
          </a:solidFill>
          <a:ln w="0">
            <a:noFill/>
          </a:ln>
          <a:effectLst>
            <a:outerShdw dist="107932" dir="189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646920" y="3249720"/>
            <a:ext cx="863640" cy="215640"/>
          </a:xfrm>
          <a:prstGeom prst="leftRightArrow">
            <a:avLst>
              <a:gd name="adj1" fmla="val 50000"/>
              <a:gd name="adj2" fmla="val 79729"/>
            </a:avLst>
          </a:prstGeom>
          <a:solidFill>
            <a:srgbClr val="003366"/>
          </a:solidFill>
          <a:ln w="0">
            <a:noFill/>
          </a:ln>
          <a:effectLst>
            <a:outerShdw dist="107932" dir="189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140360" y="3500280"/>
            <a:ext cx="0" cy="1511280"/>
          </a:xfrm>
          <a:prstGeom prst="line">
            <a:avLst/>
          </a:prstGeom>
          <a:ln w="76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948360" y="4221000"/>
            <a:ext cx="0" cy="720720"/>
          </a:xfrm>
          <a:prstGeom prst="line">
            <a:avLst/>
          </a:prstGeom>
          <a:ln w="76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69080" y="5589720"/>
            <a:ext cx="287640" cy="215640"/>
          </a:xfrm>
          <a:prstGeom prst="line">
            <a:avLst/>
          </a:prstGeom>
          <a:ln w="76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5866920" y="5518080"/>
            <a:ext cx="289080" cy="287280"/>
          </a:xfrm>
          <a:prstGeom prst="line">
            <a:avLst/>
          </a:prstGeom>
          <a:ln w="76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79520" y="6200640"/>
            <a:ext cx="1422720" cy="39888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 Rounded MT Bold"/>
              </a:rPr>
              <a:t>Co-diseñ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24360" y="6308640"/>
            <a:ext cx="7920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3640" y="2760840"/>
            <a:ext cx="217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Des-apropi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18981000">
            <a:off x="8069400" y="3570120"/>
            <a:ext cx="1085760" cy="301680"/>
          </a:xfrm>
          <a:custGeom>
            <a:avLst/>
            <a:gdLst>
              <a:gd name="textAreaLeft" fmla="*/ 189720 w 1085760"/>
              <a:gd name="textAreaRight" fmla="*/ 787320 w 1085760"/>
              <a:gd name="textAreaTop" fmla="*/ 40320 h 301680"/>
              <a:gd name="textAreaBottom" fmla="*/ 261360 h 30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3366"/>
          </a:solidFill>
          <a:ln w="0">
            <a:noFill/>
          </a:ln>
          <a:effectLst>
            <a:outerShdw dist="107932" dir="189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6920" y="5302080"/>
            <a:ext cx="1873440" cy="576360"/>
          </a:xfrm>
          <a:prstGeom prst="rect">
            <a:avLst/>
          </a:prstGeom>
          <a:solidFill>
            <a:srgbClr val="ffcc66"/>
          </a:solidFill>
          <a:ln w="0">
            <a:noFill/>
          </a:ln>
          <a:effectLst>
            <a:outerShdw dist="107932" dir="189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99640" y="542448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3366"/>
                </a:solidFill>
                <a:latin typeface="Arial"/>
              </a:rPr>
              <a:t>DES-ADOP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92360" y="4653000"/>
            <a:ext cx="0" cy="576360"/>
          </a:xfrm>
          <a:prstGeom prst="line">
            <a:avLst/>
          </a:prstGeom>
          <a:ln w="76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690640" y="1990800"/>
            <a:ext cx="1881360" cy="503280"/>
          </a:xfrm>
          <a:prstGeom prst="rect">
            <a:avLst/>
          </a:prstGeom>
          <a:solidFill>
            <a:srgbClr val="99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784240" y="2036880"/>
            <a:ext cx="17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No Adop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8728400">
            <a:off x="1879200" y="3035160"/>
            <a:ext cx="1416240" cy="228600"/>
          </a:xfrm>
          <a:custGeom>
            <a:avLst/>
            <a:gdLst>
              <a:gd name="textAreaLeft" fmla="*/ 221040 w 1416240"/>
              <a:gd name="textAreaRight" fmla="*/ 1239480 w 14162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3366"/>
          </a:solidFill>
          <a:ln w="0">
            <a:noFill/>
          </a:ln>
          <a:effectLst>
            <a:outerShdw dist="107932" dir="189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6649 0.00046 L 0 3.14524E-006 E">
                                      <p:cBhvr>
                                        <p:cTn id="46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7993080" cy="54180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Garamond"/>
              </a:rPr>
              <a:t>Teoría de uso de las TIC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86" name=""/>
          <p:cNvSpPr/>
          <p:nvPr/>
        </p:nvSpPr>
        <p:spPr>
          <a:xfrm>
            <a:off x="6364440" y="6437160"/>
            <a:ext cx="22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3366"/>
                </a:solidFill>
                <a:latin typeface="Arial"/>
              </a:rPr>
              <a:t>(Venkatesh y otros, 200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116000" y="1700280"/>
            <a:ext cx="7416720" cy="4541400"/>
            <a:chOff x="1116000" y="1700280"/>
            <a:chExt cx="7416720" cy="4541400"/>
          </a:xfrm>
        </p:grpSpPr>
        <p:sp>
          <p:nvSpPr>
            <p:cNvPr id="188" name=""/>
            <p:cNvSpPr/>
            <p:nvPr/>
          </p:nvSpPr>
          <p:spPr>
            <a:xfrm>
              <a:off x="7669080" y="3068640"/>
              <a:ext cx="8636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3366"/>
                  </a:solidFill>
                  <a:latin typeface="Arial"/>
                </a:rPr>
                <a:t>Us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64000" y="2924280"/>
              <a:ext cx="107964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3366"/>
                  </a:solidFill>
                  <a:latin typeface="Arial"/>
                </a:rPr>
                <a:t>Intención</a:t>
              </a:r>
              <a:r>
                <a:rPr b="1" lang="es-MX" sz="16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3366"/>
                  </a:solidFill>
                  <a:latin typeface="Arial"/>
                </a:rPr>
                <a:t>de us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156360" y="5661000"/>
              <a:ext cx="110016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3366"/>
                  </a:solidFill>
                  <a:latin typeface="Arial"/>
                </a:rPr>
                <a:t>Voluntad de us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88000" y="5661000"/>
              <a:ext cx="107928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3366"/>
                  </a:solidFill>
                  <a:latin typeface="Arial"/>
                </a:rPr>
                <a:t>Experien-c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492360" y="5805360"/>
              <a:ext cx="71784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3366"/>
                  </a:solidFill>
                  <a:latin typeface="Arial"/>
                </a:rPr>
                <a:t>Eda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979640" y="5805360"/>
              <a:ext cx="9460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3366"/>
                  </a:solidFill>
                  <a:latin typeface="Arial"/>
                </a:rPr>
                <a:t>Géner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241280" y="1700280"/>
              <a:ext cx="102708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3366"/>
                  </a:solidFill>
                  <a:latin typeface="Arial"/>
                </a:rPr>
                <a:t>Expecta-tiv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187280" y="2492280"/>
              <a:ext cx="108612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3366"/>
                  </a:solidFill>
                  <a:latin typeface="Arial"/>
                </a:rPr>
                <a:t>Esfuerz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116000" y="3357720"/>
              <a:ext cx="117324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3366"/>
                  </a:solidFill>
                  <a:latin typeface="Arial"/>
                </a:rPr>
                <a:t>Influencia soci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8920" y="4221000"/>
              <a:ext cx="95580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3366"/>
                  </a:solidFill>
                  <a:latin typeface="Arial"/>
                </a:rPr>
                <a:t>Facili-dad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cc66"/>
                </a:solidFill>
                <a:latin typeface="Garamond"/>
              </a:rPr>
              <a:t>¿En qué fallamos?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Mas allá de las diferencias de sexo, edad, educación y origen social, los usuarios no son igu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No todos los casos pueden considerarse exclus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Se considera que la adopción de una tecnología implica su apropi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042920" y="1700280"/>
            <a:ext cx="7925040" cy="46814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0000d6"/>
              </a:gs>
              <a:gs pos="100000">
                <a:srgbClr val="0033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66"/>
                </a:solidFill>
                <a:latin typeface="Times New Roman"/>
              </a:rPr>
              <a:t>De qué se trata</a:t>
            </a:r>
            <a:endParaRPr b="0" lang="en-US" sz="42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10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Contribuir a la discusión sobre cómo las TIC pueden promov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1" lang="es-MX" sz="2800" spc="-1" strike="noStrike" u="sng">
                <a:solidFill>
                  <a:srgbClr val="ffffff"/>
                </a:solidFill>
                <a:uFillTx/>
                <a:latin typeface="Arial"/>
              </a:rPr>
              <a:t>apropiación de las tecnologías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por parte de las comunidades y con ell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116000" y="3860280"/>
            <a:ext cx="7772400" cy="230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lvl="2" marL="1131480" indent="-226080"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1" lang="es-MX" sz="2800" spc="-1" strike="noStrike" u="sng">
                <a:solidFill>
                  <a:srgbClr val="ffffff"/>
                </a:solidFill>
                <a:uFillTx/>
                <a:latin typeface="Arial"/>
              </a:rPr>
              <a:t>inclusión social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de comunidades excluidas del goce de los beneficios que brinda la tecnologí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1" lang="es-MX" sz="2800" spc="-1" strike="noStrike" u="sng">
                <a:solidFill>
                  <a:srgbClr val="ffffff"/>
                </a:solidFill>
                <a:uFillTx/>
                <a:latin typeface="Arial"/>
              </a:rPr>
              <a:t>innovación social y tecnológica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en ámbitos comunitari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cc66"/>
                </a:solidFill>
                <a:latin typeface="Garamond"/>
              </a:rPr>
              <a:t>No usar la tecnología no es siempre implica exclusión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Cuando el usuario no adopta puede ser porqu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Resiste la tecnología (no la conocen y no les interes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Rechaza la tecnología (la conocen y la abandona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Es excluido (no han tenido oportunidad de conocerl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Es expulsado (han tenido que dejar de usarl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52920" y="6256440"/>
            <a:ext cx="14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Wyatt, 20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Garamond"/>
              </a:rPr>
              <a:t>e-Inclusión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04" name=""/>
          <p:cNvSpPr/>
          <p:nvPr/>
        </p:nvSpPr>
        <p:spPr>
          <a:xfrm>
            <a:off x="1620360" y="2671920"/>
            <a:ext cx="13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ffffff"/>
                </a:solidFill>
                <a:uFillTx/>
                <a:latin typeface="Arial"/>
              </a:rPr>
              <a:t>Exclui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381440" y="2637000"/>
            <a:ext cx="12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ffffff"/>
                </a:solidFill>
                <a:uFillTx/>
                <a:latin typeface="Arial"/>
              </a:rPr>
              <a:t>Inclui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317840" y="501336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Brecha digi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374160" y="5950080"/>
            <a:ext cx="220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Moura y Castillo, 200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771640" y="3141720"/>
            <a:ext cx="4392720" cy="1752480"/>
          </a:xfrm>
          <a:custGeom>
            <a:avLst/>
            <a:gdLst/>
            <a:ahLst/>
            <a:rect l="l" t="t" r="r" b="b"/>
            <a:pathLst>
              <a:path w="2767" h="1104">
                <a:moveTo>
                  <a:pt x="0" y="46"/>
                </a:moveTo>
                <a:cubicBezTo>
                  <a:pt x="41" y="155"/>
                  <a:pt x="83" y="265"/>
                  <a:pt x="136" y="363"/>
                </a:cubicBezTo>
                <a:cubicBezTo>
                  <a:pt x="189" y="461"/>
                  <a:pt x="235" y="544"/>
                  <a:pt x="318" y="635"/>
                </a:cubicBezTo>
                <a:cubicBezTo>
                  <a:pt x="401" y="726"/>
                  <a:pt x="529" y="839"/>
                  <a:pt x="635" y="907"/>
                </a:cubicBezTo>
                <a:cubicBezTo>
                  <a:pt x="741" y="975"/>
                  <a:pt x="817" y="1014"/>
                  <a:pt x="953" y="1044"/>
                </a:cubicBezTo>
                <a:cubicBezTo>
                  <a:pt x="1089" y="1074"/>
                  <a:pt x="1293" y="1089"/>
                  <a:pt x="1452" y="1089"/>
                </a:cubicBezTo>
                <a:cubicBezTo>
                  <a:pt x="1611" y="1089"/>
                  <a:pt x="1814" y="1104"/>
                  <a:pt x="1905" y="1044"/>
                </a:cubicBezTo>
                <a:cubicBezTo>
                  <a:pt x="1996" y="984"/>
                  <a:pt x="1943" y="794"/>
                  <a:pt x="1996" y="726"/>
                </a:cubicBezTo>
                <a:cubicBezTo>
                  <a:pt x="2049" y="658"/>
                  <a:pt x="2170" y="696"/>
                  <a:pt x="2223" y="635"/>
                </a:cubicBezTo>
                <a:cubicBezTo>
                  <a:pt x="2276" y="574"/>
                  <a:pt x="2260" y="424"/>
                  <a:pt x="2313" y="363"/>
                </a:cubicBezTo>
                <a:cubicBezTo>
                  <a:pt x="2366" y="302"/>
                  <a:pt x="2494" y="325"/>
                  <a:pt x="2540" y="272"/>
                </a:cubicBezTo>
                <a:cubicBezTo>
                  <a:pt x="2586" y="219"/>
                  <a:pt x="2548" y="91"/>
                  <a:pt x="2586" y="46"/>
                </a:cubicBezTo>
                <a:cubicBezTo>
                  <a:pt x="2624" y="1"/>
                  <a:pt x="2737" y="15"/>
                  <a:pt x="2767" y="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86160" y="4024440"/>
            <a:ext cx="161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c66"/>
                </a:solidFill>
                <a:latin typeface="Arial"/>
              </a:rPr>
              <a:t>Conectiv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77080" y="3448080"/>
            <a:ext cx="31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c66"/>
                </a:solidFill>
                <a:latin typeface="Arial"/>
              </a:rPr>
              <a:t>Accessibilidad y usabil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218920" y="2924280"/>
            <a:ext cx="165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c66"/>
                </a:solidFill>
                <a:latin typeface="Arial"/>
              </a:rPr>
              <a:t>Inteligibil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34560" y="532908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(metáfor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cc66"/>
                </a:solidFill>
                <a:latin typeface="Garamond"/>
              </a:rPr>
              <a:t>Barreras</a:t>
            </a:r>
            <a:endParaRPr b="0" lang="en-US" sz="48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66"/>
                </a:solidFill>
                <a:latin typeface="Arial"/>
              </a:rPr>
              <a:t>Institucionales: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Acceso,  facilidad de uso, contenido inteligible, potencialidad, opción a co-construi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66"/>
                </a:solidFill>
                <a:latin typeface="Arial"/>
              </a:rPr>
              <a:t>Personales: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necesidad de cambio, posibilidades físicas, cognitivas y sensorial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66"/>
                </a:solidFill>
                <a:latin typeface="Arial"/>
              </a:rPr>
              <a:t>Situacionales: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contenidos, tecnologías y métodos adecuados a los estilos de vida prop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cc66"/>
                </a:solidFill>
                <a:latin typeface="Garamond"/>
              </a:rPr>
              <a:t>En síntesis</a:t>
            </a:r>
            <a:endParaRPr b="0" lang="en-US" sz="48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Se puede estar promoviendo la </a:t>
            </a:r>
            <a:r>
              <a:rPr b="1" lang="es-MX" sz="2800" spc="-1" strike="noStrike" u="sng">
                <a:solidFill>
                  <a:srgbClr val="ffffff"/>
                </a:solidFill>
                <a:uFillTx/>
                <a:latin typeface="Arial"/>
              </a:rPr>
              <a:t>no-apropiación</a:t>
            </a: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 y, en el peor de los casos la </a:t>
            </a:r>
            <a:r>
              <a:rPr b="1" lang="es-MX" sz="2800" spc="-1" strike="noStrike" u="sng">
                <a:solidFill>
                  <a:srgbClr val="ffffff"/>
                </a:solidFill>
                <a:uFillTx/>
                <a:latin typeface="Arial"/>
              </a:rPr>
              <a:t>no-adopción</a:t>
            </a: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 y reproducción de la exclus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1692360" y="191628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cc66"/>
                </a:solidFill>
                <a:latin typeface="Garamond"/>
              </a:rPr>
              <a:t>¿Cómo facilitar la apropiación e innovació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5280" y="4581360"/>
            <a:ext cx="832500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ffcc66"/>
                </a:solidFill>
                <a:latin typeface="Garamond"/>
              </a:rPr>
              <a:t>En este momento, necesitamos nuevas formas de pensar aún más que nuevas tecnología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Promover la necesidad del camb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fatizar la formación crítico-reflex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rabajar contenidos y prácticas cercanos a la realidad de las comunidad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Promover mecanismos informales de aprendizaje y ambientes para el diá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Ceder espacios para que todos tengan garantizado su derecho a expresa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Garamond"/>
              </a:rPr>
              <a:t>Promover la </a:t>
            </a:r>
            <a:r>
              <a:rPr b="1" lang="es-MX" sz="4400" spc="-1" strike="noStrike">
                <a:solidFill>
                  <a:srgbClr val="ffcc66"/>
                </a:solidFill>
                <a:latin typeface="Garamond"/>
              </a:rPr>
              <a:t>APROPIACIÓN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Garamond"/>
              </a:rPr>
              <a:t>Promover la </a:t>
            </a:r>
            <a:r>
              <a:rPr b="1" lang="es-MX" sz="4400" spc="-1" strike="noStrike">
                <a:solidFill>
                  <a:srgbClr val="ffcc66"/>
                </a:solidFill>
                <a:latin typeface="Garamond"/>
              </a:rPr>
              <a:t>APROPIACIÓN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esarrollar competencias para aprovechar la tecnologí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resolver problemas, gestionar y aplicar solucion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onstruir conexiones intern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interactuar con redes externas: superar lo lo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Garamond"/>
              </a:rPr>
              <a:t>Promover la </a:t>
            </a:r>
            <a:r>
              <a:rPr b="1" lang="es-MX" sz="4400" spc="-1" strike="noStrike">
                <a:solidFill>
                  <a:srgbClr val="ffcc66"/>
                </a:solidFill>
                <a:latin typeface="Garamond"/>
              </a:rPr>
              <a:t>INCLUSIÓN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n las regiones con una gran heterogeneidad cultural y socioeconómica, la difusión muy rápida de las nuevas tecnologías puede incrementar la desigualdad y debilitar la cohesión social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Contenidos e interfases orientados a personas con distintos perfiles y niveles de peligro de exclus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Garamond"/>
              </a:rPr>
              <a:t>Promover la </a:t>
            </a:r>
            <a:r>
              <a:rPr b="1" lang="es-MX" sz="4400" spc="-1" strike="noStrike">
                <a:solidFill>
                  <a:srgbClr val="ffcc66"/>
                </a:solidFill>
                <a:latin typeface="Garamond"/>
              </a:rPr>
              <a:t>INNOVACIÓN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66"/>
                </a:solidFill>
                <a:latin typeface="Arial"/>
              </a:rPr>
              <a:t>Co-diseñ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Orientar el reconocimiento de necesidades y potencialida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Disminuir la asimetría de la información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ndependencia para crear alianzas y redes de innov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esarrollar líderes innovadores dentro de la comun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66"/>
                </a:solidFill>
                <a:latin typeface="Arial"/>
              </a:rPr>
              <a:t>Flexibilidad tecnológ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ffcc66"/>
                </a:solidFill>
                <a:latin typeface="Garamond"/>
              </a:rPr>
              <a:t>Incluir…</a:t>
            </a:r>
            <a:endParaRPr b="0" lang="en-US" sz="5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187280" y="1197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1" lang="es-MX" sz="4000" spc="-1" strike="noStrike">
                <a:solidFill>
                  <a:srgbClr val="ffcc66"/>
                </a:solidFill>
                <a:latin typeface="Arial"/>
              </a:rPr>
              <a:t>inclusión</a:t>
            </a: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4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 es el </a:t>
            </a:r>
            <a:r>
              <a:rPr b="0" i="1" lang="es-MX" sz="4000" spc="-1" strike="noStrike" u="sng">
                <a:solidFill>
                  <a:srgbClr val="ffffff"/>
                </a:solidFill>
                <a:uFillTx/>
                <a:latin typeface="Arial"/>
              </a:rPr>
              <a:t>resultado</a:t>
            </a: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 del proceso de apropiación, es el </a:t>
            </a:r>
            <a:r>
              <a:rPr b="1" lang="es-MX" sz="4000" spc="-1" strike="noStrike" u="sng">
                <a:solidFill>
                  <a:srgbClr val="ffcc66"/>
                </a:solidFill>
                <a:uFillTx/>
                <a:latin typeface="Arial"/>
              </a:rPr>
              <a:t>inici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38200" y="4005360"/>
            <a:ext cx="8281800" cy="36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ffcc66"/>
                </a:solidFill>
                <a:latin typeface="Garamond"/>
              </a:rPr>
              <a:t>Innovar…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71640" y="4797360"/>
            <a:ext cx="70563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1" lang="es-MX" sz="4000" spc="-1" strike="noStrike">
                <a:solidFill>
                  <a:srgbClr val="ffcc66"/>
                </a:solidFill>
                <a:latin typeface="Arial"/>
              </a:rPr>
              <a:t>innovación social</a:t>
            </a: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 es el </a:t>
            </a:r>
            <a:r>
              <a:rPr b="0" lang="es-MX" sz="4000" spc="-1" strike="noStrike" u="sng">
                <a:solidFill>
                  <a:srgbClr val="ffffff"/>
                </a:solidFill>
                <a:uFillTx/>
                <a:latin typeface="Arial"/>
              </a:rPr>
              <a:t>motor</a:t>
            </a: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 para  impulsar </a:t>
            </a:r>
            <a:r>
              <a:rPr b="1" lang="es-MX" sz="4000" spc="-1" strike="noStrike" u="sng">
                <a:solidFill>
                  <a:srgbClr val="ffcc66"/>
                </a:solidFill>
                <a:uFillTx/>
                <a:latin typeface="Arial"/>
              </a:rPr>
              <a:t>cambios </a:t>
            </a: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en otros ámbit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042920" y="1773360"/>
            <a:ext cx="7925040" cy="3743280"/>
          </a:xfrm>
          <a:prstGeom prst="rect">
            <a:avLst/>
          </a:prstGeom>
          <a:gradFill rotWithShape="0">
            <a:gsLst>
              <a:gs pos="0">
                <a:srgbClr val="474717"/>
              </a:gs>
              <a:gs pos="50000">
                <a:srgbClr val="8f8d2f"/>
              </a:gs>
              <a:gs pos="100000">
                <a:srgbClr val="4747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cc66"/>
                </a:solidFill>
                <a:latin typeface="Garamond"/>
              </a:rPr>
              <a:t>Tesis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351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a que la tecnología se convierta en un instrumento para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nclusión social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el usuario debe pasar por un proceso d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propiación tecnológic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que les facilit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nnova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en los usos y configuraciones de esa tecnología para mejorar sus sistemas de vid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cc66"/>
                </a:solidFill>
                <a:latin typeface="Garamond"/>
              </a:rPr>
              <a:t>Buscando la Inclusión Social</a:t>
            </a:r>
            <a:endParaRPr b="0" lang="en-US" sz="48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¿Qué se está haciendo en Venezuel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Garamond"/>
              </a:rPr>
              <a:t>Proyectos pasados (desde 2003) 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Centros de acceso a las telecomunica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Alfabetización digi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Formación en lín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Academia de software lib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Programa de Gerencia social del conocimi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Municipio innovador. Redes de innov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Acompañamiento de la Gestión de las comuni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cc66"/>
                </a:solidFill>
                <a:latin typeface="Garamond"/>
              </a:rPr>
              <a:t>Plan Telecomunicaciones, Informática y Servicios Postales 2007-2013</a:t>
            </a:r>
            <a:endParaRPr b="0" lang="en-US" sz="36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71640" y="1534680"/>
            <a:ext cx="7772400" cy="210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6000"/>
          </a:bodyPr>
          <a:p>
            <a:pPr marL="191880" indent="-1918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cc66"/>
                </a:solidFill>
                <a:latin typeface="Arial"/>
              </a:rPr>
              <a:t>Universalizar y democratizar las telecomunicacion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640080" indent="-127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Incrementar despliegue de infraestructura de transmisión de datos a zonas desatendi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640080" indent="-127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Impulso a la economía so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91880" indent="-1918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cc66"/>
                </a:solidFill>
                <a:latin typeface="Arial"/>
              </a:rPr>
              <a:t>Democratizar el acceso al conocimie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640080" indent="-127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Evaluar, articular esfuerzos y definir un modelo integral para maximizar el alcance de las iniciativas del Est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91880" indent="-1918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cc66"/>
                </a:solidFill>
                <a:latin typeface="Arial"/>
              </a:rPr>
              <a:t>Formar capital humano en uso y aplicación de las T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640080" indent="-127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Formación en lín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Garamond"/>
              </a:rPr>
              <a:t>Algunos ejemplos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Portales comunita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Periódicos comunita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Bases de datos comunita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ás de 400 Infocentr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esas Técnicas de Telecomunicaciones, Informática y Servicios Postales (30 comunidad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ffffff"/>
                </a:solidFill>
                <a:latin typeface="Arial"/>
              </a:rPr>
              <a:t>Infocentros piloto del programa Gerencia Social del Conocimient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 (8 centr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Garamond"/>
              </a:rPr>
              <a:t>Algunos ejemplos: capacitación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ffffff"/>
                </a:solidFill>
                <a:latin typeface="Arial"/>
              </a:rPr>
              <a:t>Consejos comunales recibieron taller de </a:t>
            </a:r>
            <a:r>
              <a:rPr b="0" lang="es-VE" sz="2800" spc="-1" strike="noStrike" u="sng">
                <a:solidFill>
                  <a:srgbClr val="ffffff"/>
                </a:solidFill>
                <a:uFillTx/>
                <a:latin typeface="Arial"/>
              </a:rPr>
              <a:t>comunicación popular</a:t>
            </a:r>
            <a:r>
              <a:rPr b="0" lang="es-VE" sz="2800" spc="-1" strike="noStrike">
                <a:solidFill>
                  <a:srgbClr val="ffffff"/>
                </a:solidFill>
                <a:latin typeface="Arial"/>
              </a:rPr>
              <a:t> en el Mega infocentro El Silenc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ffffff"/>
                </a:solidFill>
                <a:latin typeface="Arial"/>
              </a:rPr>
              <a:t>modelos de educación/comunicación: educación/comunicación unidireccional y excluyente frente a la bidireccional y participativa.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ffffff"/>
                </a:solidFill>
                <a:latin typeface="Arial"/>
              </a:rPr>
              <a:t>manejo de herramientas tecnológicas para la edición de imagen, audio y video, además de la creación de páginas Web a través de la herramienta </a:t>
            </a:r>
            <a:r>
              <a:rPr b="0" lang="es-VE" sz="2800" spc="-1" strike="noStrike" u="sng">
                <a:solidFill>
                  <a:srgbClr val="ffffff"/>
                </a:solidFill>
                <a:uFillTx/>
                <a:latin typeface="Arial"/>
              </a:rPr>
              <a:t>Generador de Portale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cc66"/>
                </a:solidFill>
                <a:latin typeface="Garamond"/>
              </a:rPr>
              <a:t>¡Inclusión… no tan cercana!</a:t>
            </a:r>
            <a:endParaRPr b="0" lang="en-US" sz="48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¿Qué nos falta por logra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4T08:22:56Z</dcterms:created>
  <dc:creator>SILVIA GARCIA</dc:creator>
  <dc:description/>
  <dc:language>en-US</dc:language>
  <cp:lastModifiedBy> </cp:lastModifiedBy>
  <dcterms:modified xsi:type="dcterms:W3CDTF">2008-03-23T17:32:51Z</dcterms:modified>
  <cp:revision>111</cp:revision>
  <dc:subject/>
  <dc:title> Análisis final de [Nombre del proyecto]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3082</vt:r8>
  </property>
  <property fmtid="{D5CDD505-2E9C-101B-9397-08002B2CF9AE}" pid="3" name="Version">
    <vt:r8>3</vt:r8>
  </property>
</Properties>
</file>