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3067-72E9-4BBB-AB57-722EC3A4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21C5-A420-449E-B6EE-E7BC1AAE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F51D-B83B-4C1B-A414-0AD01B43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E5B1-6306-4142-85D3-9274A1E6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C1E5E-1AB6-4F75-BE3E-17808450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07114-6695-4652-A20F-5834CB6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E6265-612A-44F4-9DCB-12BECD37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F8538-4479-49F4-8B2C-3D708E60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B32F9-8320-485A-A7D6-CE9451B6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1175F-3C3C-45BD-BF3B-81BDF0C2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F61D1-5996-4C09-ADC0-A4501D5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3019-1CCA-4677-9710-270785F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54AA8-B0C3-4610-A8BC-363BB807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586D7-EAC2-4BFF-811C-76EB475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48BE2-384F-45E9-B308-8F7DCD9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049C8-D686-4FAF-A721-34989355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C058-0B71-4392-9526-9FCAB701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7B82-8D8F-4938-A90E-6B7226C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55130-ECF2-41AB-9E19-475873D7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C7F96-ED56-4ADF-92C2-5BC0B5A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B6BF-7814-448D-883A-3E950F20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2DF1-7D05-4FA5-AC36-E8C6E3C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4C4B-6832-435D-8728-EABF5DB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821F-E31B-44E2-AA60-26DF903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04A9-4DF1-451E-92F6-F18C1F028EF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685-DBA4-4FEB-9CDE-5CF2DDB25EA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981000"/>
            <a:ext cx="7561440" cy="5473800"/>
          </a:xfrm>
          <a:prstGeom prst="rect">
            <a:avLst/>
          </a:prstGeom>
          <a:solidFill>
            <a:srgbClr val="3366cc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4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 Tecnológica, Inclusión Social e Innov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3640" y="442440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Garamond"/>
              </a:rPr>
              <a:t>Dra. Silvia C. García U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62499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75000" y="5229360"/>
            <a:ext cx="3097080" cy="5047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04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(OECD Science, technology and Industry Scoreboard 20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3889440" cy="293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5661000"/>
            <a:ext cx="8574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negocio de las telecomunicaciones es el segundo más grande después del petróle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densidad de líneas de telecomunicaciones fijas es baja, comparada con otros países de América Latina, pero está creciend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mercado de banda ancha está apenas empezando y es un campo promisorio para la inversión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atin America - Telecoms, Mobile and Broadband in Mercosur, Guyana, Suriname, Venezuela (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81560" y="88920"/>
            <a:ext cx="4762440" cy="247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560" y="3184560"/>
            <a:ext cx="4762440" cy="247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2000" y="29973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Sitios de 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52228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Usuarios d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5680" y="2486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mputadore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2200" y="26748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(World Perspectiv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Université de Sherbrook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1000"/>
            <a:ext cx="9144000" cy="5473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80920" y="5661000"/>
            <a:ext cx="61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Fuente: Internet World Stats.  </a:t>
            </a:r>
            <a:r>
              <a:rPr b="0" lang="es-ES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internetworldstats.com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720" y="404640"/>
            <a:ext cx="8325000" cy="4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Uso de Internet en países de América del S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1280" y="1447920"/>
            <a:ext cx="8964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404640"/>
          <a:ext cx="8893080" cy="40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8930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08000" y="1154160"/>
          <a:ext cx="9036000" cy="41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154160"/>
                    <a:ext cx="903600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9280" y="1989000"/>
          <a:ext cx="9145800" cy="4218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989000"/>
                    <a:ext cx="914580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studios locales sobre Infocentr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articipación de los usuarios en los Infocentros en comunidades virtuales y la participación en creación de contenidos locales es casi inexistente (Gonzalo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Infocentros son utilizados para trabajos y actividades productivas individuales, conexión a Internet y centros de aprendizaje tecnológico (IDC/CNTI,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24640" cy="5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Difusión y Formación en Software Libr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El Programa Nacional de Formación en Sistemas de Infor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ord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eguramiento del perfil de eg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lfabetizació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La apropiación tecnológica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n concepto complejo y mal entend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ccffff">
              <a:alpha val="68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709720"/>
            <a:ext cx="2160720" cy="57636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2280"/>
            <a:ext cx="180036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2925720"/>
            <a:ext cx="1511280" cy="52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1773360"/>
            <a:ext cx="2160720" cy="503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3645000"/>
            <a:ext cx="1728720" cy="5760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5083200"/>
            <a:ext cx="863640" cy="4316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5013360"/>
            <a:ext cx="1512720" cy="5047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877000"/>
            <a:ext cx="1729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877000"/>
            <a:ext cx="863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360" y="1989000"/>
            <a:ext cx="197964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La apropiación es un proceso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1640" y="206064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id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us prác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800" y="395136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ú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nue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2520" y="2992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7600" y="3718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33240" y="18194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7760" y="5180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5240" y="5064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7720" y="590868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figu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1240" y="59086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u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07400">
            <a:off x="4959000" y="3642840"/>
            <a:ext cx="936720" cy="162000"/>
          </a:xfrm>
          <a:custGeom>
            <a:avLst/>
            <a:gdLst>
              <a:gd name="textAreaLeft" fmla="*/ 146160 w 936720"/>
              <a:gd name="textAreaRight" fmla="*/ 819720 w 936720"/>
              <a:gd name="textAreaTop" fmla="*/ 40320 h 162000"/>
              <a:gd name="textAreaBottom" fmla="*/ 121680 h 16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584200">
            <a:off x="2225160" y="3644640"/>
            <a:ext cx="1081080" cy="2048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1120 h 204840"/>
              <a:gd name="textAreaBottom" fmla="*/ 153720 h 20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23800">
            <a:off x="5094360" y="2479320"/>
            <a:ext cx="863640" cy="222120"/>
          </a:xfrm>
          <a:custGeom>
            <a:avLst/>
            <a:gdLst>
              <a:gd name="textAreaLeft" fmla="*/ 135000 w 863640"/>
              <a:gd name="textAreaRight" fmla="*/ 756000 w 86364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646920" y="3249720"/>
            <a:ext cx="863640" cy="215640"/>
          </a:xfrm>
          <a:prstGeom prst="leftRightArrow">
            <a:avLst>
              <a:gd name="adj1" fmla="val 50000"/>
              <a:gd name="adj2" fmla="val 79729"/>
            </a:avLst>
          </a:pr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500280"/>
            <a:ext cx="0" cy="1511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4221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69080" y="5589720"/>
            <a:ext cx="287640" cy="21564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6920" y="5518080"/>
            <a:ext cx="289080" cy="287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6200640"/>
            <a:ext cx="1422720" cy="398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Rounded MT Bold"/>
              </a:rPr>
              <a:t>Co-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630864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3640" y="27608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-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981000">
            <a:off x="8069400" y="3570120"/>
            <a:ext cx="1085760" cy="301680"/>
          </a:xfrm>
          <a:custGeom>
            <a:avLst/>
            <a:gdLst>
              <a:gd name="textAreaLeft" fmla="*/ 189720 w 1085760"/>
              <a:gd name="textAreaRight" fmla="*/ 787320 w 1085760"/>
              <a:gd name="textAreaTop" fmla="*/ 40320 h 301680"/>
              <a:gd name="textAreaBottom" fmla="*/ 26136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1873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9640" y="542448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DES-ADOP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465300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90640" y="1990800"/>
            <a:ext cx="1881360" cy="5032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84240" y="20368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8728400">
            <a:off x="1879200" y="3035160"/>
            <a:ext cx="1416240" cy="228600"/>
          </a:xfrm>
          <a:custGeom>
            <a:avLst/>
            <a:gdLst>
              <a:gd name="textAreaLeft" fmla="*/ 221040 w 1416240"/>
              <a:gd name="textAreaRight" fmla="*/ 1239480 w 1416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4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993080" cy="541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Teoría de uso de las TIC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6364440" y="643716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"/>
              </a:rPr>
              <a:t>(Venkatesh y otros, 20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16000" y="1700280"/>
            <a:ext cx="7416720" cy="4541400"/>
            <a:chOff x="1116000" y="1700280"/>
            <a:chExt cx="7416720" cy="4541400"/>
          </a:xfrm>
        </p:grpSpPr>
        <p:sp>
          <p:nvSpPr>
            <p:cNvPr id="188" name=""/>
            <p:cNvSpPr/>
            <p:nvPr/>
          </p:nvSpPr>
          <p:spPr>
            <a:xfrm>
              <a:off x="7669080" y="3068640"/>
              <a:ext cx="863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66"/>
                  </a:solidFill>
                  <a:latin typeface="Arial"/>
                </a:rPr>
                <a:t>U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2924280"/>
              <a:ext cx="1079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3366"/>
                  </a:solidFill>
                  <a:latin typeface="Arial"/>
                </a:rPr>
                <a:t>Intención</a:t>
              </a: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56360" y="5661000"/>
              <a:ext cx="11001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Voluntad 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5661000"/>
              <a:ext cx="1079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rien-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2360" y="5805360"/>
              <a:ext cx="717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9640" y="5805360"/>
              <a:ext cx="946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Géne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1280" y="1700280"/>
              <a:ext cx="1027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cta-tiv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7280" y="2492280"/>
              <a:ext cx="1086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sfuer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3357720"/>
              <a:ext cx="11732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Influencia so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8920" y="4221000"/>
              <a:ext cx="955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Facili-da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En qué fallamos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s allá de las diferencias de sexo, edad, educación y origen social, los usuarios no son ig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odos los casos pueden considerars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 considera que la adopción de una tecnología implica su aprop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1700280"/>
            <a:ext cx="7925040" cy="46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d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Times New Roman"/>
              </a:rPr>
              <a:t>De qué se trata</a:t>
            </a:r>
            <a:endParaRPr b="0" lang="en-US" sz="4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ibuir a la discusión sobre cómo las TIC pueden prom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apropiación de las tecnologí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or parte de las comunidades y con e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386028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e comunidades excluidas del goce de los beneficios que brinda la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novación social y tecnológic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n ámbitos comunitar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Garamond"/>
              </a:rPr>
              <a:t>No usar la tecnología no es siempre implica exclusión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uando el usuario no adopta puede ser por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iste la tecnología (no la conocen y no les intere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haza la tecnología (la conocen y la abandon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cluido (no han tenido oportunidad de conoce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pulsado (han tenido que dejar de usa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52920" y="62564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Wyatt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-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1620360" y="2671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x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1440" y="2637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In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7840" y="501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Brech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4160" y="595008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ura y Castillo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3141720"/>
            <a:ext cx="4392720" cy="1752480"/>
          </a:xfrm>
          <a:custGeom>
            <a:avLst/>
            <a:gdLst/>
            <a:ahLst/>
            <a:rect l="l" t="t" r="r" b="b"/>
            <a:pathLst>
              <a:path w="2767" h="1104">
                <a:moveTo>
                  <a:pt x="0" y="46"/>
                </a:moveTo>
                <a:cubicBezTo>
                  <a:pt x="41" y="155"/>
                  <a:pt x="83" y="265"/>
                  <a:pt x="136" y="363"/>
                </a:cubicBezTo>
                <a:cubicBezTo>
                  <a:pt x="189" y="461"/>
                  <a:pt x="235" y="544"/>
                  <a:pt x="318" y="635"/>
                </a:cubicBezTo>
                <a:cubicBezTo>
                  <a:pt x="401" y="726"/>
                  <a:pt x="529" y="839"/>
                  <a:pt x="635" y="907"/>
                </a:cubicBezTo>
                <a:cubicBezTo>
                  <a:pt x="741" y="975"/>
                  <a:pt x="817" y="1014"/>
                  <a:pt x="953" y="1044"/>
                </a:cubicBezTo>
                <a:cubicBezTo>
                  <a:pt x="1089" y="1074"/>
                  <a:pt x="1293" y="1089"/>
                  <a:pt x="1452" y="1089"/>
                </a:cubicBezTo>
                <a:cubicBezTo>
                  <a:pt x="1611" y="1089"/>
                  <a:pt x="1814" y="1104"/>
                  <a:pt x="1905" y="1044"/>
                </a:cubicBezTo>
                <a:cubicBezTo>
                  <a:pt x="1996" y="984"/>
                  <a:pt x="1943" y="794"/>
                  <a:pt x="1996" y="726"/>
                </a:cubicBezTo>
                <a:cubicBezTo>
                  <a:pt x="2049" y="658"/>
                  <a:pt x="2170" y="696"/>
                  <a:pt x="2223" y="635"/>
                </a:cubicBezTo>
                <a:cubicBezTo>
                  <a:pt x="2276" y="574"/>
                  <a:pt x="2260" y="424"/>
                  <a:pt x="2313" y="363"/>
                </a:cubicBezTo>
                <a:cubicBezTo>
                  <a:pt x="2366" y="302"/>
                  <a:pt x="2494" y="325"/>
                  <a:pt x="2540" y="272"/>
                </a:cubicBezTo>
                <a:cubicBezTo>
                  <a:pt x="2586" y="219"/>
                  <a:pt x="2548" y="91"/>
                  <a:pt x="2586" y="46"/>
                </a:cubicBezTo>
                <a:cubicBezTo>
                  <a:pt x="2624" y="1"/>
                  <a:pt x="2737" y="15"/>
                  <a:pt x="2767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6160" y="402444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ne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7080" y="3448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Accessibilidad y us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8920" y="29242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Intelig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4560" y="53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(metáfo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arrera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Institu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Acceso,  facilidad de uso, contenido inteligible, potencialidad, opción a co-constru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Pers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necesidad de cambio, posibilidades físicas, cognitivas y sensori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itua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ontenidos, tecnologías y métodos adecuados a los estilos de vida prop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En síntesi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 puede estar promoviendo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propia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, en el peor de los casos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dop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 reproducción de la excl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Cómo facilitar la apropiación e innovació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4581360"/>
            <a:ext cx="8325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cc66"/>
                </a:solidFill>
                <a:latin typeface="Garamond"/>
              </a:rPr>
              <a:t>En este momento, necesitamos nuevas formas de pensar aún más que nuevas tecnologí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la necesidad del camb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atizar la formación crítico-re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bajar contenidos y prácticas cercanos a la realidad de las com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mecanismos informales de aprendizaje y ambientes para el diá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der espacios para que todos tengan garantizado su derecho a expresa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competencias para aprovechar la tecnologí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olver problemas, gestionar y aplicar solu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ruir conexiones inter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actuar con redes externas: superar l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las regiones con una gran heterogeneidad cultural y socioeconómica, la difusión muy rápida de las nuevas tecnologías puede incrementar la desigualdad y debilitar la cohesión soci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enidos e interfases orientados a personas con distintos perfiles y niveles de peligro d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NOV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Co-diseñ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rientar el reconocimiento de necesidades y potenci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minuir la asimetría de la inform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dependencia para crear alianzas y rede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líderes innovadores dentro de la com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Flexibilidad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cluir…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7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clusión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i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del proceso de apropiación, es el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in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4005360"/>
            <a:ext cx="82818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novar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797360"/>
            <a:ext cx="7056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novación social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para  impulsar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cambios 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 otros ámb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1773360"/>
            <a:ext cx="7925040" cy="3743280"/>
          </a:xfrm>
          <a:prstGeom prst="rect">
            <a:avLst/>
          </a:prstGeom>
          <a:gradFill rotWithShape="0">
            <a:gsLst>
              <a:gs pos="0">
                <a:srgbClr val="474717"/>
              </a:gs>
              <a:gs pos="50000">
                <a:srgbClr val="8f8d2f"/>
              </a:gs>
              <a:gs pos="100000">
                <a:srgbClr val="4747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Tesi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que la tecnología se convierta en un instrumento par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el usuario debe pasar por un proces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ropiación tecnológ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les facilit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ova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n los usos y configuraciones de esa tecnología para mejorar sus sistemas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uscando la Inclusión Social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se está haciendo en Venezue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yectos pasados (desde 2003)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ntros de acceso a las telecomun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fabetización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ademia de software li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grama de Gerencia social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unicipio innovador. Redes de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ompañamiento de la Gestión de las comu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Garamond"/>
              </a:rPr>
              <a:t>Plan Telecomunicaciones, Informática y Servicios Postales 2007-2013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5346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Universalizar y democratizar las telecomun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crementar despliegue de infraestructura de transmisión de datos a zonas desaten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ulso a la economí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Democratizar el acceso al cono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valuar, articular esfuerzos y definir un modelo integral para maximizar el alcance de las iniciativa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Formar capital humano en uso y aplicación de las 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rtale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eriódic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ases de dat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ás de 400 Infocent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sas Técnicas de Telecomunicaciones, Informática y Servicios Postales (30 comunida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Infocentros piloto del programa Gerencia Social del Conocimien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(8 centr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: capacit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Consejos comunales recibieron taller de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comunicación popular</a:t>
            </a: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 en el Mega infocentro El Silen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odelos de educación/comunicación: educación/comunicación unidireccional y excluyente frente a la bidireccional y participativ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anejo de herramientas tecnológicas para la edición de imagen, audio y video, además de la creación de páginas Web a través de la herramienta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Generador de Por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¡Inclusión… no tan cercana!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nos falta por logr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22:56Z</dcterms:created>
  <dc:creator>SILVIA GARCIA</dc:creator>
  <dc:description/>
  <dc:language>en-US</dc:language>
  <cp:lastModifiedBy> </cp:lastModifiedBy>
  <dcterms:modified xsi:type="dcterms:W3CDTF">2008-03-23T17:32:51Z</dcterms:modified>
  <cp:revision>111</cp:revision>
  <dc:subject/>
  <dc:title> Análisis final de [Nombre del proyecto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