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E852-1F0E-457F-8993-15B3F268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F380E-87A9-438F-95FA-E2A6CC0A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D6902-1555-463D-AFE2-C0C9A1D4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CCBF-C7A0-4224-9FF7-77E8B96E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98EE5-98C7-46C3-A305-44442797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7898C-B94A-47E8-B813-C3D0B7D0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3ADA5-DF9A-401D-94D7-8DFAD560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932ED-1E8F-4991-851B-53FD6B1C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54F6B-2EF4-4B7B-B51E-35161656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7E72A-5505-4805-9BC3-1E072E1D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8D480-4641-48D6-8CC6-05EDE224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559D-2C7B-466F-BCDE-0CE3F491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9C1F2-6D72-4DDE-9617-ED441883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A7616-F3ED-4502-BD49-1BA043C3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5A963-6FA2-4E2C-889F-547BEBAC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85D06-2093-40BE-9097-B69C621A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AACCC-A6C4-4B2D-914F-7D96A9E3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76FC8-6826-43AE-8617-B5E81B4B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24C0-D095-4D1C-B808-05A9FB01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CBEE-AEF3-4A34-A00C-EB7D2FF3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DFE64-E6D2-46E5-80CA-3F9CF129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CADA5-E630-44F0-BED6-B008A820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1F167-3957-4685-B1E7-9A9C719D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D8E59-9D03-4114-95D8-9AE7177B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9772-D764-4000-8F7E-7F1C724423D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BB6B-D198-46FA-B07F-3DF4E515740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ternetworldstats.com/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6920" y="981000"/>
            <a:ext cx="7561440" cy="5473800"/>
          </a:xfrm>
          <a:prstGeom prst="rect">
            <a:avLst/>
          </a:prstGeom>
          <a:solidFill>
            <a:srgbClr val="3366cc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646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66"/>
                </a:solidFill>
                <a:latin typeface="Garamond"/>
              </a:rPr>
              <a:t>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Apropiación Tecnológica, Inclusión Social e Innovació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73640" y="4424400"/>
            <a:ext cx="49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66"/>
                </a:solidFill>
                <a:latin typeface="Garamond"/>
              </a:rPr>
              <a:t>Dra. Silvia C. García Ur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649 0.00046 L 0 3.14524E-006 E">
                                      <p:cBhvr>
                                        <p:cTn id="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62499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75000" y="5229360"/>
            <a:ext cx="3097080" cy="50472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43640" y="40464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(OECD Science, technology and Industry Scoreboard 200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115920"/>
            <a:ext cx="3889440" cy="2938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9280" y="5661000"/>
            <a:ext cx="8574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l negocio de las telecomunicaciones es el segundo más grande después del petróleo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 densidad de líneas de telecomunicaciones fijas es baja, comparada con otros países de América Latina, pero está creciendo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l mercado de banda ancha está apenas empezando y es un campo promisorio para la inversión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Latin America - Telecoms, Mobile and Broadband in Mercosur, Guyana, Suriname, Venezuela (200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381560" y="88920"/>
            <a:ext cx="4762440" cy="2476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381560" y="3184560"/>
            <a:ext cx="4762440" cy="2476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72000" y="29973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Sitios de u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63800" y="522288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Usuarios de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5680" y="2486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Computadores pers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2200" y="26748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Arial"/>
              </a:rPr>
              <a:t>(World Perspectiv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ffffff"/>
                </a:solidFill>
                <a:latin typeface="Arial"/>
              </a:rPr>
              <a:t>Université de Sherbrook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649 0.00046 L 0 3.14524E-006 E">
                                      <p:cBhvr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981000"/>
            <a:ext cx="9144000" cy="547380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80920" y="5661000"/>
            <a:ext cx="615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Fuente: Internet World Stats.  </a:t>
            </a:r>
            <a:r>
              <a:rPr b="0" lang="es-ES" sz="16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internetworldstats.com</a:t>
            </a:r>
            <a:r>
              <a:rPr b="1" lang="es-E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9720" y="404640"/>
            <a:ext cx="8325000" cy="42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Garamond"/>
              </a:rPr>
              <a:t>Uso de Internet en países de América del S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1280" y="1447920"/>
            <a:ext cx="89647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649 0.00046 L 0 3.14524E-006 E">
                                      <p:cBhvr>
                                        <p:cTn id="2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404640"/>
          <a:ext cx="8893080" cy="402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8893080" cy="40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08000" y="1154160"/>
          <a:ext cx="9036000" cy="416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1154160"/>
                    <a:ext cx="9036000" cy="41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79280" y="1989000"/>
          <a:ext cx="9145800" cy="42181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1989000"/>
                    <a:ext cx="9145800" cy="42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Estudios locales sobre Infocentro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participación de los usuarios en los Infocentros en comunidades virtuales y la participación en creación de contenidos locales es casi inexistente (Gonzalo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os Infocentros son utilizados para trabajos y actividades productivas individuales, conexión a Internet y centros de aprendizaje tecnológico (IDC/CNTI,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324640" cy="5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Difusión y Formación en Software Libr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El Programa Nacional de Formación en Sistemas de Inform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ordin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seguramiento del perfil de egr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Alfabetización 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rofund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tinu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La apropiación tecnológica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Un concepto complejo y mal entend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484280"/>
            <a:ext cx="9144000" cy="5373720"/>
          </a:xfrm>
          <a:prstGeom prst="rect">
            <a:avLst/>
          </a:prstGeom>
          <a:solidFill>
            <a:srgbClr val="ccffff">
              <a:alpha val="68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04000" y="2709720"/>
            <a:ext cx="2160720" cy="57636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3932280"/>
            <a:ext cx="1800360" cy="720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00" y="2925720"/>
            <a:ext cx="1511280" cy="5270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1773360"/>
            <a:ext cx="2160720" cy="50328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3645000"/>
            <a:ext cx="1728720" cy="57600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08360" y="5083200"/>
            <a:ext cx="863640" cy="43164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12000" y="5013360"/>
            <a:ext cx="1512720" cy="5047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5877000"/>
            <a:ext cx="172908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40720" y="5877000"/>
            <a:ext cx="86364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360" y="1989000"/>
            <a:ext cx="1979640" cy="8636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La apropiación es un proceso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251640" y="2060640"/>
            <a:ext cx="180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ide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us prác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2800" y="3951360"/>
            <a:ext cx="148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valú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s nue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2520" y="29923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do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77600" y="37180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prop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33240" y="181944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No Aprop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67760" y="51800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U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5240" y="50641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INNOV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77720" y="5908680"/>
            <a:ext cx="174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uev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onfigur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71240" y="590868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Nuev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u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307400">
            <a:off x="4959000" y="3642840"/>
            <a:ext cx="936720" cy="162000"/>
          </a:xfrm>
          <a:custGeom>
            <a:avLst/>
            <a:gdLst>
              <a:gd name="textAreaLeft" fmla="*/ 146160 w 936720"/>
              <a:gd name="textAreaRight" fmla="*/ 819720 w 936720"/>
              <a:gd name="textAreaTop" fmla="*/ 40320 h 162000"/>
              <a:gd name="textAreaBottom" fmla="*/ 121680 h 16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584200">
            <a:off x="2225160" y="3644640"/>
            <a:ext cx="1081080" cy="2048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51120 h 204840"/>
              <a:gd name="textAreaBottom" fmla="*/ 153720 h 204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9423800">
            <a:off x="5094360" y="2479320"/>
            <a:ext cx="863640" cy="222120"/>
          </a:xfrm>
          <a:custGeom>
            <a:avLst/>
            <a:gdLst>
              <a:gd name="textAreaLeft" fmla="*/ 135000 w 863640"/>
              <a:gd name="textAreaRight" fmla="*/ 756000 w 863640"/>
              <a:gd name="textAreaTop" fmla="*/ 55440 h 222120"/>
              <a:gd name="textAreaBottom" fmla="*/ 166680 h 22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646920" y="3249720"/>
            <a:ext cx="863640" cy="215640"/>
          </a:xfrm>
          <a:prstGeom prst="leftRightArrow">
            <a:avLst>
              <a:gd name="adj1" fmla="val 50000"/>
              <a:gd name="adj2" fmla="val 79729"/>
            </a:avLst>
          </a:pr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3500280"/>
            <a:ext cx="0" cy="15112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48360" y="4221000"/>
            <a:ext cx="0" cy="72072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69080" y="5589720"/>
            <a:ext cx="287640" cy="21564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866920" y="5518080"/>
            <a:ext cx="289080" cy="2872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9520" y="6200640"/>
            <a:ext cx="1422720" cy="3988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Rounded MT Bold"/>
              </a:rPr>
              <a:t>Co-dise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6308640"/>
            <a:ext cx="79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3640" y="276084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s-apropi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8981000">
            <a:off x="8069400" y="3570120"/>
            <a:ext cx="1085760" cy="301680"/>
          </a:xfrm>
          <a:custGeom>
            <a:avLst/>
            <a:gdLst>
              <a:gd name="textAreaLeft" fmla="*/ 189720 w 1085760"/>
              <a:gd name="textAreaRight" fmla="*/ 787320 w 1085760"/>
              <a:gd name="textAreaTop" fmla="*/ 40320 h 301680"/>
              <a:gd name="textAreaBottom" fmla="*/ 26136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5302080"/>
            <a:ext cx="18734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99640" y="542448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DES-ADOP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4653000"/>
            <a:ext cx="0" cy="57636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90640" y="1990800"/>
            <a:ext cx="1881360" cy="5032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84240" y="20368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No Adop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8728400">
            <a:off x="1879200" y="3035160"/>
            <a:ext cx="1416240" cy="228600"/>
          </a:xfrm>
          <a:custGeom>
            <a:avLst/>
            <a:gdLst>
              <a:gd name="textAreaLeft" fmla="*/ 221040 w 1416240"/>
              <a:gd name="textAreaRight" fmla="*/ 1239480 w 14162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6649 0.00046 L 0 3.14524E-006 E">
                                      <p:cBhvr>
                                        <p:cTn id="4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993080" cy="541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Teoría de uso de las TIC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6" name=""/>
          <p:cNvSpPr/>
          <p:nvPr/>
        </p:nvSpPr>
        <p:spPr>
          <a:xfrm>
            <a:off x="6364440" y="6437160"/>
            <a:ext cx="22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"/>
              </a:rPr>
              <a:t>(Venkatesh y otros, 200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16000" y="1700280"/>
            <a:ext cx="7416720" cy="4541400"/>
            <a:chOff x="1116000" y="1700280"/>
            <a:chExt cx="7416720" cy="4541400"/>
          </a:xfrm>
        </p:grpSpPr>
        <p:sp>
          <p:nvSpPr>
            <p:cNvPr id="188" name=""/>
            <p:cNvSpPr/>
            <p:nvPr/>
          </p:nvSpPr>
          <p:spPr>
            <a:xfrm>
              <a:off x="7669080" y="3068640"/>
              <a:ext cx="8636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3366"/>
                  </a:solidFill>
                  <a:latin typeface="Arial"/>
                </a:rPr>
                <a:t>Us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64000" y="2924280"/>
              <a:ext cx="10796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3366"/>
                  </a:solidFill>
                  <a:latin typeface="Arial"/>
                </a:rPr>
                <a:t>Intención</a:t>
              </a: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de u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56360" y="5661000"/>
              <a:ext cx="11001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Voluntad de u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88000" y="5661000"/>
              <a:ext cx="10792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Experien-c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92360" y="5805360"/>
              <a:ext cx="7178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E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79640" y="5805360"/>
              <a:ext cx="946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Géner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41280" y="1700280"/>
              <a:ext cx="10270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Expecta-tiv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87280" y="2492280"/>
              <a:ext cx="108612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Esfuer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16000" y="3357720"/>
              <a:ext cx="11732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Influencia soci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8920" y="4221000"/>
              <a:ext cx="955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3366"/>
                  </a:solidFill>
                  <a:latin typeface="Arial"/>
                </a:rPr>
                <a:t>Facili-dad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¿En qué fallamos?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as allá de las diferencias de sexo, edad, educación y origen social, los usuarios no son igu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o todos los casos pueden considerarse exclu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 considera que la adopción de una tecnología implica su apropi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42920" y="1700280"/>
            <a:ext cx="7925040" cy="46814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0000d6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66"/>
                </a:solidFill>
                <a:latin typeface="Times New Roman"/>
              </a:rPr>
              <a:t>De qué se trata</a:t>
            </a:r>
            <a:endParaRPr b="0" lang="en-US" sz="42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1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ontribuir a la discusión sobre cómo las TIC pueden promov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apropiación de las tecnología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por parte de las comunidades y con el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16000" y="3860280"/>
            <a:ext cx="7772400" cy="2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2" marL="1131480" indent="-226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inclusión social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de comunidades excluidas del goce de los beneficios que brinda la 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innovación social y tecnológica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en ámbitos comunitari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c66"/>
                </a:solidFill>
                <a:latin typeface="Garamond"/>
              </a:rPr>
              <a:t>No usar la tecnología no es siempre implica exclusión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uando el usuario no adopta puede ser porq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siste la tecnología (no la conocen y no les intere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chaza la tecnología (la conocen y la abandon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 excluido (no han tenido oportunidad de conocer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s expulsado (han tenido que dejar de usar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52920" y="625644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Wyatt, 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e-Inclus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4" name=""/>
          <p:cNvSpPr/>
          <p:nvPr/>
        </p:nvSpPr>
        <p:spPr>
          <a:xfrm>
            <a:off x="1620360" y="26719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Exclu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81440" y="2637000"/>
            <a:ext cx="12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Inclu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17840" y="5013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Brecha dig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74160" y="5950080"/>
            <a:ext cx="220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Moura y Castillo, 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71640" y="3141720"/>
            <a:ext cx="4392720" cy="1752480"/>
          </a:xfrm>
          <a:custGeom>
            <a:avLst/>
            <a:gdLst/>
            <a:ahLst/>
            <a:rect l="l" t="t" r="r" b="b"/>
            <a:pathLst>
              <a:path w="2767" h="1104">
                <a:moveTo>
                  <a:pt x="0" y="46"/>
                </a:moveTo>
                <a:cubicBezTo>
                  <a:pt x="41" y="155"/>
                  <a:pt x="83" y="265"/>
                  <a:pt x="136" y="363"/>
                </a:cubicBezTo>
                <a:cubicBezTo>
                  <a:pt x="189" y="461"/>
                  <a:pt x="235" y="544"/>
                  <a:pt x="318" y="635"/>
                </a:cubicBezTo>
                <a:cubicBezTo>
                  <a:pt x="401" y="726"/>
                  <a:pt x="529" y="839"/>
                  <a:pt x="635" y="907"/>
                </a:cubicBezTo>
                <a:cubicBezTo>
                  <a:pt x="741" y="975"/>
                  <a:pt x="817" y="1014"/>
                  <a:pt x="953" y="1044"/>
                </a:cubicBezTo>
                <a:cubicBezTo>
                  <a:pt x="1089" y="1074"/>
                  <a:pt x="1293" y="1089"/>
                  <a:pt x="1452" y="1089"/>
                </a:cubicBezTo>
                <a:cubicBezTo>
                  <a:pt x="1611" y="1089"/>
                  <a:pt x="1814" y="1104"/>
                  <a:pt x="1905" y="1044"/>
                </a:cubicBezTo>
                <a:cubicBezTo>
                  <a:pt x="1996" y="984"/>
                  <a:pt x="1943" y="794"/>
                  <a:pt x="1996" y="726"/>
                </a:cubicBezTo>
                <a:cubicBezTo>
                  <a:pt x="2049" y="658"/>
                  <a:pt x="2170" y="696"/>
                  <a:pt x="2223" y="635"/>
                </a:cubicBezTo>
                <a:cubicBezTo>
                  <a:pt x="2276" y="574"/>
                  <a:pt x="2260" y="424"/>
                  <a:pt x="2313" y="363"/>
                </a:cubicBezTo>
                <a:cubicBezTo>
                  <a:pt x="2366" y="302"/>
                  <a:pt x="2494" y="325"/>
                  <a:pt x="2540" y="272"/>
                </a:cubicBezTo>
                <a:cubicBezTo>
                  <a:pt x="2586" y="219"/>
                  <a:pt x="2548" y="91"/>
                  <a:pt x="2586" y="46"/>
                </a:cubicBezTo>
                <a:cubicBezTo>
                  <a:pt x="2624" y="1"/>
                  <a:pt x="2737" y="15"/>
                  <a:pt x="2767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6160" y="402444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Conectiv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7080" y="3448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Accessibilidad y us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18920" y="292428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Inteligi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34560" y="5329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(metáfor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Barreras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Institucionales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Acceso,  facilidad de uso, contenido inteligible, potencialidad, opción a co-constru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Personales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necesidad de cambio, posibilidades físicas, cognitivas y sensorial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Situacionales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contenidos, tecnologías y métodos adecuados a los estilos de vida prop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En síntesis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Se puede estar promoviendo 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no-apropiación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 y, en el peor de los casos la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Arial"/>
              </a:rPr>
              <a:t>no-adopción</a:t>
            </a: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 y reproducción de la exclu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692360" y="19162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¿Cómo facilitar la apropiación e innovació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4581360"/>
            <a:ext cx="8325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cc66"/>
                </a:solidFill>
                <a:latin typeface="Garamond"/>
              </a:rPr>
              <a:t>En este momento, necesitamos nuevas formas de pensar aún más que nuevas tecnologí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omover la necesidad del camb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fatizar la formación crítico-reflex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rabajar contenidos y prácticas cercanos a la realidad de las comun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omover mecanismos informales de aprendizaje y ambientes para el diá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eder espacios para que todos tengan garantizado su derecho a expresa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mover la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APROPIAC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mover la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APROPIAC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sarrollar competencias para aprovechar la tecnologí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solver problemas, gestionar y aplicar solucio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struir conexiones inter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teractuar con redes externas: superar lo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mover la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INCLUS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n las regiones con una gran heterogeneidad cultural y socioeconómica, la difusión muy rápida de las nuevas tecnologías puede incrementar la desigualdad y debilitar la cohesión social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tenidos e interfases orientados a personas con distintos perfiles y niveles de peligro de exclu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mover la </a:t>
            </a: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INNOVAC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Co-diseñ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rientar el reconocimiento de necesidades y potencial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isminuir la asimetría de la inform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dependencia para crear alianzas y redes de innov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sarrollar líderes innovadores dentro de la comun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Arial"/>
              </a:rPr>
              <a:t>Flexibilidad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cc66"/>
                </a:solidFill>
                <a:latin typeface="Garamond"/>
              </a:rPr>
              <a:t>Incluir…</a:t>
            </a:r>
            <a:endParaRPr b="0" lang="en-US" sz="5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728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4000" spc="-1" strike="noStrike">
                <a:solidFill>
                  <a:srgbClr val="ffcc66"/>
                </a:solidFill>
                <a:latin typeface="Arial"/>
              </a:rPr>
              <a:t>inclusión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4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es el </a:t>
            </a:r>
            <a:r>
              <a:rPr b="0" i="1" lang="es-MX" sz="4000" spc="-1" strike="noStrike" u="sng">
                <a:solidFill>
                  <a:srgbClr val="ffffff"/>
                </a:solidFill>
                <a:uFillTx/>
                <a:latin typeface="Arial"/>
              </a:rPr>
              <a:t>resultado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del proceso de apropiación, es el </a:t>
            </a:r>
            <a:r>
              <a:rPr b="1" lang="es-MX" sz="4000" spc="-1" strike="noStrike" u="sng">
                <a:solidFill>
                  <a:srgbClr val="ffcc66"/>
                </a:solidFill>
                <a:uFillTx/>
                <a:latin typeface="Arial"/>
              </a:rPr>
              <a:t>inic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8200" y="4005360"/>
            <a:ext cx="828180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cc66"/>
                </a:solidFill>
                <a:latin typeface="Garamond"/>
              </a:rPr>
              <a:t>Innovar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4797360"/>
            <a:ext cx="70563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s-MX" sz="4000" spc="-1" strike="noStrike">
                <a:solidFill>
                  <a:srgbClr val="ffcc66"/>
                </a:solidFill>
                <a:latin typeface="Arial"/>
              </a:rPr>
              <a:t>innovación social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es el </a:t>
            </a:r>
            <a:r>
              <a:rPr b="0" lang="es-MX" sz="4000" spc="-1" strike="noStrike" u="sng">
                <a:solidFill>
                  <a:srgbClr val="ffffff"/>
                </a:solidFill>
                <a:uFillTx/>
                <a:latin typeface="Arial"/>
              </a:rPr>
              <a:t>motor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para  impulsar </a:t>
            </a:r>
            <a:r>
              <a:rPr b="1" lang="es-MX" sz="4000" spc="-1" strike="noStrike" u="sng">
                <a:solidFill>
                  <a:srgbClr val="ffcc66"/>
                </a:solidFill>
                <a:uFillTx/>
                <a:latin typeface="Arial"/>
              </a:rPr>
              <a:t>cambios 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n otros ámbi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42920" y="1773360"/>
            <a:ext cx="7925040" cy="3743280"/>
          </a:xfrm>
          <a:prstGeom prst="rect">
            <a:avLst/>
          </a:prstGeom>
          <a:gradFill rotWithShape="0">
            <a:gsLst>
              <a:gs pos="0">
                <a:srgbClr val="474717"/>
              </a:gs>
              <a:gs pos="50000">
                <a:srgbClr val="8f8d2f"/>
              </a:gs>
              <a:gs pos="100000">
                <a:srgbClr val="4747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66"/>
                </a:solidFill>
                <a:latin typeface="Garamond"/>
              </a:rPr>
              <a:t>Tesi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351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 que la tecnología se convierta en un instrumento par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clusión soci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el usuario debe pasar por un proceso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propiación tecnológic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que les facilit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nova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n los usos y configuraciones de esa tecnología para mejorar sus sistemas de vi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Buscando la Inclusión Social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¿Qué se está haciendo en Venezuel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Proyectos pasados (desde 2003)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entros de acceso a las telecomun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lfabetización dig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ormación en lí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cademia de software lib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rograma de Gerencia social del cono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unicipio innovador. Redes de innov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compañamiento de la Gestión de las comun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cc66"/>
                </a:solidFill>
                <a:latin typeface="Garamond"/>
              </a:rPr>
              <a:t>Plan Telecomunicaciones, Informática y Servicios Postales 2007-2013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1534680"/>
            <a:ext cx="7772400" cy="21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Universalizar y democratizar las telecomunicaci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40080" indent="-127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ncrementar despliegue de infraestructura de transmisión de datos a zonas desatend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40080" indent="-127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mpulso a la economía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Democratizar el acceso al cono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40080" indent="-127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valuar, articular esfuerzos y definir un modelo integral para maximizar el alcance de las iniciativas del Es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Formar capital humano en uso y aplicación de las 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40080" indent="-127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ormación en lí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Algunos ejemplo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ortales comu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eriódicos comu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ases de datos comu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ás de 400 Infocentr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esas Técnicas de Telecomunicaciones, Informática y Servicios Postales (30 comunida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Infocentros piloto del programa Gerencia Social del Conocimient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(8 centr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Garamond"/>
              </a:rPr>
              <a:t>Algunos ejemplos: capacitación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Consejos comunales recibieron taller de </a:t>
            </a:r>
            <a:r>
              <a:rPr b="0" lang="es-VE" sz="2800" spc="-1" strike="noStrike" u="sng">
                <a:solidFill>
                  <a:srgbClr val="ffffff"/>
                </a:solidFill>
                <a:uFillTx/>
                <a:latin typeface="Arial"/>
              </a:rPr>
              <a:t>comunicación popular</a:t>
            </a: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 en el Mega infocentro El Silen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modelos de educación/comunicación: educación/comunicación unidireccional y excluyente frente a la bidireccional y participativa.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manejo de herramientas tecnológicas para la edición de imagen, audio y video, además de la creación de páginas Web a través de la herramienta </a:t>
            </a:r>
            <a:r>
              <a:rPr b="0" lang="es-VE" sz="2800" spc="-1" strike="noStrike" u="sng">
                <a:solidFill>
                  <a:srgbClr val="ffffff"/>
                </a:solidFill>
                <a:uFillTx/>
                <a:latin typeface="Arial"/>
              </a:rPr>
              <a:t>Generador de Portal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cc66"/>
                </a:solidFill>
                <a:latin typeface="Garamond"/>
              </a:rPr>
              <a:t>¡Inclusión… no tan cercana!</a:t>
            </a:r>
            <a:endParaRPr b="0" lang="en-US" sz="4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¿Qué nos falta por logra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8:22:56Z</dcterms:created>
  <dc:creator>SILVIA GARCIA</dc:creator>
  <dc:description/>
  <dc:language>en-US</dc:language>
  <cp:lastModifiedBy> </cp:lastModifiedBy>
  <dcterms:modified xsi:type="dcterms:W3CDTF">2008-03-23T17:32:51Z</dcterms:modified>
  <cp:revision>111</cp:revision>
  <dc:subject/>
  <dc:title> Análisis final de [Nombre del proyecto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